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2269-FA2B-4AB0-903D-0B10894C0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7778-B2FB-44DB-8597-D161166DD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CE00-208C-4F3F-8EC3-FFB20CA19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EB72-4447-4344-88D8-FEDFE532F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CD4-ECC3-4DE6-83D0-A48E501B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64C-1CA3-4BDB-A7FD-4F4957F4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969C-0D79-468E-8B5F-911322E5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664-F4B4-404A-B8ED-8198666E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7844-4D1F-43C6-9898-F729C3D9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ED52-87A0-41FD-94F4-2CD7A31C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730B-83A2-4CFC-A3B9-40E3445F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607-D568-41AB-82AE-B22A6F89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0E5-FDD1-4F4F-871C-8AE30E2F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484-EDD8-41E4-A1BA-236A5FC4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0E8-51D4-4567-866F-02AAFAAB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F04-F8FB-45BF-AD23-BCFB0909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AA06-550B-4E1D-B418-E0E2E74A3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wlearn.net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International Wa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762120" y="3809880"/>
            <a:ext cx="7467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1: Catalyze multi-state cooperation to balance conflicting water uses in transboundary surface and groundwater basins while considering climatic variability and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development and implementation of regional policies and measures identified in agreed SA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4800600" y="1981080"/>
          <a:ext cx="380988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80988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talyze multi-state cooperation to rebuild marine fisheries and reduce pollution of coasts and Large Marine Ecosystems while considering climatic variability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ation of SAPs with reforms and investments that produce results - policy, legal, institutio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rms and multi-agency strategic partnershi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380880" y="1981080"/>
          <a:ext cx="42274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42274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3:  Support foundational capacity building, portfolio learning, and targeted research needs for joint, ecosystem-based management of trans-boundary water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inter-ministry committees would contribute to development of SAP, to establish or strengthen institutions for multi-state, collective management and subsequent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Object 3"/>
          <p:cNvGraphicFramePr/>
          <p:nvPr/>
        </p:nvGraphicFramePr>
        <p:xfrm>
          <a:off x="4572000" y="1905120"/>
          <a:ext cx="4191120" cy="33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911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4: Promote  effective management of Marine Areas Beyond National Jurisdiction (ABNJ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nd test technology and management arrangements for both pelagic and deep-sea environments and seamounts or help reduce tuna/other by-cat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457200" y="1828800"/>
          <a:ext cx="41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41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0" y="2590920"/>
            <a:ext cx="493092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IW Ecosystem-Based Approach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nagement at Multiple 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296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 Marine Ecosystem 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outh China Sea LME-UN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astal Municipality/Provincial ICM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Da Nang, Vietnam - UNDP PEMSE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ver Basin Linkage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       (GPA Mekong River Basin/delta - World Bank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 Community-based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mo Si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Phu Quoc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Fish Refugia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Vietnam- UN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nitoring &amp; Evaluation Indicators to Track Results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of Transboundary Water Projec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82844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rocess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Adoption of agreed processes &amp; reforms regionally and nationally for particular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tress Reduction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Implementation of on-the-ground measures leading to reduced str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Environmental/Water Resources Status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Actual improvement in water resources/water environment/socio-economic condi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rtfolio learning, experience sharing, KM (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wlearn.ne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0" y="838080"/>
            <a:ext cx="1811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wb350798</cp:lastModifiedBy>
  <dcterms:modified xsi:type="dcterms:W3CDTF">2011-11-01T18:16:03Z</dcterms:modified>
  <cp:revision>24</cp:revision>
  <dc:subject/>
  <dc:title>Focal Area and Cross Cutting Strategies – International Waters</dc:title>
</cp:coreProperties>
</file>