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F9C9-0AEA-4ADE-A907-E015B145C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1ECD-2C1E-4063-8ED1-9CC1C1AE8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2266-B068-4BDB-9424-FE1659232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06BF-85C0-4A67-BC4B-F49830CCB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ABB-FC17-449C-8400-AFC3FC9F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696A-F776-4460-B10B-5B89CB68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B90-6F68-4F72-B9BA-FD401A98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4D4-764F-44DF-84FF-52D8D3DC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7C4-BFDD-4D5B-94B2-1D03B6FB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0C16-C3BF-41B3-98B7-8A16B460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57B9-9237-48AA-A7B5-5CBC8533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4C65-777A-4615-AE67-E8449F0F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4610-2AD1-4720-BB47-18FD1BCB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081-F7D5-46D5-8769-FAEFA300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D642-B126-4934-A61F-CEE66093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2916-374D-4BDB-81AE-947E6FE0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C125-A49E-4C66-B5B8-33D6B78B7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wlearn.net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International Wa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762120" y="3809880"/>
            <a:ext cx="7467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1: Catalyze multi-state cooperation to balance conflicting water uses in transboundary surface and groundwater basins while considering climatic variability and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development and implementation of regional policies and measures identified in agreed SA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4800600" y="1981080"/>
          <a:ext cx="380988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80988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talyze multi-state cooperation to rebuild marine fisheries and reduce pollution of coasts and Large Marine Ecosystems while considering climatic variability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ation of SAPs with reforms and investments that produce results - policy, legal, institutio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rms and multi-agency strategic partnershi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380880" y="1981080"/>
          <a:ext cx="42274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42274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3:  Support foundational capacity building, portfolio learning, and targeted research needs for joint, ecosystem-based management of trans-boundary water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inter-ministry committees would contribute to development of SAP, to establish or strengthen institutions for multi-state, collective management and subsequent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Object 3"/>
          <p:cNvGraphicFramePr/>
          <p:nvPr/>
        </p:nvGraphicFramePr>
        <p:xfrm>
          <a:off x="4572000" y="1905120"/>
          <a:ext cx="4191120" cy="33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911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4: Promote  effective management of Marine Areas Beyond National Jurisdiction (ABNJ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nd test technology and management arrangements for both pelagic and deep-sea environments and seamounts or help reduce tuna/other by-cat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457200" y="1828800"/>
          <a:ext cx="41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41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0" y="2590920"/>
            <a:ext cx="493092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IW Ecosystem-Based Approach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nagement at Multiple 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296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 Marine Ecosystem 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outh China Sea LME-UN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astal Municipality/Provincial ICM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Da Nang, Vietnam - UNDP PEMSE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ver Basin Linkage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       (GPA Mekong River Basin/delta - World Bank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 Community-based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mo Si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Phu Quoc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Fish Refugia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Vietnam- UN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nitoring &amp; Evaluation Indicators to Track Results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of Transboundary Water Projec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82844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rocess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Adoption of agreed processes &amp; reforms regionally and nationally for particular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tress Reduction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Implementation of on-the-ground measures leading to reduced str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Environmental/Water Resources Status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Actual improvement in water resources/water environment/socio-economic condi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rtfolio learning, experience sharing, KM (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wlearn.ne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0" y="838080"/>
            <a:ext cx="1811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wb350798</cp:lastModifiedBy>
  <dcterms:modified xsi:type="dcterms:W3CDTF">2011-11-01T18:16:03Z</dcterms:modified>
  <cp:revision>24</cp:revision>
  <dc:subject/>
  <dc:title>Focal Area and Cross Cutting Strategies – International Waters</dc:title>
</cp:coreProperties>
</file>