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912-BC05-4F98-8385-04A0D943B4D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CDB-AE38-4D27-82D6-D2699B4147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721-46CF-4968-8227-7CC57E4A67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B691-A0D0-4D53-ACC0-AD83AD2BCB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49A-E00D-4C1F-94A5-9E77F4546D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D12-6D4C-4F1F-B593-0E23EF5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498-59F3-4DCA-8070-32EAAC4D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42F-6084-4793-8A9A-2F7C156D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EEA-C52D-4307-A724-6D5437B6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6DC-3C62-44FB-85F4-BDFD172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B65-6FA7-4AD3-B4E5-00C61649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254-8EDD-43EA-9D30-BC87AE2C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46D-BA1E-4BDF-9F06-0AC3E28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401-EEE6-4579-A7F1-1A181E04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6ED-55C7-4688-A695-2C7B984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5E9-A053-4A33-AED0-D3FCF41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013-926E-4208-BAC4-5BE3FA0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1F8C-1645-43B3-94CF-DE3BB7357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8862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20:39:20Z</dcterms:modified>
  <cp:revision>23</cp:revision>
  <dc:subject/>
  <dc:title>Focal Area and Cross Cutting Strategies – International Waters</dc:title>
</cp:coreProperties>
</file>