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A27E-BB2F-4D0A-8A21-1D099D23841E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22E-0B84-497A-918C-5F4737C153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A7DC-68E4-4764-9480-6BBE6F873D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DB5-D26E-4875-891D-03D38A95F4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F60-4DE9-4A7B-A0F1-8DCF1F202C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5E1-6DF3-4EBC-9F22-0E07591A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50C-26C9-4ACF-8315-67562B7E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C1F-C051-48AF-AFC3-3A972719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9EC-80AB-46E3-8D86-4CB86E6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EB9-41AD-41EB-9BAB-8DD33FC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F52-0B7B-4CD4-A0D4-FBFAF4AA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47A-2224-4E14-BDD9-645C8708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A00-9847-459B-8083-323EC43C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6E7-D19E-4ED6-9EEE-8EA6051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605-E815-4D66-B679-DBACF62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AE7-7B41-43C1-A078-23034CB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30-624C-47B4-A424-447CA5F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89E-68DB-4FAA-817F-EA82A1F29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8862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20:39:20Z</dcterms:modified>
  <cp:revision>23</cp:revision>
  <dc:subject/>
  <dc:title>Focal Area and Cross Cutting Strategies – International Waters</dc:title>
</cp:coreProperties>
</file>