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5672-7146-4CC8-9BFA-2C72DAED1784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8833-078C-446A-8C5A-374B36027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FD5B-464E-4C66-AAFC-06D401DB5D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14B-78E0-474B-B83F-F543A0F8D4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0EE-79A7-4963-8E7A-220209C19B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189-14A3-427C-B9E1-E74EE8E1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6BD-FF0F-44FA-A246-82D67700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2BB-932E-426C-BE35-06ADA239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00D-AFA8-481A-B571-2D6A9132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3DBD-7E1F-4714-B25B-026A78E4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F8B-2C18-4BB1-9BBE-2C6DA744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BAE6-BA59-4690-8337-5C73B088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8F10-C46E-4E6A-9F85-2FF1E2DA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0427-3436-4F5F-8B2E-3B3097D2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72BF-5071-4D59-8FCF-1B6D2492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C39F-99A6-413D-B0D1-CE2BB6A1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2BF-753A-4E5F-82E5-48CC41F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1761-02D3-4FB8-B37E-B0C0834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6C0-F74C-46E8-8F62-BA83421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5324-0C0C-468B-80C1-EEA107DC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35F2-7065-46F9-9079-CD6FBA62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A53E-D232-41E8-B1BE-ABB56234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B9B7-A7CE-4799-BA82-1C64C352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2871-51B3-446B-8B16-DE4F578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6006-AA1F-49F3-A71D-75834B1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4D0B-9C9D-42D9-B0E5-F806D1C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E43A-A2FB-4EA3-9C0B-625A236E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27F-CD01-4BD0-8CF0-5DDA176F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B50E-291A-4B6F-BFFF-94553CD5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8690-9923-499E-A6A8-43AB7BD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F9CA-DAA3-4223-9D85-BBB4C34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3758-F76E-4845-9F00-A9988357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4433-003A-44ED-A2C4-74C40385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A313-AF5F-437E-B2DE-75008AC0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EC12-2C9F-4A2B-BCEA-12F46693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18EB-D234-4BBE-B5DB-95679E77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B3D4-3A11-4CE9-80C0-371B35A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0D3B-088E-4814-A241-5BA594E1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556-BA3B-4D8C-A116-E665C5EA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7A23-733E-4D59-84C4-C32CCE6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BE44-E3BA-40A5-A6DF-5254CBF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D9C5-B31B-42F8-BEDA-47395EE1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1E39-3BFD-49A4-A22D-13300CB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A147-9776-4E14-8DF5-012EAF9A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ED1D-10D8-4DCC-8822-5547043A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3BB0-067D-4B61-AD32-961F9067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B485-14EF-4B87-A549-FAE3A6EE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E374-BF52-48AD-B503-835CB650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D6E24-EEEB-4B5A-8431-58335242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82D-B143-4CF0-A1B2-6932449C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CFB36-E4DD-481B-AB55-72E1B0E4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0C632-8C51-4DF6-80D3-7448A905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A3814-6AE4-4F4A-B774-77DC023E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84332-0037-4CF9-9C3E-EF8EF12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3CB5-7D15-4C3E-8A00-1F165888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92D5A-9E98-4EF0-8D1F-FC3F5D6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F8E2-95B0-4E54-A3F0-2DC3230D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8B51-5D01-4B80-9F72-32765BC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A9D8-EB80-4C0A-9139-08BAB4A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E7FD-C96F-413D-B703-40223E21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2B6-5C4D-4A91-BE0E-02465B3E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215CF-9608-4D5A-B667-234CBBAE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896-0952-4493-A3D6-D9A2A8AB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636-5E8A-45A7-A733-0058D08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CE4-618B-4BAE-A3A6-E91565C5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0409-1942-448E-805A-C5ADAA1E0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9C1-23DF-456D-8213-E98D3E84B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32F-7614-45C9-94BF-A5B81A6CF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69C-AB64-4E06-95CD-6372B3A8C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183-8F52-42E5-8EC0-15F2696F4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5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7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rcRect l="0" t="-8806" r="0" b="8819"/>
          <a:stretch/>
        </p:blipFill>
        <p:spPr>
          <a:xfrm>
            <a:off x="-533520" y="1447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GPA Mekong River Basin/delta - World Bank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Demo 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20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476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2:18:31Z</dcterms:modified>
  <cp:revision>29</cp:revision>
  <dc:subject/>
  <dc:title>Focal Area and Cross Cutting Strategies – International Waters</dc:title>
</cp:coreProperties>
</file>