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777-FF68-4CBE-9BD3-4589CA85908E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D81A-1C6A-4F86-B177-6CD567517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BE23-BC9A-40E9-B991-23D5918F50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EDBF-ED9D-42FA-8BE5-3621E4B0069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8869-1AD0-4034-B759-3C95117951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71C-CE7B-46FE-9EF3-B26E85DE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8AD-565B-4007-9987-A648CAD3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F72-90D6-43C5-957C-7A38C67F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DC9-558B-449B-B300-5A3AB1D1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F79F-658F-4434-AFF7-93B48AE8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6A21-3840-40C7-91B1-5E9F5FF3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AF11-C7D9-42AD-BBA5-0FE589B0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E1D1-C097-4D26-967B-20DF1EC4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34EF-F8B9-4558-9EC7-666F5A58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1B3-B036-47A3-9E6E-CF0F22F6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C6F3-DF53-4C83-A9B2-E511B61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7B4-080F-45C6-9E23-0DBF1546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5571-83D2-4233-8810-8B313DEA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6F1-5A30-413A-A036-35FD6002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152-2A13-4DFB-AFE7-7999503A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8363-56C0-49E7-B652-EDC81C59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0538-347C-46CF-9CA7-F2703AA2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0A60-FAAF-417E-965E-A9BCA4A1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9E61-5E21-4D3A-8BCC-6371CDF4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8E3C-2652-486A-809B-E95F21E4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2705-292B-44A6-B15E-1A118367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9E49-9F5F-43D5-9A1F-5A2CFB8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F0C-66D8-44F0-8799-304BFB68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42A3-83BB-43EA-8960-9D0C5191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45B5-3B30-4CD3-848D-C139982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F003-0292-4D60-BA8E-1DEC55F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6A01-B9D6-46C2-94C5-0BB0C40A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4919-0B5C-465E-9D5F-F78ABC7F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6C7E-4286-413D-8505-40C00A60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DD33-CD4B-4D1D-8845-6E27B86C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1260-A754-4258-8823-7B032B37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E207-840F-4D77-BE4A-DF098799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219B-0B23-46E1-85B6-86B675B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569-91A6-41CC-BF25-02E94C2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9FDF-F14C-4887-A549-986827F5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847E-598F-429D-A837-C377ACF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156D2-1C84-4F22-95C6-8EEE726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2D7FB-7081-4A0C-B79C-991BCD6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34E8-8962-492A-AEBF-34634DF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93D3-F1C8-4997-878E-507ECD0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FAEC-81EB-456D-B47F-70426E9C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066A-D37F-4942-997A-ED4FDFEB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CA01-7961-41C9-8F01-1F884BF8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C4657-2267-4AC3-BFC4-90658F48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D4B-7AA8-4C7D-B39D-11E3B02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C80CC-F76A-422C-9EA2-695B45F0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AE64-FB5C-4FDE-8329-647583D2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7B10-1D79-4A9E-882D-2129CFCC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8965-B9F5-4B9C-B6DC-F4AB88C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4821-460C-470B-9286-CF08686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528B-DD1F-427D-B752-E620BD0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6DAA-6B56-451A-9701-980CDF7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48CC-FD5D-4F98-85A9-D2B664A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D26F-F007-448F-8125-2A95B454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12FF-7F5B-43E0-BDCC-A657C77A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E98-FDD8-4770-A009-E1397FCA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3927-A1C7-4E7C-B2F4-AD1186C3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001-E561-43C9-96D0-B657892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335-093A-486D-8B77-26918B6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CA7-8E05-480F-B502-90295C3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E924-BCCB-43BB-AF74-5B6322862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66F-9545-4165-9622-8414E3E60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C612-99F5-4A65-B6A1-DC8E8C1C3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571F-8996-4C3D-A7EA-C708001E3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1307-E48D-42AC-BC9C-DA611C38C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7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-8806" r="0" b="8819"/>
          <a:stretch/>
        </p:blipFill>
        <p:spPr>
          <a:xfrm>
            <a:off x="-533520" y="1447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GPA Mekong River Basin/delta - World Bank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Demo 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20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476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2:18:31Z</dcterms:modified>
  <cp:revision>29</cp:revision>
  <dc:subject/>
  <dc:title>Focal Area and Cross Cutting Strategies – International Waters</dc:title>
</cp:coreProperties>
</file>