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1D30-427A-42C7-ACD4-B154FF8239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tic variability and change explicitly included for freshwater basins and LMEs and their coa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quifers/groundwater explicitly included for true integrated water resources management (100 x wa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M Critical in all marine projects for climatic vari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148B-FA4E-49A3-8B7E-DDD270161F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Date Placeholder 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essive funding provided to countries adopting progressive commitments to joint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, foundational capacity building projects- build trust &amp; confidence, undertake joint fact-finding, make commit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-up projects &amp; programs to help implement  joint commitments to national/local reforms and investments and support for waterbody-based adaptive management institutions for IWRM in basins and ICM at coas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8834-58B9-4D60-9DB9-E563A5AE0F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ate Placeholder 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371F-1160-47DF-A78E-5C2E10802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2C38-0219-4FCE-9F07-63A0D727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DBB4-ACC1-4A3E-9656-57B2D9CC6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5F39-7353-4628-872C-5E2A2D916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89AB4-C56B-4B83-9507-D0DAD7D8C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C4E35-4658-4BC8-A43A-25A20999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86BC-BDA7-4BF6-8941-B954CE9C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9DADE-FD1E-4119-8FC1-9B93ECC9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E8F06-8F48-4144-BBFB-54286F0C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4330-4487-4A92-BC4F-17CAD4B7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26F0-7D9E-4244-A4AB-088A1A2C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1C10-62EE-443E-AD01-7698CC8D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AF883-FAC7-4654-89B6-3B039685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7CB6-D993-4CE6-85FE-BC0FFE4F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0325-E2AA-4641-BDB9-3E715469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233A-4029-414D-96AB-09225B9BB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A9464-40BB-4F20-B540-6EA5D0C0F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DCCF2-EE9B-45FE-835B-B90C94AC9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43F31-0C02-4EC4-8346-4A886CC3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04743-D4ED-447B-831B-DC05CBF8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7B7DD-6D48-4B18-9DA4-C47BA763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F6BB8-1A30-4CC1-96B3-2E83D62C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7B50-699C-48B8-AE72-2B284F43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6D6E9-5F54-4140-802B-C2ABBD66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1BEEE-5965-4274-B87C-248BB5C1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3FB7C-E643-4566-9E49-75050424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319CF-6D8D-4E51-BBD4-52669807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FCABD-AF4A-41EB-A858-87F08094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DC1C0-549D-4CC8-A8EA-8DBE77FF5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EBAE7-9D0A-4BD0-9D83-88F635566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D556-B035-4D66-B2E3-776034CA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B871-C922-4F95-901F-487A6D54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3D2C-E0DA-4831-B387-68B3B18F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41E1-46E1-4792-9E8B-9B51D5CD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3792-7A5F-46AF-9D4A-CE6321F3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D81A-0495-4B2A-A492-288B653D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7A29-441E-4F9D-9C2E-5169598369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2A6C-D12C-49E5-BDE5-1175C6CCE0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GEF-20-PPT-BG-blank.png"/>
          <p:cNvPicPr/>
          <p:nvPr/>
        </p:nvPicPr>
        <p:blipFill>
          <a:blip r:embed="rId2"/>
          <a:stretch/>
        </p:blipFill>
        <p:spPr>
          <a:xfrm>
            <a:off x="-19080" y="-6480"/>
            <a:ext cx="9182160" cy="2573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GEF-RU-LOGO.gif"/>
          <p:cNvPicPr/>
          <p:nvPr/>
        </p:nvPicPr>
        <p:blipFill>
          <a:blip r:embed="rId3"/>
          <a:stretch/>
        </p:blipFill>
        <p:spPr>
          <a:xfrm>
            <a:off x="609480" y="152280"/>
            <a:ext cx="409752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9DE9-8B16-4762-8A18-586296A2C1D5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22AF-397F-4E2E-923F-4ADDA68543B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GEF_20Years_Wave_ru2.png"/>
          <p:cNvPicPr/>
          <p:nvPr/>
        </p:nvPicPr>
        <p:blipFill>
          <a:blip r:embed="rId2"/>
          <a:stretch/>
        </p:blipFill>
        <p:spPr>
          <a:xfrm>
            <a:off x="0" y="5273640"/>
            <a:ext cx="9144000" cy="158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GEF_20Years_Wave_ru2.png"/>
          <p:cNvPicPr/>
          <p:nvPr/>
        </p:nvPicPr>
        <p:blipFill>
          <a:blip r:embed="rId2"/>
          <a:stretch/>
        </p:blipFill>
        <p:spPr>
          <a:xfrm>
            <a:off x="0" y="5273640"/>
            <a:ext cx="9144000" cy="15843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2064-F0CE-4A6A-8099-1053F24A54D0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7B96-3D5B-45EE-A308-F5483D58790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1676160"/>
            <a:ext cx="807732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3600" spc="-1" strike="noStrike">
                <a:solidFill>
                  <a:srgbClr val="00642d"/>
                </a:solidFill>
                <a:latin typeface="Calibri"/>
              </a:rPr>
              <a:t>Стратегии по</a:t>
            </a:r>
            <a:br>
              <a:rPr sz="3600"/>
            </a:br>
            <a:r>
              <a:rPr b="1" lang="az-Cyrl-AZ" sz="3600" spc="-1" strike="noStrike">
                <a:solidFill>
                  <a:srgbClr val="00642d"/>
                </a:solidFill>
                <a:latin typeface="Calibri"/>
              </a:rPr>
              <a:t>тематическим</a:t>
            </a: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 </a:t>
            </a:r>
            <a:r>
              <a:rPr b="1" lang="az-Cyrl-AZ" sz="3600" spc="-1" strike="noStrike">
                <a:solidFill>
                  <a:srgbClr val="00642d"/>
                </a:solidFill>
                <a:latin typeface="Calibri"/>
              </a:rPr>
              <a:t>и сквозным областям деятельности</a:t>
            </a: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–– </a:t>
            </a:r>
            <a:r>
              <a:rPr b="1" lang="ru-RU" sz="3600" spc="-1" strike="noStrike">
                <a:solidFill>
                  <a:srgbClr val="00642d"/>
                </a:solidFill>
                <a:latin typeface="Calibri"/>
              </a:rPr>
              <a:t>Международные вод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ubtitle 4"/>
          <p:cNvSpPr/>
          <p:nvPr/>
        </p:nvSpPr>
        <p:spPr>
          <a:xfrm>
            <a:off x="838080" y="3733920"/>
            <a:ext cx="74678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Семинар для членов ГЭФ в расширенном соста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2d"/>
                </a:solidFill>
                <a:latin typeface="Arial"/>
              </a:rPr>
              <a:t>11–13</a:t>
            </a: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 октября</a:t>
            </a:r>
            <a:r>
              <a:rPr b="1" lang="en-US" sz="2400" spc="-1" strike="noStrike">
                <a:solidFill>
                  <a:srgbClr val="00642d"/>
                </a:solidFill>
                <a:latin typeface="Arial"/>
              </a:rPr>
              <a:t> 2011</a:t>
            </a: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Ташкент</a:t>
            </a:r>
            <a:r>
              <a:rPr b="1" lang="en-US" sz="2400" spc="-1" strike="noStrike">
                <a:solidFill>
                  <a:srgbClr val="00642d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Узбекис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137" name="Подзаголовок 2"/>
          <p:cNvSpPr/>
          <p:nvPr/>
        </p:nvSpPr>
        <p:spPr>
          <a:xfrm>
            <a:off x="990720" y="3200400"/>
            <a:ext cx="5767200" cy="1295280"/>
          </a:xfrm>
          <a:prstGeom prst="rect">
            <a:avLst/>
          </a:pr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От горных вершин до риф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ОДНЫЕ  РЕСУРСЫ, ОКРУЖАЮЩАЯ СРЕДА И БЕЗОПАСНОСТЬ НА УРОВНЕ ОБЩИН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ЕЯТЕЛЬНОСТЬ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ГЭФ В ОБЛАСТИ  ТРАНСГРАНИЧНЫХ ВОДНЫХ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2203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Международны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e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 воды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: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 цели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в рамках ГЭФ-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905120" y="990720"/>
            <a:ext cx="7238880" cy="1218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ль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: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пособствовать налаживанию межгосударственного сотрудничества в согласовании конкурирующих видов водопользования в международных бассейнах поверхностных и грунтовых вод, с учетом изменчивости климата и его измен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Content Placeholder 2"/>
          <p:cNvSpPr/>
          <p:nvPr/>
        </p:nvSpPr>
        <p:spPr>
          <a:xfrm>
            <a:off x="609480" y="2819520"/>
            <a:ext cx="39625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164"/>
          <p:cNvGraphicFramePr/>
          <p:nvPr/>
        </p:nvGraphicFramePr>
        <p:xfrm>
          <a:off x="23760" y="838080"/>
          <a:ext cx="167652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16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60" y="838080"/>
                    <a:ext cx="167652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17"/>
          <p:cNvGrpSpPr/>
          <p:nvPr/>
        </p:nvGrpSpPr>
        <p:grpSpPr>
          <a:xfrm>
            <a:off x="152280" y="4935600"/>
            <a:ext cx="9144000" cy="1465200"/>
            <a:chOff x="152280" y="4935600"/>
            <a:chExt cx="9144000" cy="1465200"/>
          </a:xfrm>
        </p:grpSpPr>
        <p:sp>
          <p:nvSpPr>
            <p:cNvPr id="148" name="Content Placeholder 2"/>
            <p:cNvSpPr/>
            <p:nvPr/>
          </p:nvSpPr>
          <p:spPr>
            <a:xfrm>
              <a:off x="1904760" y="4935600"/>
              <a:ext cx="7391520" cy="114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Цель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4:  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Способствовать эффективному управлению морскими районами за пределами действия национальной юрисдикции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(ABNJ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9" name="Object 165"/>
            <p:cNvGraphicFramePr/>
            <p:nvPr/>
          </p:nvGraphicFramePr>
          <p:xfrm>
            <a:off x="152280" y="5181120"/>
            <a:ext cx="1600200" cy="1219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0" name="Object 16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2280" y="5181120"/>
                      <a:ext cx="1600200" cy="121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1" name="Group 19"/>
          <p:cNvGrpSpPr/>
          <p:nvPr/>
        </p:nvGrpSpPr>
        <p:grpSpPr>
          <a:xfrm>
            <a:off x="0" y="2089080"/>
            <a:ext cx="9001080" cy="1460520"/>
            <a:chOff x="0" y="2089080"/>
            <a:chExt cx="9001080" cy="1460520"/>
          </a:xfrm>
        </p:grpSpPr>
        <p:sp>
          <p:nvSpPr>
            <p:cNvPr id="152" name="Content Placeholder 2"/>
            <p:cNvSpPr/>
            <p:nvPr/>
          </p:nvSpPr>
          <p:spPr>
            <a:xfrm>
              <a:off x="1676160" y="2089080"/>
              <a:ext cx="7324920" cy="14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Цель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2: 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Способствовать налаживанию межгосударственного сотрудничества в восстановлении морского рыболовного промысла и снижении уровня загрязненности прибрежных районов и крупных морских экосистем, с учетом изменчивости климата и его измен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ts val="1199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ff9900"/>
                </a:buClr>
                <a:buSzPct val="120000"/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3" name="Object 166"/>
            <p:cNvGraphicFramePr/>
            <p:nvPr/>
          </p:nvGraphicFramePr>
          <p:xfrm>
            <a:off x="0" y="2102040"/>
            <a:ext cx="1676160" cy="1445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4" name="Object 16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2102040"/>
                      <a:ext cx="1676160" cy="144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5" name="Group 22"/>
          <p:cNvGrpSpPr/>
          <p:nvPr/>
        </p:nvGrpSpPr>
        <p:grpSpPr>
          <a:xfrm>
            <a:off x="114480" y="3726000"/>
            <a:ext cx="9075600" cy="1295280"/>
            <a:chOff x="114480" y="3726000"/>
            <a:chExt cx="9075600" cy="1295280"/>
          </a:xfrm>
        </p:grpSpPr>
        <p:sp>
          <p:nvSpPr>
            <p:cNvPr id="156" name="Content Placeholder 2"/>
            <p:cNvSpPr/>
            <p:nvPr/>
          </p:nvSpPr>
          <p:spPr>
            <a:xfrm>
              <a:off x="1943280" y="3726000"/>
              <a:ext cx="7246800" cy="12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Цель 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3:  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Способствовать наращиванию основополагающего потенциала, обучению в рамках проектов и проведению целевых исследований в целях совместного, основанного на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экосистемном подходе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  управлении  трансграничными водными система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7" name="Object 167"/>
            <p:cNvGraphicFramePr/>
            <p:nvPr/>
          </p:nvGraphicFramePr>
          <p:xfrm>
            <a:off x="114480" y="3726000"/>
            <a:ext cx="1600200" cy="1295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8" name="Object 16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4480" y="3726000"/>
                      <a:ext cx="1600200" cy="12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155520" y="1676520"/>
            <a:ext cx="4027680" cy="36543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220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Экосистемный комплексный подход ГЭФ к управлению международными вод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962160" y="1218960"/>
            <a:ext cx="5599080" cy="90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4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40000"/>
              </a:lnSpc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4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упные морские экосистем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4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4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КМЭ "Южно-Китайское море " – ЮНЭП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1"/>
          <p:cNvSpPr/>
          <p:nvPr/>
        </p:nvSpPr>
        <p:spPr>
          <a:xfrm>
            <a:off x="4335480" y="2122560"/>
            <a:ext cx="4572000" cy="34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плексное управление водосборными площадям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CM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рибрежных муниципалитета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инция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 Нанг, Вьетнам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МСИ ПРО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ссейны ре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ПД в бассейне/дельте р. Меконг – Всемирный бан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стные демонстрационные площадк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у Куок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ish Refugi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Вьетнам, - ЮНЕ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Показатели, используемые для мониторинга и оценки результатов реализации проектов в трансграничных вод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057400" y="205740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Индикаторы процесс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нятие согласованных процедур и реформ в региональном и национальном масштабах в конкретном сектор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Индикаторы ослабления стресс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нятие мер на местах с целью ослабления стре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Индикаторы состояния окружающей среды/водных ресурсо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актическое улучшение состояния водных ресурсов/водной среды/социально-экономической ситу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учение на основе опыта реализации проектов, обмен опытом, управление знаниям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www.iwlearn.ne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rcRect l="0" t="-3969" r="0" b="0"/>
          <a:stretch/>
        </p:blipFill>
        <p:spPr>
          <a:xfrm>
            <a:off x="304920" y="1295280"/>
            <a:ext cx="1569960" cy="41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"/>
          <p:cNvSpPr/>
          <p:nvPr/>
        </p:nvSpPr>
        <p:spPr>
          <a:xfrm>
            <a:off x="3429000" y="2819520"/>
            <a:ext cx="2362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прос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0:46Z</dcterms:created>
  <dc:creator>wb350798</dc:creator>
  <dc:description/>
  <dc:language>en-US</dc:language>
  <cp:lastModifiedBy>wb350798</cp:lastModifiedBy>
  <cp:lastPrinted>2011-10-06T11:32:06Z</cp:lastPrinted>
  <dcterms:modified xsi:type="dcterms:W3CDTF">2011-11-01T20:58:02Z</dcterms:modified>
  <cp:revision>38</cp:revision>
  <dc:subject/>
  <dc:title>Focal Area and Cross Cutting Strategies – International Waters</dc:title>
</cp:coreProperties>
</file>