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7D79-3C84-42F9-8449-9AEB04B3F5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tic variability and change explicitly included for freshwater basins and LMEs and their coa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quifers/groundwater explicitly included for true integrated water resources management (100 x wa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M Critical in all marine projects for climatic vari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1B60-C5A1-48F3-9CF7-D44972B145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Date Placeholder 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essive funding provided to countries adopting progressive commitments to joint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, foundational capacity building projects- build trust &amp; confidence, undertake joint fact-finding, make commit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-up projects &amp; programs to help implement  joint commitments to national/local reforms and investments and support for waterbody-based adaptive management institutions for IWRM in basins and ICM at coas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EB41-5429-4F29-9540-5DE85D5218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ate Placeholder 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6E53-229F-41CB-9487-711B1F638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1561-D37B-488B-8DAA-F2E89F85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E61D-6933-4108-9B3E-CDDABA927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9C16-6B75-4212-BBFA-FB3F7C46E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EF27-9486-4B7E-B751-7B6568F16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A7C4-3F4D-44BE-97D7-83F91D7A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4654-20FB-4442-BEC8-EE70A54B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1AA7-1467-4C43-862E-1EB7665C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FA0B-7A48-4EB1-8E6A-F334FEA0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48C9-0550-4BF0-890A-422D7475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AE94-0508-49F7-AE7A-E7543D45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4F5F-87A6-444E-A8CC-A702FE4E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CC71-C70A-4441-B062-784A066E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833CB-7BD1-4E17-9597-F61F49BA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8F8DE-1FAD-462D-B082-26552DB5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84C3-9510-4132-A7BD-19D4AA10F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BE5D-0A39-43DF-B38F-CB732AF77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EA4BB-DFD8-4BD9-86B3-FF241B04D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8FBBF-575F-4679-B13A-96E089C4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81935-3E04-4E83-9F9B-545724EC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01CCB-02D0-4423-BBE7-1554F85C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518F4-E71D-4EB2-B8F7-19106B64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CE75-974C-473B-9F3E-F11050ED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DCFA8-BD9A-4066-AF10-22434E12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7385B-AFB4-48B4-81BD-2C7CFC2C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2AF01-4E84-4055-86A1-DE51FD49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3459E-BAD3-4C07-BF4D-B3CB7F4F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FB782-7A9B-4048-8693-CEDD44C9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255F7-CD19-4303-957D-F03902532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C8E51-0DC9-4E58-85B0-98D999D46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F3E5-93D4-4B81-9132-D765AC92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CB15-8C27-471A-ADF7-F9F71F13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1A9E-BCAD-4AA5-87E9-B28B2BA1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ADD9-2464-430F-9C66-31D8BC27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7632-701C-4093-9142-826D8452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ED74-7CA8-4F55-BE14-AC118ED1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DCB3-74E5-44A4-A8EE-1DE947213A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8B51-7DBF-49C2-B13E-823DE63005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GEF-20-PPT-BG-blank.png"/>
          <p:cNvPicPr/>
          <p:nvPr/>
        </p:nvPicPr>
        <p:blipFill>
          <a:blip r:embed="rId2"/>
          <a:stretch/>
        </p:blipFill>
        <p:spPr>
          <a:xfrm>
            <a:off x="-19080" y="-6480"/>
            <a:ext cx="9182160" cy="2573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GEF-RU-LOGO.gif"/>
          <p:cNvPicPr/>
          <p:nvPr/>
        </p:nvPicPr>
        <p:blipFill>
          <a:blip r:embed="rId3"/>
          <a:stretch/>
        </p:blipFill>
        <p:spPr>
          <a:xfrm>
            <a:off x="609480" y="152280"/>
            <a:ext cx="409752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3B5A-378D-4193-9A1F-E2C588BB7BE5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BF95-9657-43E5-893F-6DF99CF8C0B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GEF_20Years_Wave_ru2.png"/>
          <p:cNvPicPr/>
          <p:nvPr/>
        </p:nvPicPr>
        <p:blipFill>
          <a:blip r:embed="rId2"/>
          <a:stretch/>
        </p:blipFill>
        <p:spPr>
          <a:xfrm>
            <a:off x="0" y="5273640"/>
            <a:ext cx="9144000" cy="158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GEF_20Years_Wave_ru2.png"/>
          <p:cNvPicPr/>
          <p:nvPr/>
        </p:nvPicPr>
        <p:blipFill>
          <a:blip r:embed="rId2"/>
          <a:stretch/>
        </p:blipFill>
        <p:spPr>
          <a:xfrm>
            <a:off x="0" y="5273640"/>
            <a:ext cx="9144000" cy="15843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2C23-13D5-4D2F-B446-D8F5F3AABC28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F023-203B-4BDF-8140-14352C08E82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1676160"/>
            <a:ext cx="807732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3600" spc="-1" strike="noStrike">
                <a:solidFill>
                  <a:srgbClr val="00642d"/>
                </a:solidFill>
                <a:latin typeface="Calibri"/>
              </a:rPr>
              <a:t>Стратегии по</a:t>
            </a:r>
            <a:br>
              <a:rPr sz="3600"/>
            </a:br>
            <a:r>
              <a:rPr b="1" lang="az-Cyrl-AZ" sz="3600" spc="-1" strike="noStrike">
                <a:solidFill>
                  <a:srgbClr val="00642d"/>
                </a:solidFill>
                <a:latin typeface="Calibri"/>
              </a:rPr>
              <a:t>тематическим</a:t>
            </a: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 </a:t>
            </a:r>
            <a:r>
              <a:rPr b="1" lang="az-Cyrl-AZ" sz="3600" spc="-1" strike="noStrike">
                <a:solidFill>
                  <a:srgbClr val="00642d"/>
                </a:solidFill>
                <a:latin typeface="Calibri"/>
              </a:rPr>
              <a:t>и сквозным областям деятельности</a:t>
            </a: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–– </a:t>
            </a:r>
            <a:r>
              <a:rPr b="1" lang="ru-RU" sz="3600" spc="-1" strike="noStrike">
                <a:solidFill>
                  <a:srgbClr val="00642d"/>
                </a:solidFill>
                <a:latin typeface="Calibri"/>
              </a:rPr>
              <a:t>Международные вод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ubtitle 4"/>
          <p:cNvSpPr/>
          <p:nvPr/>
        </p:nvSpPr>
        <p:spPr>
          <a:xfrm>
            <a:off x="838080" y="3733920"/>
            <a:ext cx="74678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Семинар для членов ГЭФ в расширенном соста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2d"/>
                </a:solidFill>
                <a:latin typeface="Arial"/>
              </a:rPr>
              <a:t>11–13</a:t>
            </a: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 октября</a:t>
            </a:r>
            <a:r>
              <a:rPr b="1" lang="en-US" sz="2400" spc="-1" strike="noStrike">
                <a:solidFill>
                  <a:srgbClr val="00642d"/>
                </a:solidFill>
                <a:latin typeface="Arial"/>
              </a:rPr>
              <a:t> 2011</a:t>
            </a: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Ташкент</a:t>
            </a:r>
            <a:r>
              <a:rPr b="1" lang="en-US" sz="2400" spc="-1" strike="noStrike">
                <a:solidFill>
                  <a:srgbClr val="00642d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Узбекис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137" name="Подзаголовок 2"/>
          <p:cNvSpPr/>
          <p:nvPr/>
        </p:nvSpPr>
        <p:spPr>
          <a:xfrm>
            <a:off x="990720" y="3200400"/>
            <a:ext cx="5767200" cy="1295280"/>
          </a:xfrm>
          <a:prstGeom prst="rect">
            <a:avLst/>
          </a:pr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От горных вершин до риф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ОДНЫЕ  РЕСУРСЫ, ОКРУЖАЮЩАЯ СРЕДА И БЕЗОПАСНОСТЬ НА УРОВНЕ ОБЩИН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ЕЯТЕЛЬНОСТЬ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ГЭФ В ОБЛАСТИ  ТРАНСГРАНИЧНЫХ ВОДНЫХ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2203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Международны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e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 воды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: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 цели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в рамках ГЭФ-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905120" y="990720"/>
            <a:ext cx="7238880" cy="1218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ль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: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пособствовать налаживанию межгосударственного сотрудничества в согласовании конкурирующих видов водопользования в международных бассейнах поверхностных и грунтовых вод, с учетом изменчивости климата и его измен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Content Placeholder 2"/>
          <p:cNvSpPr/>
          <p:nvPr/>
        </p:nvSpPr>
        <p:spPr>
          <a:xfrm>
            <a:off x="609480" y="2819520"/>
            <a:ext cx="39625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164"/>
          <p:cNvGraphicFramePr/>
          <p:nvPr/>
        </p:nvGraphicFramePr>
        <p:xfrm>
          <a:off x="23760" y="838080"/>
          <a:ext cx="167652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16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60" y="838080"/>
                    <a:ext cx="167652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17"/>
          <p:cNvGrpSpPr/>
          <p:nvPr/>
        </p:nvGrpSpPr>
        <p:grpSpPr>
          <a:xfrm>
            <a:off x="152280" y="4935600"/>
            <a:ext cx="9144000" cy="1465200"/>
            <a:chOff x="152280" y="4935600"/>
            <a:chExt cx="9144000" cy="1465200"/>
          </a:xfrm>
        </p:grpSpPr>
        <p:sp>
          <p:nvSpPr>
            <p:cNvPr id="148" name="Content Placeholder 2"/>
            <p:cNvSpPr/>
            <p:nvPr/>
          </p:nvSpPr>
          <p:spPr>
            <a:xfrm>
              <a:off x="1904760" y="4935600"/>
              <a:ext cx="7391520" cy="114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Цель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4:  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Способствовать эффективному управлению морскими районами за пределами действия национальной юрисдикции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(ABNJ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9" name="Object 165"/>
            <p:cNvGraphicFramePr/>
            <p:nvPr/>
          </p:nvGraphicFramePr>
          <p:xfrm>
            <a:off x="152280" y="5181120"/>
            <a:ext cx="1600200" cy="1219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0" name="Object 16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2280" y="5181120"/>
                      <a:ext cx="1600200" cy="121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1" name="Group 19"/>
          <p:cNvGrpSpPr/>
          <p:nvPr/>
        </p:nvGrpSpPr>
        <p:grpSpPr>
          <a:xfrm>
            <a:off x="0" y="2089080"/>
            <a:ext cx="9001080" cy="1460520"/>
            <a:chOff x="0" y="2089080"/>
            <a:chExt cx="9001080" cy="1460520"/>
          </a:xfrm>
        </p:grpSpPr>
        <p:sp>
          <p:nvSpPr>
            <p:cNvPr id="152" name="Content Placeholder 2"/>
            <p:cNvSpPr/>
            <p:nvPr/>
          </p:nvSpPr>
          <p:spPr>
            <a:xfrm>
              <a:off x="1676160" y="2089080"/>
              <a:ext cx="7324920" cy="14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Цель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2: 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Способствовать налаживанию межгосударственного сотрудничества в восстановлении морского рыболовного промысла и снижении уровня загрязненности прибрежных районов и крупных морских экосистем, с учетом изменчивости климата и его измен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ts val="1199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ff9900"/>
                </a:buClr>
                <a:buSzPct val="120000"/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3" name="Object 166"/>
            <p:cNvGraphicFramePr/>
            <p:nvPr/>
          </p:nvGraphicFramePr>
          <p:xfrm>
            <a:off x="0" y="2102040"/>
            <a:ext cx="1676160" cy="1445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4" name="Object 16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2102040"/>
                      <a:ext cx="1676160" cy="144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5" name="Group 22"/>
          <p:cNvGrpSpPr/>
          <p:nvPr/>
        </p:nvGrpSpPr>
        <p:grpSpPr>
          <a:xfrm>
            <a:off x="114480" y="3726000"/>
            <a:ext cx="9075600" cy="1295280"/>
            <a:chOff x="114480" y="3726000"/>
            <a:chExt cx="9075600" cy="1295280"/>
          </a:xfrm>
        </p:grpSpPr>
        <p:sp>
          <p:nvSpPr>
            <p:cNvPr id="156" name="Content Placeholder 2"/>
            <p:cNvSpPr/>
            <p:nvPr/>
          </p:nvSpPr>
          <p:spPr>
            <a:xfrm>
              <a:off x="1943280" y="3726000"/>
              <a:ext cx="7246800" cy="12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Цель 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3:  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Способствовать наращиванию основополагающего потенциала, обучению в рамках проектов и проведению целевых исследований в целях совместного, основанного на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экосистемном подходе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  управлении  трансграничными водными система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7" name="Object 167"/>
            <p:cNvGraphicFramePr/>
            <p:nvPr/>
          </p:nvGraphicFramePr>
          <p:xfrm>
            <a:off x="114480" y="3726000"/>
            <a:ext cx="1600200" cy="1295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8" name="Object 16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4480" y="3726000"/>
                      <a:ext cx="1600200" cy="12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155520" y="1676520"/>
            <a:ext cx="4027680" cy="36543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220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Экосистемный комплексный подход ГЭФ к управлению международными вод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962160" y="1218960"/>
            <a:ext cx="5599080" cy="90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4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40000"/>
              </a:lnSpc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4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упные морские экосистем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4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4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КМЭ "Южно-Китайское море " – ЮНЭП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1"/>
          <p:cNvSpPr/>
          <p:nvPr/>
        </p:nvSpPr>
        <p:spPr>
          <a:xfrm>
            <a:off x="4335480" y="2122560"/>
            <a:ext cx="4572000" cy="34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плексное управление водосборными площадям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CM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рибрежных муниципалитета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инция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 Нанг, Вьетнам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МСИ ПРО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ссейны ре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ПД в бассейне/дельте р. Меконг – Всемирный бан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стные демонстрационные площадк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у Куок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ish Refugi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Вьетнам, - ЮНЕ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Показатели, используемые для мониторинга и оценки результатов реализации проектов в трансграничных вод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057400" y="205740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Индикаторы процесс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нятие согласованных процедур и реформ в региональном и национальном масштабах в конкретном сектор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Индикаторы ослабления стресс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нятие мер на местах с целью ослабления стре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Индикаторы состояния окружающей среды/водных ресурсо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актическое улучшение состояния водных ресурсов/водной среды/социально-экономической ситу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учение на основе опыта реализации проектов, обмен опытом, управление знаниям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www.iwlearn.ne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rcRect l="0" t="-3969" r="0" b="0"/>
          <a:stretch/>
        </p:blipFill>
        <p:spPr>
          <a:xfrm>
            <a:off x="304920" y="1295280"/>
            <a:ext cx="1569960" cy="41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"/>
          <p:cNvSpPr/>
          <p:nvPr/>
        </p:nvSpPr>
        <p:spPr>
          <a:xfrm>
            <a:off x="3429000" y="2819520"/>
            <a:ext cx="2362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прос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0:46Z</dcterms:created>
  <dc:creator>wb350798</dc:creator>
  <dc:description/>
  <dc:language>en-US</dc:language>
  <cp:lastModifiedBy>wb350798</cp:lastModifiedBy>
  <cp:lastPrinted>2011-10-06T11:32:06Z</cp:lastPrinted>
  <dcterms:modified xsi:type="dcterms:W3CDTF">2011-11-01T20:58:02Z</dcterms:modified>
  <cp:revision>38</cp:revision>
  <dc:subject/>
  <dc:title>Focal Area and Cross Cutting Strategies – International Waters</dc:title>
</cp:coreProperties>
</file>