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D4B9-EDDB-4F88-A858-46EAB2CF5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696960"/>
            <a:ext cx="4646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0B2E-6B22-46B0-AE08-989558694F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4"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696960"/>
            <a:ext cx="46465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BEEA-196D-4133-990F-DC08AF3652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696960"/>
            <a:ext cx="46465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D0C6-E40F-49CC-A83B-268C9DD644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9"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696960"/>
            <a:ext cx="46465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Footer Placeholder 4"/>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33" name="Header Placeholder 5"/>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696960"/>
            <a:ext cx="46465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Potential projects: </a:t>
            </a:r>
            <a:r>
              <a:rPr b="0" lang="en-US" sz="13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3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DDBA-616F-4152-923F-EE54CD0FCB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696960"/>
            <a:ext cx="46465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49E1-7ED5-4AEC-83DE-D77FB52C4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815DC-FE33-4ED2-B56C-BF537FDF4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1A99-0E5B-46F7-AFAA-16F8E9918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58DBB-242D-4C9B-9DD7-F9083740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163A2-A79D-420C-A3B0-9CE4E3E39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25D8-1F77-4443-8D95-66A6CC5AE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CC23-D012-4F01-967E-B694E13F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006D6-165D-4FB4-9638-B89440DA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0E248-5D93-4A65-9EA3-35FC84E1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1AEB2-1696-410D-9487-6BE360A5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C339-8678-4DB9-9F45-4337E77E1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0FF9-86E7-4C48-839B-68A12C600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194E-00F9-4AF6-864F-4D8D0403D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8BD0-D9F7-4954-8C52-90F39C550F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1"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2: Strengthen the enabling environment to reduce GHG emissions </a:t>
            </a:r>
            <a:r>
              <a:rPr b="0" lang="en-US" sz="2200" spc="-1" strike="noStrike">
                <a:solidFill>
                  <a:srgbClr val="000000"/>
                </a:solidFill>
                <a:latin typeface="Calibri"/>
              </a:rPr>
              <a:t>from deforestation and forest degradation (REDD+)</a:t>
            </a:r>
            <a:endParaRPr b="0" lang="en-US" sz="2200" spc="-1" strike="noStrike">
              <a:solidFill>
                <a:srgbClr val="000000"/>
              </a:solidFill>
              <a:latin typeface="Calibri"/>
            </a:endParaRPr>
          </a:p>
        </p:txBody>
      </p:sp>
      <p:sp>
        <p:nvSpPr>
          <p:cNvPr id="7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7"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3" descr=""/>
          <p:cNvPicPr/>
          <p:nvPr/>
        </p:nvPicPr>
        <p:blipFill>
          <a:blip r:embed="rId1"/>
          <a:stretch/>
        </p:blipFill>
        <p:spPr>
          <a:xfrm>
            <a:off x="0" y="5943600"/>
            <a:ext cx="9144000" cy="914400"/>
          </a:xfrm>
          <a:prstGeom prst="rect">
            <a:avLst/>
          </a:prstGeom>
          <a:ln w="0">
            <a:noFill/>
          </a:ln>
        </p:spPr>
      </p:pic>
      <p:pic>
        <p:nvPicPr>
          <p:cNvPr id="79"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Calibri"/>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Calibri"/>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Calibri"/>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Calibri"/>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Calibri"/>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Calibri"/>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Calibri"/>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Calibri"/>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Calibri"/>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Calibri"/>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18:16:27Z</dcterms:modified>
  <cp:revision>27</cp:revision>
  <dc:subject/>
  <dc:title>Focal Area and Cross Cutting Strategies –Sustainable Forest Management</dc:title>
</cp:coreProperties>
</file>