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3837-B43C-468F-B97A-A9E809B9D0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696960"/>
            <a:ext cx="4646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B240-76BA-418B-9E7B-8E7263655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4"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696960"/>
            <a:ext cx="46465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FD08-C548-4FB4-8AA1-F87FD601C6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696960"/>
            <a:ext cx="46465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DACF-5161-416B-B964-DD969847C3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9"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696960"/>
            <a:ext cx="46465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Footer Placeholder 4"/>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33" name="Header Placeholder 5"/>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696960"/>
            <a:ext cx="46465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Potential projects: </a:t>
            </a:r>
            <a:r>
              <a:rPr b="0" lang="en-US" sz="13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3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090A-914E-4EF1-900A-7335BCCFAA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696960"/>
            <a:ext cx="46465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64E3-A6F8-40C9-BFC8-F0CFF41DD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77B1E-5DC0-4BCF-92CE-A701C431F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C626F-A73E-4CB9-8477-38FBC21A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37E2B-2CE3-40F8-AC28-464506373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8A53F-6207-4521-AB94-EA19D4B40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5E1ED-3E83-47F8-8A41-A3143149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27A51-A773-4A76-9490-2205F24B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9868A-0072-4D5D-A907-95048875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D4BD-80DA-463A-9882-EF7EB74DB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9FCB-F824-4C4C-B0EC-192942D72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E382-F7F3-4E06-A4EB-3A1A9DFD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E4E2-736A-40A7-9043-D82E39A3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6526-BD25-4F1A-9099-015684DC5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9577-BB56-47DF-A25E-59F8BBEB59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1"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2: Strengthen the enabling environment to reduce GHG emissions </a:t>
            </a:r>
            <a:r>
              <a:rPr b="0" lang="en-US" sz="2200" spc="-1" strike="noStrike">
                <a:solidFill>
                  <a:srgbClr val="000000"/>
                </a:solidFill>
                <a:latin typeface="Calibri"/>
              </a:rPr>
              <a:t>from deforestation and forest degradation (REDD+)</a:t>
            </a:r>
            <a:endParaRPr b="0" lang="en-US" sz="2200" spc="-1" strike="noStrike">
              <a:solidFill>
                <a:srgbClr val="000000"/>
              </a:solidFill>
              <a:latin typeface="Calibri"/>
            </a:endParaRPr>
          </a:p>
        </p:txBody>
      </p:sp>
      <p:sp>
        <p:nvSpPr>
          <p:cNvPr id="7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7"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3" descr=""/>
          <p:cNvPicPr/>
          <p:nvPr/>
        </p:nvPicPr>
        <p:blipFill>
          <a:blip r:embed="rId1"/>
          <a:stretch/>
        </p:blipFill>
        <p:spPr>
          <a:xfrm>
            <a:off x="0" y="5943600"/>
            <a:ext cx="9144000" cy="914400"/>
          </a:xfrm>
          <a:prstGeom prst="rect">
            <a:avLst/>
          </a:prstGeom>
          <a:ln w="0">
            <a:noFill/>
          </a:ln>
        </p:spPr>
      </p:pic>
      <p:pic>
        <p:nvPicPr>
          <p:cNvPr id="79"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Calibri"/>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Calibri"/>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Calibri"/>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Calibri"/>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Calibri"/>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Calibri"/>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Calibri"/>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Calibri"/>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Calibri"/>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Calibri"/>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18:16:27Z</dcterms:modified>
  <cp:revision>27</cp:revision>
  <dc:subject/>
  <dc:title>Focal Area and Cross Cutting Strategies –Sustainable Forest Management</dc:title>
</cp:coreProperties>
</file>