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84C8-F844-4353-958B-A3DBE8FA76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59DA-3386-44A6-8F20-0ACCCD00C5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5EC9-7CCB-4117-9439-40EF5D1478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430D-95C8-4B7F-A412-32D0793642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1"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5"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6"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B7AB-EE70-43A1-BCD8-155B89A5A2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1D4B-8BDF-421A-8386-B9688FCE3C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F15F6-25CC-4478-B42B-A5537B5ED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9E54-C35E-4A8D-B12D-7A8EDEB9F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3DBFB-6B39-4457-8220-E4666E0BB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2227D-14F4-42A8-A632-8F47E77C5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CAA2E-44E2-4522-A90B-D9D5BCD0A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5B8B-FCD0-423C-A8D4-2476701C0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653BD-515B-43F6-994E-37DAA407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A6E76-9B2F-4E2C-8668-D0825754C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FC8CC-6DB6-4F73-BE8B-6F74CA89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4DC1-EECF-4DAC-BC4A-9F5AA7BF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8890-41B3-41D9-A87C-F8759856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4BA1E-5916-48CB-B56A-7C7AAC2FB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0C56-E0CE-422C-844E-C22D350816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11 - 13 Octo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sitan</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1"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pic>
        <p:nvPicPr>
          <p:cNvPr id="73"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78"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20:39:46Z</dcterms:modified>
  <cp:revision>26</cp:revision>
  <dc:subject/>
  <dc:title>Focal Area and Cross Cutting Strategies –Sustainable Forest Management</dc:title>
</cp:coreProperties>
</file>