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8391-99F2-4EA0-BA92-355D422AF71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9522-A50E-4192-8197-16C1EE832E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0530-D379-4843-8B9C-FF7F8CFACA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5EC6-C2E5-42DD-843A-204BAB89741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EBB9-1066-4E5F-B0FA-6F5EFE5BEA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A029-23CC-4396-837F-6A59ED4722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C2611-EEEB-4473-AE03-B410086E0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B4D5-4A68-4DD3-B85B-BD26D637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6986-3CCC-4826-8D1F-FB5C5BEC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1307-0AA1-4448-805D-109D35565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1254-588F-4B3D-B640-D5F437BCB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4971-30AF-482F-BB0D-09AD24495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253E-178D-4228-AC29-75E0C823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3E23-126D-4920-9F1A-37DE2A5E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3300-D7DC-4DDC-930B-D36B0321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D0F7-B21B-4B92-9F59-03A72BF6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F8DD1-6A3D-4D00-9B97-E089FFF6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B38E-4CBF-40C1-80B4-E1750609E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C9A7-07B7-488F-BA9B-70B8BB315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11 - 13 Octo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sitan</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20:39:46Z</dcterms:modified>
  <cp:revision>26</cp:revision>
  <dc:subject/>
  <dc:title>Focal Area and Cross Cutting Strategies –Sustainable Forest Management</dc:title>
</cp:coreProperties>
</file>