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16CF-91F8-4FBF-A4C4-CF438A540E8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29A5-A232-4013-ACF4-7DA79425660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4DC8-C18F-4D21-8899-4784AD1226C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ument GEF/R.5/19/Rev.1  -- revised to deal with some formatting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51D6-D15A-4906-B53C-D01A6BD6A1C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Potential projects: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tional forest policy reformulation, protected area management, capacity building for monitoring GHG emissions from deforestation and forest degradation, certification of timber and non-timber forest produc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09D8-0DF1-478A-BD3D-B5BC04502E2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BFF4-D2D1-4AC4-8F95-9EE19CF7236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5EE-071F-42DB-8583-56153072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5D1-9588-4E82-AECF-5DE0A448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5BF-C489-4C8F-BF4D-8F3FD6AC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D87-B230-4F74-9972-CCCC0105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1BE-764E-4AF7-A6B0-4A2FA214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C61-18F8-445A-9BF4-6A7F24D4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E5C-B7FB-4DE8-A3E3-781B5B78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8EB-0140-4477-A69C-D5C7D816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694-D7C8-417B-877E-CD05008A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0C9-353A-476A-A3B6-1A4BCF62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BFB-61F6-4EA0-8D7E-8D889511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3E7-17E5-41C6-BBCE-9C22CDB1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E6B2-CC27-4C54-9B26-93C2E6A2F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diversityhotspots.org/xp/Hotspots/west_africa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ематическая область и межотраслевые стратегии: многосторонняя схема финансирования программы СВОД-плю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Семинар для членов ГЭ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в расширенном соста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  <a:ea typeface="Arial"/>
              </a:rPr>
              <a:t>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  <a:ea typeface="Arial"/>
              </a:rPr>
              <a:t>13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октября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, 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1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333440" y="42696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ханизм стимулирующего финансирова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ов УОСЛ/СВОД-плюс в рамках ГЭФ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560" y="1066680"/>
            <a:ext cx="850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вестиции в рамках не менее двух тематических областей деятельности ГЭФ     (биологическое разнообразие, деградация земель, изменение климата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→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елях увеличения комплексных бл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эффициент стимулирова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: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., при выделении 6 млн. долл. США                  на проекты сохранения биологического разнообразия и противодействия изменению клим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млн. долл. США направляется на счет проектов УОСЛ/СВОД-плю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рганизации стимулирующего финансирования необходимо, чтоб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финансирование из системы СТАР составляло не менее 2 млн. долл. СШ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1 про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ксимальная сумма финансирования из системы СТАР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получения стимулирующего финансирова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30 млн. долл. СШ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1 про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явки на стимулирующее финансирование могут подавать вс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аны, отвечающие критериям 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45" name="Подзаголовок 2"/>
          <p:cNvSpPr/>
          <p:nvPr/>
        </p:nvSpPr>
        <p:spPr>
          <a:xfrm>
            <a:off x="4856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дзаголовок 2"/>
          <p:cNvSpPr/>
          <p:nvPr/>
        </p:nvSpPr>
        <p:spPr>
          <a:xfrm>
            <a:off x="126828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Users\wb346313\Documents\Pictures\WB_Photos\RW001S18_Francis Dobs.jpg"/>
          <p:cNvPicPr/>
          <p:nvPr/>
        </p:nvPicPr>
        <p:blipFill>
          <a:blip r:embed="rId2"/>
          <a:stretch/>
        </p:blipFill>
        <p:spPr>
          <a:xfrm>
            <a:off x="2286000" y="2895480"/>
            <a:ext cx="4267080" cy="2737080"/>
          </a:xfrm>
          <a:prstGeom prst="rect">
            <a:avLst/>
          </a:prstGeom>
          <a:ln w="0">
            <a:noFill/>
          </a:ln>
        </p:spPr>
      </p:pic>
      <p:sp>
        <p:nvSpPr>
          <p:cNvPr id="151" name="Подзаголовок 2"/>
          <p:cNvSpPr/>
          <p:nvPr/>
        </p:nvSpPr>
        <p:spPr>
          <a:xfrm>
            <a:off x="53352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дзаголовок 2"/>
          <p:cNvSpPr/>
          <p:nvPr/>
        </p:nvSpPr>
        <p:spPr>
          <a:xfrm>
            <a:off x="129384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дзаголовок 2"/>
          <p:cNvSpPr/>
          <p:nvPr/>
        </p:nvSpPr>
        <p:spPr>
          <a:xfrm>
            <a:off x="1257480" y="6299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762120" y="2286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ГЭФ-5 по обеспечению устойчивого с точки зрения окружающей среды лесопользования (УОСЛ)/СВОД-плю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3429000" cy="224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3429000" cy="2247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1008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304920" y="144792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комплексных благ в области окружающей среды и социальных благ через финансирование мер по сохранению л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дзаголовок 2"/>
          <p:cNvSpPr/>
          <p:nvPr/>
        </p:nvSpPr>
        <p:spPr>
          <a:xfrm>
            <a:off x="50472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дзаголовок 2"/>
          <p:cNvSpPr/>
          <p:nvPr/>
        </p:nvSpPr>
        <p:spPr>
          <a:xfrm>
            <a:off x="133344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дзаголовок 2"/>
          <p:cNvSpPr/>
          <p:nvPr/>
        </p:nvSpPr>
        <p:spPr>
          <a:xfrm>
            <a:off x="125568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3078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ГЭФ придает большое значение сохранению лесо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560" y="990720"/>
            <a:ext cx="8504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а создаю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нообразные блага в сфере окружающей среды и социальные блага в таких областях, ка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ЗМЕНЕНИЕ  КЛИМАТ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дление темпов уничтожения тропических лесов должн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ть гораздо более существенную роль в смягчен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ствий изменения клима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РАЗНООБРАЗ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есах живут более 60% всех видов                                                 наземных растений и животны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ГРАДАЦИЯ ЗЕМЕЛЬНЫХ РЕСУРС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а обеспечивают источники доходов и жизненно                                                         важные услуги в области окружающей среды для сотен                 миллионов жителей планеты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hp_guinean_fores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2057400"/>
            <a:ext cx="113652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uscus"/>
          <p:cNvPicPr/>
          <p:nvPr/>
        </p:nvPicPr>
        <p:blipFill>
          <a:blip r:embed="rId3"/>
          <a:stretch/>
        </p:blipFill>
        <p:spPr>
          <a:xfrm>
            <a:off x="6248520" y="3124080"/>
            <a:ext cx="1365120" cy="163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4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performer29"/>
          <p:cNvPicPr/>
          <p:nvPr/>
        </p:nvPicPr>
        <p:blipFill>
          <a:blip r:embed="rId5"/>
          <a:stretch/>
        </p:blipFill>
        <p:spPr>
          <a:xfrm>
            <a:off x="6781680" y="4876920"/>
            <a:ext cx="1905120" cy="1247760"/>
          </a:xfrm>
          <a:prstGeom prst="rect">
            <a:avLst/>
          </a:prstGeom>
          <a:ln w="0">
            <a:noFill/>
          </a:ln>
        </p:spPr>
      </p:pic>
      <p:sp>
        <p:nvSpPr>
          <p:cNvPr id="68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дзаголовок 2"/>
          <p:cNvSpPr/>
          <p:nvPr/>
        </p:nvSpPr>
        <p:spPr>
          <a:xfrm>
            <a:off x="1285920" y="6095880"/>
            <a:ext cx="384948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одзаголовок 2"/>
          <p:cNvSpPr/>
          <p:nvPr/>
        </p:nvSpPr>
        <p:spPr>
          <a:xfrm>
            <a:off x="127008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инвестиций ГЭФ в сохранение ле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9907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ЭФ осуществляет финансирование проектов по сохранению лесов с момента своего учреждения в 1991 год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с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сопользование не является отдельной тематической областью деятельности Фонда. До 2006 г. ГЭФ осуществлял поддержку сохранения лесов, главным образом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амках деятельности по таким тематическим областям, как биологическое разнообразие и деградация земельных ресурсов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июне 2007 г. в рамках ГЭФ-4 была учреждена программа, более известная как Счет для сохранения тропических лесо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TFA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амках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F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езервировались средства из бюджетов таких тематических областей, как биологическое разнообразие, изменение климата и деградация земельных ресурсов для финансирования мероприятий по устойчивому лесопользованию в трех важнейших регионах распространения тропических лесов (в бассейне р. Амазонки, в бассейне р. Конго, в Новой Гвинее и на острове Борнео)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бщей сложности в рамках ГЭФ-4 в мероприятия по сохранению лесов было инвестировано более 400 млн. долл. СШ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74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1257480" y="6299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5" descr=""/>
          <p:cNvPicPr/>
          <p:nvPr/>
        </p:nvPicPr>
        <p:blipFill>
          <a:blip r:embed="rId1"/>
          <a:stretch/>
        </p:blipFill>
        <p:spPr>
          <a:xfrm>
            <a:off x="5479920" y="2664000"/>
            <a:ext cx="3365640" cy="3054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6" descr=""/>
          <p:cNvPicPr/>
          <p:nvPr/>
        </p:nvPicPr>
        <p:blipFill>
          <a:blip r:embed="rId3"/>
          <a:stretch/>
        </p:blipFill>
        <p:spPr>
          <a:xfrm>
            <a:off x="298440" y="2889360"/>
            <a:ext cx="4584600" cy="2908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304920" y="1447920"/>
            <a:ext cx="5333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ГЭФ-4 инвестиции в мероприятия по сохранению лесов осуществлялись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вным образом, в рамках одной тематической области  – биологического разнообразия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аким образом, потенциальным комплексным выгодам особое внимание не уделялось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проектов по сохранению лесов, осуществляемые в рамках ГЭФ-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350880" y="3703680"/>
            <a:ext cx="2318760" cy="167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на тематическая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ТО (2 тематические обла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ТО (3 тематические обла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одзаголовок 2"/>
          <p:cNvSpPr/>
          <p:nvPr/>
        </p:nvSpPr>
        <p:spPr>
          <a:xfrm>
            <a:off x="1285920" y="6095880"/>
            <a:ext cx="384948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126036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обеспечения УОСЛ/СВОД-плюс ГЭФ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952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жение комплекса благ для окружающей среды через совершенствование системы использования лесов всех тип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 – по трем тематическим областям деятельности ГЭФ (биологическое разнообразие, изменение климата, деградация земельных ресурсо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а отдельная схема финансирования вне системы прозрачного распределения                                                               ресурсов (СТАР) в целях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и стимулирующего                                                                    финансирования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интересованных стр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Users\wb346313\Documents\Pictures\indonesia_boy_fuelwood_crop.jpg"/>
          <p:cNvPicPr/>
          <p:nvPr/>
        </p:nvPicPr>
        <p:blipFill>
          <a:blip r:embed="rId2"/>
          <a:stretch/>
        </p:blipFill>
        <p:spPr>
          <a:xfrm>
            <a:off x="5029200" y="4038480"/>
            <a:ext cx="305748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1265400" y="6299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-я группа задач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ижение нагрузки на лесные ресурсы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обеспечение стабильного потока экосистемных услуг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анных с лес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енциальные проект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работка и совершенствование политики лесопользования, нормативно-правовой базы регулирования лесопользова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еспечение соблюдения законов о лесе и управления и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LEG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ы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ологии заготовок и производст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сной и прочей продукции, планирование функционального использования лесов и лесопольз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ертификация лесов и провер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почек поставок лесоматериал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ая систем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упреждения и ликвидации лесных пожаро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ход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 разрешению конфликтных ситуац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апр., споров по вопросам лесоустройства и лесопользова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ащивание потенциала и экспериментальное внедрение систем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аты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 экосистемные услуги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дрение средств экономической оцен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мышленные, сельскохозяйственные и бытовы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ологии, способствующие снижению нагрузки на лесные ресурс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нергоэффективность, замена топл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репл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ей элементов экологических систе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уровне ландшафт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щинные и малые лесные хозя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Подзаголовок 2"/>
          <p:cNvSpPr/>
          <p:nvPr/>
        </p:nvSpPr>
        <p:spPr>
          <a:xfrm>
            <a:off x="4856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дзаголовок 2"/>
          <p:cNvSpPr/>
          <p:nvPr/>
        </p:nvSpPr>
        <p:spPr>
          <a:xfrm>
            <a:off x="129060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я группа задач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крепление благоприятных условий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целях сокращения выбросов парниковых газов (ПГ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результате обезлесения и деградации лесов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Д-плю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24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альные проект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курсы на получение прав землепользования и изменения режимов землеполь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апр., планирование потенциала землепользования и связанной                   с этим деятельности; анализ компромиссных вариан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ащивание технического и институциональног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тенциала в целях мониторинга и сокращения выбросов П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результате обезлесения и деградации лес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обование и внедрение подходов, обеспечивающих получ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ов от торговли квотами на выбросы углерода в атмосфер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Подзаголовок 2"/>
          <p:cNvSpPr/>
          <p:nvPr/>
        </p:nvSpPr>
        <p:spPr>
          <a:xfrm>
            <a:off x="4856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одзаголовок 2"/>
          <p:cNvSpPr/>
          <p:nvPr/>
        </p:nvSpPr>
        <p:spPr>
          <a:xfrm>
            <a:off x="1257480" y="622944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хема финансирования проектов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УОСЛ/СВОД-плюс в рамках ГЭФ-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lowchart: Process 3"/>
          <p:cNvSpPr/>
          <p:nvPr/>
        </p:nvSpPr>
        <p:spPr>
          <a:xfrm>
            <a:off x="838080" y="1828800"/>
            <a:ext cx="2895840" cy="1447920"/>
          </a:xfrm>
          <a:prstGeom prst="flowChartProcess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owchart: Process 6"/>
          <p:cNvSpPr/>
          <p:nvPr/>
        </p:nvSpPr>
        <p:spPr>
          <a:xfrm>
            <a:off x="838080" y="3429000"/>
            <a:ext cx="2895840" cy="1295280"/>
          </a:xfrm>
          <a:prstGeom prst="flowChartProcess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owchart: Process 7"/>
          <p:cNvSpPr/>
          <p:nvPr/>
        </p:nvSpPr>
        <p:spPr>
          <a:xfrm>
            <a:off x="838080" y="4876920"/>
            <a:ext cx="2895840" cy="685800"/>
          </a:xfrm>
          <a:prstGeom prst="flowChartProcess">
            <a:avLst/>
          </a:prstGeom>
          <a:solidFill>
            <a:srgbClr val="cf45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lowchart: Process 8"/>
          <p:cNvSpPr/>
          <p:nvPr/>
        </p:nvSpPr>
        <p:spPr>
          <a:xfrm>
            <a:off x="838080" y="2895480"/>
            <a:ext cx="2895840" cy="381240"/>
          </a:xfrm>
          <a:prstGeom prst="flowChartProcess">
            <a:avLst/>
          </a:prstGeom>
          <a:solidFill>
            <a:srgbClr val="00b050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ы УОСЛ/СВОД-плю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owchart: Process 9"/>
          <p:cNvSpPr/>
          <p:nvPr/>
        </p:nvSpPr>
        <p:spPr>
          <a:xfrm>
            <a:off x="838080" y="4343400"/>
            <a:ext cx="2895840" cy="380880"/>
          </a:xfrm>
          <a:prstGeom prst="flowChart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кты УОСЛ/СВОД-плю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lowchart: Process 10"/>
          <p:cNvSpPr/>
          <p:nvPr/>
        </p:nvSpPr>
        <p:spPr>
          <a:xfrm>
            <a:off x="838080" y="5334120"/>
            <a:ext cx="2895840" cy="228600"/>
          </a:xfrm>
          <a:prstGeom prst="flowChart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кты УОСЛ/СВОД-плю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1235520" y="20574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менение кли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1416960" y="342900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262520" y="4881600"/>
            <a:ext cx="19609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градаци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емельных рес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21"/>
          <p:cNvCxnSpPr>
            <a:stCxn id="110" idx="3"/>
          </p:cNvCxnSpPr>
          <p:nvPr/>
        </p:nvCxnSpPr>
        <p:spPr>
          <a:xfrm flipV="1">
            <a:off x="3733560" y="2666160"/>
            <a:ext cx="1067400" cy="42012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7" name="Straight Arrow Connector 23"/>
          <p:cNvCxnSpPr/>
          <p:nvPr/>
        </p:nvCxnSpPr>
        <p:spPr>
          <a:xfrm flipV="1">
            <a:off x="3733560" y="4114440"/>
            <a:ext cx="991080" cy="45792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8" name="Straight Arrow Connector 25"/>
          <p:cNvCxnSpPr>
            <a:stCxn id="112" idx="3"/>
          </p:cNvCxnSpPr>
          <p:nvPr/>
        </p:nvCxnSpPr>
        <p:spPr>
          <a:xfrm flipV="1">
            <a:off x="3733920" y="4876200"/>
            <a:ext cx="1219680" cy="57204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19" name="Oval 28"/>
          <p:cNvSpPr/>
          <p:nvPr/>
        </p:nvSpPr>
        <p:spPr>
          <a:xfrm>
            <a:off x="4724280" y="2057400"/>
            <a:ext cx="1524240" cy="32004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1"/>
          <p:cNvSpPr/>
          <p:nvPr/>
        </p:nvSpPr>
        <p:spPr>
          <a:xfrm rot="16200000">
            <a:off x="4186440" y="3040920"/>
            <a:ext cx="2820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спределение средств                  на проекты УОСЛ/СВОД-плюс           по тематическим областям деятельности ГЭФ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C:\Users\wb346313\AppData\Local\Microsoft\Windows\Temporary Internet Files\Content.IE5\O5DD2061\MCj03404040000[1].wmf"/>
          <p:cNvPicPr/>
          <p:nvPr/>
        </p:nvPicPr>
        <p:blipFill>
          <a:blip r:embed="rId1"/>
          <a:stretch/>
        </p:blipFill>
        <p:spPr>
          <a:xfrm rot="3247800">
            <a:off x="5865480" y="2417400"/>
            <a:ext cx="2595600" cy="26402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5"/>
          <p:cNvSpPr/>
          <p:nvPr/>
        </p:nvSpPr>
        <p:spPr>
          <a:xfrm rot="20649000">
            <a:off x="6481440" y="30700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6"/>
          <p:cNvSpPr/>
          <p:nvPr/>
        </p:nvSpPr>
        <p:spPr>
          <a:xfrm rot="440400">
            <a:off x="6311520" y="400860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7"/>
          <p:cNvSpPr/>
          <p:nvPr/>
        </p:nvSpPr>
        <p:spPr>
          <a:xfrm>
            <a:off x="7548840" y="2830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9"/>
          <p:cNvSpPr/>
          <p:nvPr/>
        </p:nvSpPr>
        <p:spPr>
          <a:xfrm>
            <a:off x="7728480" y="283068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0"/>
          <p:cNvSpPr/>
          <p:nvPr/>
        </p:nvSpPr>
        <p:spPr>
          <a:xfrm>
            <a:off x="7957440" y="29829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1"/>
          <p:cNvSpPr/>
          <p:nvPr/>
        </p:nvSpPr>
        <p:spPr>
          <a:xfrm>
            <a:off x="8135280" y="32115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2"/>
          <p:cNvSpPr/>
          <p:nvPr/>
        </p:nvSpPr>
        <p:spPr>
          <a:xfrm>
            <a:off x="8185680" y="34401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4"/>
          <p:cNvSpPr/>
          <p:nvPr/>
        </p:nvSpPr>
        <p:spPr>
          <a:xfrm>
            <a:off x="8137800" y="38210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5"/>
          <p:cNvSpPr/>
          <p:nvPr/>
        </p:nvSpPr>
        <p:spPr>
          <a:xfrm>
            <a:off x="8211240" y="36687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6"/>
          <p:cNvSpPr/>
          <p:nvPr/>
        </p:nvSpPr>
        <p:spPr>
          <a:xfrm>
            <a:off x="7927560" y="39736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7"/>
          <p:cNvSpPr/>
          <p:nvPr/>
        </p:nvSpPr>
        <p:spPr>
          <a:xfrm>
            <a:off x="7698600" y="4049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8"/>
          <p:cNvSpPr/>
          <p:nvPr/>
        </p:nvSpPr>
        <p:spPr>
          <a:xfrm>
            <a:off x="7010280" y="5334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250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 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9"/>
          <p:cNvSpPr/>
          <p:nvPr/>
        </p:nvSpPr>
        <p:spPr>
          <a:xfrm>
            <a:off x="4952880" y="5334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750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 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3"/>
          <p:cNvSpPr/>
          <p:nvPr/>
        </p:nvSpPr>
        <p:spPr>
          <a:xfrm>
            <a:off x="1143000" y="5638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2,8 млрд. долл.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6"/>
          <p:cNvSpPr/>
          <p:nvPr/>
        </p:nvSpPr>
        <p:spPr>
          <a:xfrm>
            <a:off x="4572000" y="6095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$1 billion in total for SFM/REDD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4"/>
          <p:cNvSpPr/>
          <p:nvPr/>
        </p:nvSpPr>
        <p:spPr>
          <a:xfrm>
            <a:off x="5181480" y="56386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1,0 млрд. долл.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дзаголовок 2"/>
          <p:cNvSpPr/>
          <p:nvPr/>
        </p:nvSpPr>
        <p:spPr>
          <a:xfrm>
            <a:off x="53352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дзаголовок 2"/>
          <p:cNvSpPr/>
          <p:nvPr/>
        </p:nvSpPr>
        <p:spPr>
          <a:xfrm>
            <a:off x="129384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одзаголовок 2"/>
          <p:cNvSpPr/>
          <p:nvPr/>
        </p:nvSpPr>
        <p:spPr>
          <a:xfrm>
            <a:off x="126216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18Z</dcterms:created>
  <dc:creator>wb350798</dc:creator>
  <dc:description/>
  <dc:language>en-US</dc:language>
  <cp:lastModifiedBy>wb350798</cp:lastModifiedBy>
  <cp:lastPrinted>2011-09-30T08:18:28Z</cp:lastPrinted>
  <dcterms:modified xsi:type="dcterms:W3CDTF">2011-11-01T20:58:30Z</dcterms:modified>
  <cp:revision>55</cp:revision>
  <dc:subject/>
  <dc:title>Focal Area and Cross Cutting Strategies –Sustainable Forest Management</dc:title>
</cp:coreProperties>
</file>