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D58C-964D-4C59-954D-AB95BE0ADF01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8236-BC64-4AA5-A1AB-276E66E88687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8F9D-953E-43A3-A921-32124C246507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ACFC-1AD1-4D88-B603-85E6E993A823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62160" y="72396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000000"/>
                </a:solidFill>
                <a:latin typeface="Calibri"/>
              </a:rPr>
              <a:t>حلقة العمل الموسعة على مستوى البلدان الأعضاء في صندوق البيئة العالمي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E43-655E-4A93-ACF1-45FDCA67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A33-C938-4256-AA81-9265FD07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064-7F4C-46EE-AAB8-EBF832C2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BEA-85CF-4AF5-9020-86F965AB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F685-62AE-49D1-8B04-CFADB312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FE33-BEFA-480D-8E85-C940E82E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A3BE-2517-4329-A342-4F5D2250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D81F-BC31-4D7B-8A9F-ADCEF7C3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2365-67CA-4672-BECE-C79D1F58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BB82-9FFE-4847-974B-46F294B0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F2F0-DA72-4F91-8418-9A77AF88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213-21C2-4308-A1C1-AE128579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8917-8BE6-4276-A562-CD4B38F7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4D19-BCBA-4544-83D0-F95A1355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7BC7-762F-40DA-9A07-937546BE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FF7E-B7D7-4D85-9147-B47EC359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C04D-97DC-4CFD-9808-DD01C9D9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64ACD-118A-41C0-9BCD-1A71BE42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E5BC-5960-46EC-8713-7AAFFEC6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60A86-F384-4A26-ADAD-BA62614E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7C786-80FE-4014-9EF6-1ED64C85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64801-E4F5-4FAD-A5BB-33529C86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631-D8CB-463D-87A5-D114A3A9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BD25D-1491-4C90-BA2F-315517C8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8228-A21C-4B98-8A23-9B7BE509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1172E-E6EB-4B2A-BB47-EFE2A990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8CE1E-0C6D-494C-8478-A59563F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9EC7C-7C5A-4A25-9F45-E49EC267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BF27-A098-410D-AAD9-036D3A58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731D5-94B5-488B-AA02-688D6B09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B9323-98EE-4EE8-9AD4-EE9FE602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D6999-9B56-46D5-BACB-9FAE0FB0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5F38E-22B6-443E-8EA8-F09B31EE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7DE-C2D3-4D7B-B42C-DFDC9875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C6479-CCDA-4DD1-AEA4-317E0EDB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E001D-6AD7-4B0E-9169-A708029F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5DCDF-2F0B-409A-85AE-EBBDA405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0DAF1-4A64-4B54-886C-9DCA1FAF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B2747-4BE7-4156-B4F5-1093DDFA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8FF4D-4C5F-4D33-BC1E-181082AD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FCCCC-1037-4F04-83D1-B48E36C3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8840C-6080-4322-A141-9B84EB75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EE548-48CF-4D64-B567-6423391E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367-19F0-4073-BD4E-4C40A1CA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AAB7-ED79-4B90-8B55-B2237E5A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79F-5C55-4CB4-AB12-C05E8BB1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EB3-764D-40D3-B119-530572BE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89D-C5FF-42F6-B7DE-003DF01C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2928-FD5B-4A09-91F7-111DC3BBBCE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8D53-9378-4020-9189-89587E8F7B4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A2FE-6F0F-4130-BBE5-0E2E5AFAF44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5611680"/>
            <a:ext cx="9144000" cy="1246320"/>
            <a:chOff x="0" y="5611680"/>
            <a:chExt cx="9144000" cy="124632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2760"/>
              <a:ext cx="9144000" cy="12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-AR.png"/>
            <p:cNvPicPr/>
            <p:nvPr/>
          </p:nvPicPr>
          <p:blipFill>
            <a:blip r:embed="rId3"/>
            <a:stretch/>
          </p:blipFill>
          <p:spPr>
            <a:xfrm>
              <a:off x="11880" y="5611680"/>
              <a:ext cx="9119880" cy="6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7D31-2944-4EDD-B54E-019BA2F5742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42d"/>
                </a:solidFill>
                <a:latin typeface="Calibri"/>
                <a:cs typeface="Arial"/>
              </a:rPr>
              <a:t>مجال التركيز والإستراتيجيات الشاملة ــ تغير المنا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حلقة العمل الموسعة على مستوى البلدان الأعضاء 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صندوق البيئة العا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17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فبراير/شباط 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2012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42d"/>
                </a:solidFill>
                <a:latin typeface="Calibri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البحر الميت</a:t>
            </a:r>
            <a:r>
              <a:rPr b="1" lang="ar-SA" sz="2800" spc="-1" strike="noStrike">
                <a:solidFill>
                  <a:srgbClr val="00642d"/>
                </a:solidFill>
                <a:latin typeface="Calibri"/>
                <a:cs typeface="Times New Roman"/>
              </a:rPr>
              <a:t>، الأرد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42d"/>
                </a:solidFill>
                <a:latin typeface="Calibri"/>
                <a:cs typeface="Arial"/>
              </a:rPr>
              <a:t>شكراً على اهتمامك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المبادئ التوجيهية لإستراتيجية عملية التجديد الخامسة لموارد صندوق البيئة العالم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62120" y="15238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ستجابة لتوجيهات الاتفاق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نظر بعين الاعتبار إلى الظروف الوطنية للبلدان المستفي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عالية التكاليف عند تحقيق المنافع البيئية العال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" descr="Nikki-Sa_0.tmp"/>
          <p:cNvPicPr/>
          <p:nvPr/>
        </p:nvPicPr>
        <p:blipFill>
          <a:blip r:embed="rId1"/>
          <a:stretch/>
        </p:blipFill>
        <p:spPr>
          <a:xfrm>
            <a:off x="2057400" y="2819520"/>
            <a:ext cx="525780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أول: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عرض ونشر ونقل التكنولوجيات منخفضة الكربو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تجه الأنظار نحو التكنولوجيات المبتكرة، كما تتجه أيضاً نحو التكنولوجيات ذات الأولوية المتاحة تجارياً ولم يتم اعتمادها في أسواق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ساعدة الفنية من أج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خلق بيئة داعمة لنقل التكنولوجي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ناء القدر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ضع آليات لنقل التكنولوجي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عاون بين بلدان الشمال والجنوب وبلدان الجنوب والج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شراء التراخ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ستثمارات التجريب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طوير القدرات المحلية لتكييف التكنولوجيات الخارجية مع الظروف المحلية ودمج التكنولوجي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0" y="2438280"/>
            <a:ext cx="3429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ثاني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حول السوق 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cs typeface="Arial"/>
              </a:rPr>
              <a:t>نحو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كفاءة استخدام الطاقة في الصناعة وقطاع المبا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1599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قطاع الصناعي: التكنولوجيات والممارسات التي تتسم بكفاءة استخدام الطا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باني: تمت تغطية المباني السكنية، والتجارية، والمباني العامة الجديدة والمعدلة ؛ وكذلك حافظة المباني والأنظمة المستخِدمة للطا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الطاقة الشمسية والطاقة الحرارية الأرضية الضحلة من أجل التدفئة والتبر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قد يعمل ذلك على التخلص التدريجي من مركبات المواد الهيدرو كلورو فلورو كربونية المستخدمة في الصناعة والمبان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جميع المساعدة الفنية بشأن إعداد السياسات واللوائح التنظيمية وبناء القدرات؛ وآليات التمويل؛ والمشروعات التجريب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3" descr=""/>
          <p:cNvPicPr/>
          <p:nvPr/>
        </p:nvPicPr>
        <p:blipFill>
          <a:blip r:embed="rId1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ثال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استثمار في تكنولوجيات الطاقة المتجد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120" y="13716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رامج الطاقة المتجددة على الشبك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إنتاج اللامركزي للطاقة الكهربائية واستخدام المصادر المحلية المتجدد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عزيز القدرات الفنية للمشروعات الصغيرة والمتوسطة لتقديم خدمات التركيب والتشغيل والصيانة الخاصة بتكنولوجيات الطاقة المتجدد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ستعادة الميثان من مخلفات الكتلة الحيوية من أجل توليد الطاقة أو إنتاج الحرارة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إنتاج المستدام للكتلة الحيوية من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للحصول على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الوقود الأحفور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جميع المساعدة الفنية من أجل مساندة السياسات والمساندة التنظيمية، وبناء القدرات، ووضع آليات تمويل للاستثمار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89548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2" descr=""/>
          <p:cNvPicPr/>
          <p:nvPr/>
        </p:nvPicPr>
        <p:blipFill>
          <a:blip r:embed="rId1"/>
          <a:stretch/>
        </p:blipFill>
        <p:spPr>
          <a:xfrm>
            <a:off x="0" y="3809880"/>
            <a:ext cx="3657600" cy="24336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راب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أنظمة النقل والأنظمة الحضرية التي تتسم بكفاءة استخدام الطاقة وانخفاض انبعاث الكرب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212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جيع الإجراءات التدخلية الشاملة من خلال تكامل أنشطة قطاعات النقل والطاقة والمياه والإسكان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اول التخفيف من آثار تغير المناخ وأيضاً تلوث الهواء المحلي، والازدحام المروي، الخ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ساعدة الفنية والتخطيط الحضري، وإعداد آليات تمويل مبتكرة، وحملات توعية، واستثمارات في التكنولوجيات عالية الأداء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زيد من الاهتمام 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cs typeface="Arial"/>
              </a:rPr>
              <a:t>با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لقياس والتوصيف الكمي للمنافع البيئية العالمية (دليل  الهيئة الاستشارية العلمية والفنية لدى صندوق البيئة العالمية لحساب المنافع المتأتية من تخفيض غازات الدفيئة [الاحتباس الحراري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خامس:</a:t>
            </a:r>
            <a:r>
              <a:rPr b="0" lang="ar-EG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حفظ وتعزيز مستودعات الكربون من خلال الإدارة المستدامة لاستخدام الأراضي والغاب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8284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تعزيز واستعادة وإدارة مخزونات الكربون الموجودة في أراضي الغابات وغيرها (ومن بينها أراضي المستنقعات)</a:t>
            </a:r>
            <a:r>
              <a:rPr b="0" lang="ar-EG" sz="1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حد من انبعاثات مخزون الكربون</a:t>
            </a:r>
            <a:r>
              <a:rPr b="0" lang="ar-EG" sz="1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تتضمن الأنشطة</a:t>
            </a:r>
            <a:r>
              <a:rPr b="0" lang="ar-EG" sz="19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عروض عن الممارسات الجيدة، ووضع أنظمة للرصد والرقابة، وتعزيز السياسات والمؤسسات، الخ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ربط مع الإدارة المستدامة للغابات/الحد من إزالة الغابات وتدهور ـ البرنامج الإضافي، آلية التحفي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هدف الإستراتيجي السادس: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نشطة الداعمة وبناء القد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قيام الأطراف غير المدرجة بالمرفق الأول بإعداد اتصالات وطن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عداد وتحديث  تقييمات الاحتياجات من التكنولوجيا لا سيما بالنسبة للبلدان التي لم تتلق مساندة في هذا الشأن أثناء العملية الرابعة لتجديد موارد الصندوق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قد يقوم صندوق البيئة العالمية بتمويل أنشطة بغرض مساندة تطوير القدرات وتنفيذ المادة السادسة من الاتفاقية بشأن التعليم والتثقيف والتدريب والتوعية الجماهيرية وذلك بناء على التوجيهات المستقبلية لمؤتمر الأطراف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مكن أن يقوم صندوق البيئة العالمية بدور في أسواق الكربون الناشئ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Arial"/>
              </a:rPr>
              <a:t>تفويض مؤتمر الأطراف للصندوق بشأن نقل التكنولوجي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152352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بوزنان الإستراتيجي بشأن نقل التكنولوجيا (قرار مؤتمر الأطراف رقم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P.1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ديم المساندة من أجل تقييم الاحتياجات من التكنولوجيا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ديم المساندة من أجل المشروعات التجريبية لنقل التكنولوجيا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شر التكنولوجيات والمعارف الفنية التي تمت تجربتها بنجاح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عملية الخامسة لتجديد موارد صندوق البيئة العالمية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إجمالي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3.4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جالات تركي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1.4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مليار دولار من أجل التخفيف من آثار تغير المناخ</a:t>
            </a:r>
            <a:r>
              <a:rPr b="0" lang="ar-EG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Foundry in China supported by GEF to improve EE.jpg"/>
          <p:cNvPicPr/>
          <p:nvPr/>
        </p:nvPicPr>
        <p:blipFill>
          <a:blip r:embed="rId1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6:52Z</dcterms:created>
  <dc:creator>wb350798</dc:creator>
  <dc:description/>
  <dc:language>en-US</dc:language>
  <cp:lastModifiedBy>Lisa</cp:lastModifiedBy>
  <dcterms:modified xsi:type="dcterms:W3CDTF">2012-04-22T23:47:34Z</dcterms:modified>
  <cp:revision>107</cp:revision>
  <dc:subject/>
  <dc:title>Focal Area and Cross Cutting Strategies – Climate Change</dc:title>
</cp:coreProperties>
</file>