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35B2-6B16-4FB2-B843-7E94C484DA30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BC02-2811-486D-8CDB-8A29EA03B848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0DEF-ACB0-4E04-87C0-77A5D4508E8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196F-F359-40D2-B8B7-5B4EDF8EE8AA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452-D73F-466D-9E05-BE696258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A4C-955E-4E44-8CC8-7CEF0FA5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DDC-E0C1-40C3-BCEE-1515AC2A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760-1854-46CF-A8AB-25F24F6E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1F7C-D688-434A-ABCD-D69C8B35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5655-D793-4968-8727-9C7C7F9A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2F67-5B65-44F6-B07B-30A41000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C86-91ED-43F1-B33E-55AE90EA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1EF8-848A-4F91-910D-E3AB397A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4DB3-0135-45F8-8DCF-B8CD1735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1351-B5A7-4662-8269-0CA1B058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6BB-D528-46D2-897A-1A9986D2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63FC-606F-4643-A453-A0350E4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E842-1C05-4B5F-B1E8-95B1A6DB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F62A-ED67-4DE9-B1CF-7B53DF5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E8C4-B2FD-4074-835C-9B1E0063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8030-5728-4C7A-85B7-2D86AC54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6893-0757-4D41-8F48-34A2710B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B0DA-0EE2-4B25-8B66-27A8C91C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0E1B-6E12-4C3C-BD3E-4F504610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86BD-0314-45E3-9E27-8AA89FC6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8BFC-3964-4B34-B2C1-BBABB86B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7AD-35A4-4219-B021-7934F44B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80D1-DF7C-401E-A301-252A2398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D3735-0C53-4313-ADE9-FE1BCC9D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344DF-33CE-4966-923A-666C5A74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75E7-C042-4749-8467-A6828FE8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443B-0052-4E98-AB65-6EE2F0EB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C749-147C-4CB2-8ED6-67CF9C0A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1C5E-163C-4641-B58C-CEE7E92F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F5A19-8DB9-430C-9961-4A300813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C110E-ED91-4DC0-A103-6BCE3106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B9F7-12ED-4E0D-93F4-440E5D25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1A3-180D-45BB-880A-5FF0749E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BBA4-EA6F-4B22-8F55-7C2B4664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BC75F-A493-465E-A5E0-B0BEF50F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6CF9-E520-479A-89C7-6234BFE4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3A742-6B15-4887-BD6D-8EC06892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6F14A-C50E-40BF-9D74-D9C4F1F3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54B4-7AEF-4605-9612-9914D25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0019-7BAA-4826-94EC-782781A3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A1AE5-3392-49E9-99F0-71C6F3A7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2EA05-8028-4D0A-9434-60F3EB05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747-295B-4CB4-864B-D2BDA2BF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E68-900A-4A5A-892A-07A90E6B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9A4-C856-4CF6-A6F3-847C9BA9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E10-5857-4851-A642-4E9F841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2CF-9C21-4CCD-9575-5422BD37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B4BF-A2BD-4562-B47F-BB20146F099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F7A6-AB78-473E-9EAE-D490C062A69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29F1-17EE-4E81-A38B-407217ED927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009C-3C90-408D-A951-7916A06239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تغير المنا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شكراً على اهتمامك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مبادئ التوجيهية لإستراتيجية عملية التجديد الخامسة لموارد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جابة لتوجيهات الاتفاق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نظر بعين الاعتبار إلى الظروف الوطنية للبلدان المستفي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عالية التكاليف عند تحقيق المنافع البيئي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" descr="Nikki-Sa_0.tmp"/>
          <p:cNvPicPr/>
          <p:nvPr/>
        </p:nvPicPr>
        <p:blipFill>
          <a:blip r:embed="rId1"/>
          <a:stretch/>
        </p:blipFill>
        <p:spPr>
          <a:xfrm>
            <a:off x="2057400" y="281952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أول: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رض ونشر ونقل التكنولوجيات منخفضة الكربو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تجه الأنظار نحو التكنولوجيات المبتكرة، كما تتجه أيضاً نحو التكنولوجيات ذات الأولوية المتاحة تجارياً ولم يتم اعتمادها في أسواق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الفنية من أج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خلق بيئة داعمة لنقل التكنولوجي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ضع آليات لنقل التكنولوج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عاون بين بلدان الشمال والجنوب وبلدان الجنوب والج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شراء التراخ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ات التجريب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طوير القدرات المحلية لتكييف التكنولوجيات الخارجية مع الظروف المحلية ودمج التكنولوج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0" y="24382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ثاني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حول السوق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نحو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كفاءة استخدام الطاقة في الصناعة وقطاع المب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قطاع الصناعي: التكنولوجيات والممارسات التي تتسم بكفاءة استخدام الطا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باني: تمت تغطية المباني السكنية، والتجارية، والمباني العامة الجديدة والمعدلة ؛ وكذلك حافظة المباني والأنظمة المستخِدمة للطا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الطاقة الشمسية والطاقة الحرارية الأرضية الضحلة من أجل التدفئة والتبر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د يعمل ذلك على التخلص التدريجي من مركبات المواد الهيدرو كلورو فلورو كربونية المستخدمة في الصناعة والمبا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مساعدة الفنية بشأن إعداد السياسات واللوائح التنظيمية وبناء القدرات؛ وآليات التمويل؛ والمشروعات التجريب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ثال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 في تكنولوجيات الطاقة المتجد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رامج الطاقة المتجددة على الشبك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نتاج اللامركزي للطاقة الكهربائية واستخدام المصادر المحلية المتجدد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عزيز القدرات الفنية للمشروعات الصغيرة والمتوسطة لتقديم خدمات التركيب والتشغيل والصيانة الخاصة بتكنولوجيات الطاقة المتجدد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عادة الميثان من مخلفات الكتلة الحيوية من أجل توليد الطاقة أو إنتاج الحرارة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نتاج المستدام للكتلة الحيوية من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للحصول على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الوقود الأحفور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مساعدة الفنية من أجل مساندة السياسات والمساندة التنظيمية، وبناء القدرات، ووضع آليات تمويل للاستثمار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89548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2" descr=""/>
          <p:cNvPicPr/>
          <p:nvPr/>
        </p:nvPicPr>
        <p:blipFill>
          <a:blip r:embed="rId1"/>
          <a:stretch/>
        </p:blipFill>
        <p:spPr>
          <a:xfrm>
            <a:off x="0" y="3809880"/>
            <a:ext cx="3657600" cy="24336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راب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أنظمة النقل والأنظمة الحضرية التي تتسم بكفاءة استخدام الطاقة وانخفاض انبعاث الكرب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212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جيع الإجراءات التدخلية الشاملة من خلال تكامل أنشطة قطاعات النقل والطاقة والمياه والإسكا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اول التخفيف من آثار تغير المناخ وأيضاً تلوث الهواء المحلي، والازدحام المروي، الخ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الفنية والتخطيط الحضري، وإعداد آليات تمويل مبتكرة، وحملات توعية، واستثمارات في التكنولوجيات عالية الأداء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زيد من الاهتمام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لقياس والتوصيف الكمي للمنافع البيئية العالمية (دليل  الهيئة الاستشارية العلمية والفنية لدى صندوق البيئة العالمية لحساب المنافع المتأتية من تخفيض غازات الدفيئة [الاحتباس الحراري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خامس: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حفظ وتعزيز مستودعات الكربون من خلال الإدارة المستدامة لاستخدام الأراضي والغاب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تعزيز واستعادة وإدارة مخزونات الكربون الموجودة في أراضي الغابات وغيرها (ومن بينها أراضي المستنقعات)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انبعاثات مخزون الكربون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تتضمن الأنشطة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عروض عن الممارسات الجيدة، ووضع أنظمة للرصد والرقابة، وتعزيز السياسات والمؤسسات، الخ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ربط مع الإدارة المستدامة للغابات/الحد من إزالة الغابات وتدهور ـ البرنامج الإضافي، آلية التحفي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سادس: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نشطة الداعمة وبناء القد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الأطراف غير المدرجة بالمرفق الأول بإعداد اتصالات وطن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عداد وتحديث  تقييمات الاحتياجات من التكنولوجيا لا سيما بالنسبة للبلدان التي لم تتلق مساندة في هذا الشأن أثناء العملية الرابعة لتجديد موارد الصندوق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د يقوم صندوق البيئة العالمية بتمويل أنشطة بغرض مساندة تطوير القدرات وتنفيذ المادة السادسة من الاتفاقية بشأن التعليم والتثقيف والتدريب والتوعية الجماهيرية وذلك بناء على التوجيهات المستقبلية لمؤتمر الأطراف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يقوم صندوق البيئة العالمية بدور في أسواق الكربون الناشئ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فويض مؤتمر الأطراف للصندوق بشأن نقل التكنولوجي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بوزنان الإستراتيجي بشأن نقل التكنولوجيا (قرار مؤتمر الأطراف رق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P.1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م المساندة من أجل تقييم الاحتياجات من التكنولوجيا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م المساندة من أجل المشروعات التجريبية لنقل التكنولوجيا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شر التكنولوجيات والمعارف الفنية التي تمت تجربتها بنجاح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خامسة لتجديد موارد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إجمالي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3.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1.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من أجل التخفيف من آثار تغير المناخ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Lisa</cp:lastModifiedBy>
  <dcterms:modified xsi:type="dcterms:W3CDTF">2012-04-22T23:47:34Z</dcterms:modified>
  <cp:revision>107</cp:revision>
  <dc:subject/>
  <dc:title>Focal Area and Cross Cutting Strategies – Climate Change</dc:title>
</cp:coreProperties>
</file>