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A1BD-3807-4FEB-AB6C-02DD7FE3C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9D30-B34C-4EEC-8969-8037BFD7957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C324-A007-453F-A7D5-022A2203F91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6416-F341-4683-A645-C754FF20EA9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62160" y="72396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249-FAB2-4229-B536-3605CD26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198-5D49-4B71-966B-255756D7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487-3AD0-4FE1-BF94-E8BCC3CC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7D0-D75A-4B43-8851-3949B2AE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1512-FA55-4EEF-84FE-51AD43D3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439B-F0A1-4363-990C-937148C9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9A48-A9B4-42FB-BCD9-70F48692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97CC-3672-422F-B538-E0727DF5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BB19-0A06-480D-9A7E-38D829D1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9354-4F5C-4031-889C-97E63103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5764-8B4E-4F4C-9F61-773C63A3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A8E-D323-4972-AE7E-7DEC35E1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7E9B-085B-429F-BD63-7A9B3E5D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1AAC-D92C-4D34-AD32-F040C9B6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B354-8AE7-4BA6-90D4-3953A673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89FB-BB79-4142-B3F0-30A77F7E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7E14-F1F4-453B-AD81-5738B0B1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6B70-BC2C-43B9-BAE2-A941356A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A6F2F-7F3C-47AC-9FFA-003EEB06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2F432-3DEF-4278-97FF-D1A568FF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732C7-48B8-441F-9214-D8684E3F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80BC-597F-44F0-A8EA-B2BECB30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619-E33A-4780-A536-51577F54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DF0D-CD8A-45F4-982D-59B789A4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7CD46-33EA-4D3B-B2DE-2AEA5C9C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EFC71-21B8-4250-A7E1-06DD2E5A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44CA1-9ED6-4F33-93C2-F5AED07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D407-1C9E-4C3C-8CE3-D8B4AAD1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06D0-27D5-432C-A040-93C8394A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43872-8BB4-48EF-8683-E1CDC941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BD382-9922-450D-958E-224A5F40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5B631-F8EA-484F-AE53-9B951BB0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1672C-4113-4751-829A-B51FF8E4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A98-ED1A-4E72-8577-563B0328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AF64B-06B1-40D6-AFCC-F6916EA1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F5F6D-2634-4EF8-A11F-672BD3C6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067B2-6E8E-44D5-8F7E-07B87CA2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7FF59-A557-4C70-B926-7BC0B4A4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E347A-7940-4D57-AB9B-F1D5E851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C3011-00C3-4965-9C75-69A11C28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4E51F-D828-419B-A4D6-84496DDE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8152C-C5F4-4819-B23A-106A8967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12B60-7C95-4394-AB03-92C1D0D7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F51-97D0-4A45-B8EC-14274BAF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F74-1F60-401F-812B-1391FE14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B12-03DE-4FB0-BDB2-68E0BADD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4549-0C5E-4DBD-B3DB-930DF5D4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F5C-AD81-48E3-90A7-78C04473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84C2-635C-4443-883C-6F089762A2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60FD-FF57-40AD-BB81-8D76F55EAD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1E0B-1091-48C9-9BA3-8893C1CEB4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30E2-06BA-4566-BD7A-967AEEA0CB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Climate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iding Principles for GEF-5 Strate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62120" y="15238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iveness to Convention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ation of national circumstances of recipient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-effectiveness in achieving global environmental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" descr="Nikki-Sa_0.tmp"/>
          <p:cNvPicPr/>
          <p:nvPr/>
        </p:nvPicPr>
        <p:blipFill>
          <a:blip r:embed="rId1"/>
          <a:stretch/>
        </p:blipFill>
        <p:spPr>
          <a:xfrm>
            <a:off x="2057400" y="2971800"/>
            <a:ext cx="525780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ion, deployment, and transfer of innovative low-carbon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5235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novative technologies are targeted, but also priority technologies that are commercially available but have not been adopted in their marke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assistance f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enabling policy environment for tech transf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ment of tech transfer mechanis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-S and S-S coope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rchase of licen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lot invest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ment of local capacity to adapt exogenous technologies to local conditions and technology integ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5715000" y="4952880"/>
            <a:ext cx="3429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 transformation for energy efficiency in industry and the building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1599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strial sector: energy efficient technologies and pract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ings: residential, commercial, and public buildings, both new and retrofitting; building envelope and energy-using systems are cov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ar energy and shallow ground thermal capacity for heating and coo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support phase-out of HCFCs used in industry and build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TA on policy, regulation, and capacity building; financing mechanisms; and pilo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3" descr=""/>
          <p:cNvPicPr/>
          <p:nvPr/>
        </p:nvPicPr>
        <p:blipFill>
          <a:blip r:embed="rId1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3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ment in renewable energy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120" y="13716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-grid renewable energy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entralized production of electric power  and the use of indigenous renewable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ment of technical capacities of SMEs to provide installation, operation, and maintenance services for RE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ane recovery from biomass wastes for power generation or heat produc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tainable production of biomass for biofu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TA for policy and regulatory support, capacity building, and establishing financing mechanisms for invest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1"/>
          <a:stretch/>
        </p:blipFill>
        <p:spPr>
          <a:xfrm>
            <a:off x="6248520" y="4954680"/>
            <a:ext cx="2895480" cy="19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4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efficient, low-carbon transport and urba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621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rehensive interventions through integration of transport, energy, water, and housing sector activities will be encour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ress not only climate change mitigation but also local air pollution, traffic congestion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 in transport and urban planning, development of innovative financing mechanisms, awareness campaigns, and investments in high-performance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ter attention to measuring and quantifying GEB (GEF-STAP manual for calculating GHG benefit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12" descr=""/>
          <p:cNvPicPr/>
          <p:nvPr/>
        </p:nvPicPr>
        <p:blipFill>
          <a:blip r:embed="rId1"/>
          <a:stretch/>
        </p:blipFill>
        <p:spPr>
          <a:xfrm>
            <a:off x="5486400" y="442440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5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 and enhancement of carbon stocks through sustainable management of land use and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8284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hance, restore and manage carbon stocks and storage on forest and non-forest land (including peat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duce emissions of carbon stoc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ctivities include: good practice demonstrations, establishment of national C monitoring systems, strengthen policies and institution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nked to Sustainable Forest Management/ REDD+ incentive mechanis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6: Enabling activities and capacit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of National Communications  by non-Annex I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and updating of TNAs especially for countries that did not receive support for TNAs during GEF-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ject to future COP guidance, the GEF may finance activities to support capacity development and implementation of Article 6 of the Convention on education, training, and public awar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EF can play a role in the emerging carbon market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P Mandate to GEF on Technology Transf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152352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nan Strategic Program on Technology Transfe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P decision 2/CP.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 for Technology Needs Assess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for Technology Transfer Pilo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semination of successfully demonstrated technologies and know-h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4.3 billion total (six focal are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1.4 billion for climate change mit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Foundry in China supported by GEF to improve EE.jpg"/>
          <p:cNvPicPr/>
          <p:nvPr/>
        </p:nvPicPr>
        <p:blipFill>
          <a:blip r:embed="rId1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6:52Z</dcterms:created>
  <dc:creator>wb350798</dc:creator>
  <dc:description/>
  <dc:language>en-US</dc:language>
  <cp:lastModifiedBy>Lisa</cp:lastModifiedBy>
  <dcterms:modified xsi:type="dcterms:W3CDTF">2012-04-22T23:29:45Z</dcterms:modified>
  <cp:revision>105</cp:revision>
  <dc:subject/>
  <dc:title>Focal Area and Cross Cutting Strategies – Climate Change</dc:title>
</cp:coreProperties>
</file>