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E9EF-B6AE-42A5-9B4E-DFB2B4612E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6F7F-573B-4094-949E-6D5F14FBDE7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7CD5-9B9D-4391-AA48-98FEDCF20F1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9FBC-AEA1-41B9-B865-FF1136C20EB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62160" y="72396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6C5-FBB8-4083-8B0C-8A44853B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A3D-A674-4E7F-B490-1E5CAD86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247-E39B-4E90-9FCD-453E0AEE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5DE-EF36-4C8E-B09F-E4B05490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2242-4B3B-440F-9307-0B99017B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5F2B-B8C5-41BF-A909-22F6B626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5E03-9F66-4D4B-847C-1F1677ED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90F1-9962-41A3-8AF7-FC9EF3F0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E4B6-6DFB-4FDB-8A3C-96E99C0C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0F5B-1B70-44D6-AAC0-ACC3D0ED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CCD3-C4A6-449D-8104-6E31F986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DFB7-3010-44CA-9BEB-738762C8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9A6C-C0BA-4DD5-95DB-44515BFC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5A54-C501-446D-9215-3CA2742B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571C-F913-4D50-8128-FF8DE3AB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2D85-5D07-4011-8D9F-0B1604C7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DF63-BD10-4403-A146-5DDB7A08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DC87B-D628-4C4D-AE83-994CAB14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35562-A35E-48AC-ADC9-C16FA38D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320EB-644F-4FB8-B0BD-9CB98AF5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04415-8085-464D-B4C3-C58E8D63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DAB09-D2E4-49ED-97C9-7C3DBE50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EF76-3F9F-4F52-8F86-84B7A0E9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450C-D076-464F-9C95-D49C4840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E084D-4C00-4D8D-B455-D044523F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59FB9-459C-4375-8A3D-736A18BF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340FC-9470-4990-8704-090DABC3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844BA-426A-4628-A140-8511C8BD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4A1B9-C3CE-4C24-8ED2-44A177BC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7693C-B2A3-4861-AB89-BCCA3EE8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02960-AF03-4C93-A90F-95AEAFC2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F0D66-028D-42EC-9118-A6A6A37B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5D5A1-AB3F-4B4D-A291-53FEDC16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8F9-9D06-46A1-8B4B-84D4ED94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2DDA0-905A-4CDB-8D79-D4D86E96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4F280-C37F-4B3A-933D-51874F26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E0C70-7A01-4F31-BE59-9D50B3A2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82C07-1783-43C5-AFB0-C5F9236C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0791D-D181-46AC-AA5E-EACEFB87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945EE-C75C-416A-AEF4-BB6E7E5C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CC3C3-30C9-4998-B2E8-2EDC7D40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EF1A1-A56F-4581-9007-F76DA3BE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B8B6C-8257-46FF-950A-2820D6FA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5E6-5799-4A25-BE63-85F5568D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5F4-55F7-4FE0-8255-7721B0E3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1859-CD97-456A-9A7F-A4B95C3F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AB1-104A-4596-9AB9-F3A4D949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8A5-7AD2-403D-8937-707F1074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62CB-CE02-45E6-A1C2-A490365730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42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BC29-F6A4-4C6D-960D-1D2457B58C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6"/>
          <p:cNvGrpSpPr/>
          <p:nvPr/>
        </p:nvGrpSpPr>
        <p:grpSpPr>
          <a:xfrm>
            <a:off x="0" y="5610240"/>
            <a:ext cx="9144000" cy="1247760"/>
            <a:chOff x="0" y="5610240"/>
            <a:chExt cx="9144000" cy="1247760"/>
          </a:xfrm>
        </p:grpSpPr>
        <p:pic>
          <p:nvPicPr>
            <p:cNvPr id="86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56102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56109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EA07-54C1-46B3-B122-16AC9365DE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6"/>
          <p:cNvGrpSpPr/>
          <p:nvPr/>
        </p:nvGrpSpPr>
        <p:grpSpPr>
          <a:xfrm>
            <a:off x="0" y="-28440"/>
            <a:ext cx="9144000" cy="1247760"/>
            <a:chOff x="0" y="-28440"/>
            <a:chExt cx="9144000" cy="1247760"/>
          </a:xfrm>
        </p:grpSpPr>
        <p:pic>
          <p:nvPicPr>
            <p:cNvPr id="130" name="Picture 7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-2844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-27360"/>
              <a:ext cx="91198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E5F9-88F8-4D9F-9A48-D3F6245522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Climate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ubtitle 4"/>
          <p:cNvSpPr/>
          <p:nvPr/>
        </p:nvSpPr>
        <p:spPr>
          <a:xfrm>
            <a:off x="1219320" y="42670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5 to 17 February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Dead Sea, Jor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uiding Principles for GEF-5 Strateg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62120" y="15238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onsiveness to Convention gui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ation of national circumstances of recipient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-effectiveness in achieving global environmental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" descr="Nikki-Sa_0.tmp"/>
          <p:cNvPicPr/>
          <p:nvPr/>
        </p:nvPicPr>
        <p:blipFill>
          <a:blip r:embed="rId1"/>
          <a:stretch/>
        </p:blipFill>
        <p:spPr>
          <a:xfrm>
            <a:off x="2057400" y="2971800"/>
            <a:ext cx="5257800" cy="28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1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ion, deployment, and transfer of innovative low-carbon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15235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novative technologies are targeted, but also priority technologies that are commercially available but have not been adopted in their marke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 assistance f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enabling policy environment for tech transf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ment of tech transfer mechanis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-S and S-S coope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urchase of licen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ilot invest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velopment of local capacity to adapt exogenous technologies to local conditions and technology integ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1"/>
          <a:stretch/>
        </p:blipFill>
        <p:spPr>
          <a:xfrm>
            <a:off x="5715000" y="4952880"/>
            <a:ext cx="34290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2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 transformation for energy efficiency in industry and the building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2120" y="15998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strial sector: energy efficient technologies and pract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ings: residential, commercial, and public buildings, both new and retrofitting; building envelope and energy-using systems are cov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ar energy and shallow ground thermal capacity for heating and coo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support phase-out of HCFCs used in industry and build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ation of TA on policy, regulation, and capacity building; financing mechanisms; and pilo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13" descr=""/>
          <p:cNvPicPr/>
          <p:nvPr/>
        </p:nvPicPr>
        <p:blipFill>
          <a:blip r:embed="rId1"/>
          <a:stretch/>
        </p:blipFill>
        <p:spPr>
          <a:xfrm>
            <a:off x="6019920" y="45147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3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ment in renewable energy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120" y="13716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-grid renewable energy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entralized production of electric power  and the use of indigenous renewable 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ment of technical capacities of SMEs to provide installation, operation, and maintenance services for RE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ane recovery from biomass wastes for power generation or heat produc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stainable production of biomass for biofu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ation of TA for policy and regulatory support, capacity building, and establishing financing mechanisms for invest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1"/>
          <a:stretch/>
        </p:blipFill>
        <p:spPr>
          <a:xfrm>
            <a:off x="6248520" y="4954680"/>
            <a:ext cx="2895480" cy="19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4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efficient, low-carbon transport and urban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621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rehensive interventions through integration of transport, energy, water, and housing sector activities will be encoura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ress not only climate change mitigation but also local air pollution, traffic congestion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 in transport and urban planning, development of innovative financing mechanisms, awareness campaigns, and investments in high-performance techn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ter attention to measuring and quantifying GEB (GEF-STAP manual for calculating GHG benefit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12" descr=""/>
          <p:cNvPicPr/>
          <p:nvPr/>
        </p:nvPicPr>
        <p:blipFill>
          <a:blip r:embed="rId1"/>
          <a:stretch/>
        </p:blipFill>
        <p:spPr>
          <a:xfrm>
            <a:off x="5486400" y="442440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5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 and enhancement of carbon stocks through sustainable management of land use and fore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82844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hance, restore and manage carbon stocks and storage on forest and non-forest land (including peatlan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duce emissions of carbon stock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ctivities include: good practice demonstrations, establishment of national C monitoring systems, strengthen policies and institution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inked to Sustainable Forest Management/ REDD+ incentive mechanism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37782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6: Enabling activities and capacity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14400" y="16765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ation of National Communications  by non-Annex I Pa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ation and updating of TNAs especially for countries that did not receive support for TNAs during GEF-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ject to future COP guidance, the GEF may finance activities to support capacity development and implementation of Article 6 of the Convention on education, training, and public awar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EF can play a role in the emerging carbon markets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P Mandate to GEF on Technology Transf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66680" y="152352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znan Strategic Program on Technology Transfer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P decision 2/CP.1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 for Technology Needs Assessmen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for Technology Transfer Pilo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semination of successfully demonstrated technologies and know-h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4.3 billion total (six focal are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1.4 billion for climate change miti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Foundry in China supported by GEF to improve EE.jpg"/>
          <p:cNvPicPr/>
          <p:nvPr/>
        </p:nvPicPr>
        <p:blipFill>
          <a:blip r:embed="rId1"/>
          <a:stretch/>
        </p:blipFill>
        <p:spPr>
          <a:xfrm>
            <a:off x="6781680" y="28954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6781680" y="1295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6781680" y="4492800"/>
            <a:ext cx="2133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6:52Z</dcterms:created>
  <dc:creator>wb350798</dc:creator>
  <dc:description/>
  <dc:language>en-US</dc:language>
  <cp:lastModifiedBy>Lisa</cp:lastModifiedBy>
  <dcterms:modified xsi:type="dcterms:W3CDTF">2012-04-22T23:29:45Z</dcterms:modified>
  <cp:revision>105</cp:revision>
  <dc:subject/>
  <dc:title>Focal Area and Cross Cutting Strategies – Climate Change</dc:title>
</cp:coreProperties>
</file>