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CC27-8694-424A-9ABF-6AC51C777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D909-BA36-472B-8AF3-AFB7E023A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F2A4C-E204-4ADD-97F0-132EF6B72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998F-EF42-44CA-98F6-F990C73B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AA99F-79F2-4F7B-9FFA-B3E7F0397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5D7E7-A4BD-4BF3-845C-BE039EF9F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7BC3-2F66-4E37-BE92-E513C62A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5D6A-F56C-4828-A6F2-7B77F20F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1409-1C69-4992-8EB5-DF14240BB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A974-1B49-41F8-98CA-EC3D0FD1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A218-DAAD-40DF-BA83-87C943783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7949-970A-4ED6-AD0A-B41CA6A7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2A6D-570F-44E3-BF01-BF7ADA327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0C4F-47BF-415E-AAF9-294DFF79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6BE4-3596-4857-9F90-6F95847DC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July 6 – 8, 2011</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Dakar, Senegal</a:t>
            </a:r>
            <a:endParaRPr b="0" lang="en-US" sz="28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D6FC-BEAD-45A8-9C95-79DC8DE36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3EF9-470D-493B-BC1C-A2E7DF481C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08-12T15:33:55Z</dcterms:modified>
  <cp:revision>23</cp:revision>
  <dc:subject/>
  <dc:title>Focal Area and Cross Cutting Strategies – Chemicals</dc:title>
</cp:coreProperties>
</file>