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DF0C-92CA-4E79-A670-015987663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1EDA-8886-405A-A394-028B017B2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098AB-3CA0-40EC-8A7B-38CE7833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AD15-A4AD-4F6D-9B18-3945AC565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C0EF3-5E31-4731-B70A-38AD8F2DC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A70B0-24A4-4999-A746-F1159DF3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00A4-17EB-4560-B8A8-C63A8580E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A1171-AF27-4940-AA65-5656F40C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046A-94DF-4E01-A6A5-ACF5220B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2BD7-01EC-46D8-A8A5-56DBC95D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8012F-666D-48DF-BF38-396B43785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0D9C-413D-4AA7-A214-609FC69C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9FDF-6916-44BB-B3DD-25D8A6C78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0573-918D-4FB8-907A-5EA65A1FC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A5F4-8F18-4F9D-B980-BD56368EE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July 6 – 8, 2011</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Dakar, Senegal</a:t>
            </a:r>
            <a:endParaRPr b="0" lang="en-US" sz="28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34F4-C31D-4184-ABB1-0518970DA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4F7D-D318-4A9B-9C8F-54F1CB80C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08-12T15:33:55Z</dcterms:modified>
  <cp:revision>23</cp:revision>
  <dc:subject/>
  <dc:title>Focal Area and Cross Cutting Strategies – Chemicals</dc:title>
</cp:coreProperties>
</file>