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BCBB-23C8-4700-9A0C-B823072A9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2C62-4111-4BA3-97AE-865A0452E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67C63-03DC-4579-9819-916A9E6CC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2A3C-A2BA-4D3B-A291-A3F89552A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B79BE-1888-40DC-B02E-0E37D89DD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D9846-1545-48F5-964D-101D8AEF5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7DE23-6A14-4C56-A69F-30D4A3374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C5A0-73DB-4C30-96F0-410A53A0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DEBA-CCB7-48B0-81FF-F7E5DFA0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D2218-B756-49F1-9FC3-236801D09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14103-5014-4256-AD9C-516A4090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EED8-BDA8-4686-A6DE-79F6A869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CE41-7677-427A-A047-F065929D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373D-3B44-4E3C-8D4D-E4BCDD941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2FC0-6C08-4648-B92E-8A10A4228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365760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81D1-A2C4-426E-80F8-087CE36C1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F6BE-0B4E-4154-A1BF-08EE6A287C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17T16:22:41Z</dcterms:modified>
  <cp:revision>27</cp:revision>
  <dc:subject/>
  <dc:title>Focal Area and Cross Cutting Strategies – Chemicals</dc:title>
</cp:coreProperties>
</file>