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D92D-A3AB-41B9-8DF6-365F7C139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57480" y="720720"/>
            <a:ext cx="480204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DEBF-5A6F-480F-BDDF-02337AF1D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E3FDD-8945-4A7F-8AC5-43E6F1D9E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74C1A-C1CA-454E-91F0-7BF072E45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653E6-E6C0-4D51-A234-CEE7532A8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65B9E-57C2-490D-B342-E71C4F635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5CD91-E730-4812-96AC-BE096895B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E6BC6-03C8-42A5-8438-600F1A6F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9D52F-50BE-489A-8C4B-E9A76ABFD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3AD37-837B-45B3-92F3-198342D82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A5C87-4FB0-4DF9-B93E-40FA44595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6907A-F8C6-4742-9459-AFF962ACA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FC1CC-3F42-43CD-9FB3-9458730B2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70C5-E046-4BB1-83A3-A6C86A28A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1232-BD39-4979-AF4A-5D29BC0C9F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143000" y="365760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5 – 27 October 2011</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Nairobi, Keny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59C6-DF6F-402A-B44E-E2F8761A44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DE30-D066-4573-8E96-132D8534DA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11-17T16:22:41Z</dcterms:modified>
  <cp:revision>27</cp:revision>
  <dc:subject/>
  <dc:title>Focal Area and Cross Cutting Strategies – Chemicals</dc:title>
</cp:coreProperties>
</file>