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DA5D-9CC1-44AB-B95E-1A3209B3AF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FE33-D8D6-42CC-9E85-EACEA2B9B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60B8-D5AE-4A7C-8082-938764D31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562-7E6B-4837-84CB-7BD64CBF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4CC-7E8C-4978-A6D6-C7DD03CA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63F-4ED7-45DC-849E-A38A9975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0F6-AA3F-4135-B250-D844B428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CCE-2696-4FA9-89CF-B60358D4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F29-03D5-4902-AA66-92E280D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30C-975F-4F11-87B7-D90B23FA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DDA-EF69-400D-9EC5-F079E1B4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980-095F-4C1C-865F-161AA8B8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C3E-EA5D-4D3E-87DE-8BF57C0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6B9-4FB6-4661-9DFB-CD316A6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4D6-D46B-4996-A4BA-B8BBE7E4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8E74-6BAC-48E3-826A-9B3FDC6A3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  <a:ea typeface="Arial"/>
              </a:rPr>
              <a:t>Domaine d'intervention et de stratégies transversales - Substances chim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Gestion des substances chimiq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gestion des substances chimiq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5640" y="14475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end en compte les POP, les substances qui appauvrissement la couche d'ozone, le mercure et la gestion rationnelle des substances chimiques d'une cohérence acc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25 millions alloués aux produits chimiques. La répartition des ressources est la suivan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Ps: $37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zone: $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rcure et gestion rationnelle des produits chimiques: $ 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0E48-0BC4-4BC7-A27E-E2658C910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1976400" cy="525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13712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bjectif 1: Élimination progressive des POP et réduction des rejets de POP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inq résultats escomptés de cet objectif sont développés ci-dessou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tion et utilisation des POP contrôlés abandonnées progressiv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P exemptés utilisés de manière écologiquement rationnel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duction des rejets de POP dans la na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chets de POP prévenus, gérés et éliminés, et sites contaminés par les POP gérés de manière écologiquement rationnelle, 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acités des pays renforcées pour leur permettre d’abandonner progressivement les POP et d’en réduire les reje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ands on training Kenia 5 (foto Stefan)"/>
          <p:cNvPicPr/>
          <p:nvPr/>
        </p:nvPicPr>
        <p:blipFill>
          <a:blip r:embed="rId1"/>
          <a:stretch/>
        </p:blipFill>
        <p:spPr>
          <a:xfrm>
            <a:off x="6400800" y="1981080"/>
            <a:ext cx="2514600" cy="253368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C9B-B814-4CF9-AE92-93015DF90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f 2: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Élimination progressive des SAO et réduction des rejets de S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enforcement de la capacité des pays à s’acquitter des obligations du Protocole de Montréal et à éliminer progressivement et à réduire efficacement les rejets de SA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Substances Chimiques » po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bjectif 3: 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 rationnelle des substances chimiques - Les activités sont destinées à soutenir les interventions synergétiques capables de  générer des avantages  plurisectoriels a travers des projets qui contribuent de manière significative à la réalisation des obligations prévues par les conventions pertinentes (y compris la Convention de Stockholm, Convention sur la diversité biologique, Convention sur la lutte contre la désertification, et autres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 pour 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05720" y="4743360"/>
            <a:ext cx="2438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9040" indent="-3826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bjectif 3: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 (sui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Démonstration des activités de réduction du mercure à traver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 l'utilisation et de l’exposition du mercure dans l’orpaillage(ASG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e renforcement des capacités de stockage securitaire du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s émissions atmosphériques de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’améliorer les données et informations scientifiques au niveau nationa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gestion des déchets et des sites contaminé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La mise en œuvre des priorités de l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ICM générant des effets positifs pour l’environnement mondial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. Les champs d'activités possibles comprennen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 plomb dans les peintu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echets electroniqu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s produits  chimiques dans les produi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0:58:11Z</dcterms:created>
  <dc:creator>wb350798</dc:creator>
  <dc:description/>
  <dc:language>en-US</dc:language>
  <cp:lastModifiedBy>wb350798</cp:lastModifiedBy>
  <dcterms:modified xsi:type="dcterms:W3CDTF">2011-11-17T16:34:54Z</dcterms:modified>
  <cp:revision>72</cp:revision>
  <dc:subject/>
  <dc:title>Focal Area and Cross Cutting Strategies – Chemicals</dc:title>
</cp:coreProperties>
</file>