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BE3E-F7F6-4AB7-8773-AF733415FA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D64-AEB2-42D4-8FA2-F8FD1F34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8FE-5159-4477-A0E7-C4E9F5B2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260-06B3-4147-A511-079C8EE9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3B9-DC13-40AB-93B3-C50D0E3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9F9-FDD2-459A-9346-E39393B7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78D-3F50-4D6E-9E58-F9504DAA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6D5-47B4-4E1D-8126-F1322773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AD6-E3A7-41E8-B834-0149C1F0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70A-5614-4919-A40F-59EEAB4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D62-2901-4F97-B083-A7AB726B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B35-0EDD-4625-AF46-D5B3AE3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EF8-8012-45C6-9F20-5C5E6435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084-8A71-4C51-98EE-167B3AF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97A-C25C-40FB-A598-B34CD4D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FDBE-A16A-4E31-B2EF-C80CB216C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  <a:ea typeface="Arial"/>
              </a:rPr>
              <a:t>Domaine d'intervention et de stratégies transversales - Substances chim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estion des substances chimiq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gestion des substances chimiq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end en compte les POP, les substances qui appauvrissement la couche d'ozone, le mercure et la gestion rationnelle des substances chimiques d'une cohérence acc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$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425 millions alloués aux produits chimiques. La répartition des ressources est la suivan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Ps: $37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zone: $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rcure et gestion rationnelle des produits chimiques: $ 25 m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B45-B0E8-40FA-B79A-4A89EF029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1976400" cy="525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bjectif 1: Élimination progressive des POP et réduction des rejets de PO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inq résultats escomptés de cet objectif sont développés ci-desso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tion et utilisation des POP contrôlés abandonnées progressiv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P exemptés utilisés de manière écologiquement rationnel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duction des rejets de POP dans la na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chets de POP prévenus, gérés et éliminés, et sites contaminés par les POP gérés de manière écologiquement rationnelle, 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acités des pays renforcées pour leur permettre d’abandonner progressivement les POP et d’en réduire les reje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B6F-C0A5-4C61-9F41-C3E11C458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f 2: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Élimination progressive des SAO et réduction des rejets de S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enforcement de la capacité des pays à s’acquitter des obligations du Protocole de Montréal et à éliminer progressivement et à réduire efficacement les rejets de SA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Substances Chimiques » po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 3: 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estion rationnelle des substances chimiques - Les activités sont destinées à soutenir les interventions synergétiques capables de  générer des avantages  plurisectoriels a travers des projets qui contribuent de manière significative à la réalisation des obligations prévues par les conventions pertinentes (y compris la Convention de Stockholm, Convention sur la diversité biologique, Convention sur la lutte contre la désertification, et autres)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 pour 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05720" y="4743360"/>
            <a:ext cx="2438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9040" indent="-3826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3: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tivités expérimentales de gestion rationnelle des substances chimiques et de réduction des émissions de mercure (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Démonstration des activités de réduction du mercure à traver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 l'utilisation et de l’exposition du mercure dans l’orpaillage(ASG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e renforcement des capacités de stockage securitaire du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réduction des émissions atmosphériques de merc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’améliorer les données et informations scientifiques au niveau nation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La gestion des déchets et des sites contamin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382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La mise en œuvre des priorités de l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ICM générant des effets positifs pour l’environnement mondial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. Les champs d'activités possibles comprennen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 plomb dans les peintu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echets electroniq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es produits  chimiques dans les produi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 du programme « Substances Chimiques » pour le FE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0:58:11Z</dcterms:created>
  <dc:creator>wb350798</dc:creator>
  <dc:description/>
  <dc:language>en-US</dc:language>
  <cp:lastModifiedBy>wb350798</cp:lastModifiedBy>
  <dcterms:modified xsi:type="dcterms:W3CDTF">2011-11-17T16:34:54Z</dcterms:modified>
  <cp:revision>72</cp:revision>
  <dc:subject/>
  <dc:title>Focal Area and Cross Cutting Strategies – Chemicals</dc:title>
</cp:coreProperties>
</file>