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CB68-E89C-4A44-8A33-26CB5E896F4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7E78-6724-43DC-811C-6ACFCAA6B0B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408-FF14-4D18-B295-4F4B6DBA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7E5-6D10-49A2-9F7C-05A448C5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0B7-D3B8-42BB-91CB-507C1765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A07-0DE1-4E3C-8A01-75CA7199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2D1-7E63-4D2F-9EF2-D18AF28B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EE8-2DBE-4ED6-B4A6-6533DCB4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4A7-4CD7-424F-9C86-7CBFDD24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6F3-6C5C-444C-863D-AA8D303C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CBB-7AF2-45ED-BAF5-AD860DBB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6D4-2EE4-4047-9412-2E76AA3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8EF-F450-411B-927E-8A5C701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EFC-3C46-4F87-BDCD-5196F3D7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668-EA75-4F4A-99BA-F893FE7F2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  <a:ea typeface="Arial"/>
              </a:rPr>
              <a:t>Domaine d'intervention et de stratégies transversales - Substances chim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Gestion des substances chimiq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gestion des substances chimiq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5640" y="14475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end en compte les POP, les substances qui appauvrissement la couche d'ozone, le mercure et la gestion rationnelle des substances chimiques d'une cohérence acc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25 millions alloués aux produits chimiques. La répartition des ressources est la suivan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Ps: $37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zone: $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rcure et gestion rationnelle des produits chimiques: $ 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EDC0-AC70-4EBA-8F97-468E02152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1976400" cy="525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13712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bjectif 1: Élimination progressive des POP et réduction des rejets de POP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inq résultats escomptés de cet objectif sont développés ci-dessou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tion et utilisation des POP contrôlés abandonnées progressiv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P exemptés utilisés de manière écologiquement rationnel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duction des rejets de POP dans la na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chets de POP prévenus, gérés et éliminés, et sites contaminés par les POP gérés de manière écologiquement rationnelle, 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acités des pays renforcées pour leur permettre d’abandonner progressivement les POP et d’en réduire les reje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ands on training Kenia 5 (foto Stefan)"/>
          <p:cNvPicPr/>
          <p:nvPr/>
        </p:nvPicPr>
        <p:blipFill>
          <a:blip r:embed="rId1"/>
          <a:stretch/>
        </p:blipFill>
        <p:spPr>
          <a:xfrm>
            <a:off x="6400800" y="1981080"/>
            <a:ext cx="2514600" cy="253368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7A8C-18F1-4974-B16D-6D490D28D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f 2: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Élimination progressive des SAO et réduction des rejets de S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enforcement de la capacité des pays à s’acquitter des obligations du Protocole de Montréal et à éliminer progressivement et à réduire efficacement les rejets de SA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Substances Chimiques » po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bjectif 3: 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 rationnelle des substances chimiques - Les activités sont destinées à soutenir les interventions synergétiques capables de  générer des avantages  plurisectoriels a travers des projets qui contribuent de manière significative à la réalisation des obligations prévues par les conventions pertinentes (y compris la Convention de Stockholm, Convention sur la diversité biologique, Convention sur la lutte contre la désertification, et autres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 pour 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05720" y="4743360"/>
            <a:ext cx="2438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9040" indent="-3826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bjectif 3: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 (sui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Démonstration des activités de réduction du mercure à traver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 l'utilisation et de l’exposition du mercure dans l’orpaillage(ASG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e renforcement des capacités de stockage securitaire du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s émissions atmosphériques de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’améliorer les données et informations scientifiques au niveau nationa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gestion des déchets et des sites contaminé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La mise en œuvre des priorités de l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ICM générant des effets positifs pour l’environnement mondial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. Les champs d'activités possibles comprennen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 plomb dans les peintu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echets electroniqu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s produits  chimiques dans les produi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0:58:11Z</dcterms:created>
  <dc:creator>wb350798</dc:creator>
  <dc:description/>
  <dc:language>en-US</dc:language>
  <cp:lastModifiedBy>wb350798</cp:lastModifiedBy>
  <dcterms:modified xsi:type="dcterms:W3CDTF">2011-08-12T15:34:11Z</dcterms:modified>
  <cp:revision>68</cp:revision>
  <dc:subject/>
  <dc:title>Focal Area and Cross Cutting Strategies – Chemicals</dc:title>
</cp:coreProperties>
</file>