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47B-D385-4BE5-83FD-5565D5D51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27D-56B3-4C81-93F3-4D7904D80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6AB-2B1C-4A77-85FF-D311403A4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C81-8458-485F-808D-98FFBD2A0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8C0-E8CE-4C6D-8373-4F9EA3CD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D17-630E-48C3-8794-72ECD9FC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62B1-ABD9-4139-B72A-9655484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1B4E-8E64-4A44-BB2E-CF81C616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AD609-E560-403E-8DA1-6F99816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BEB5-48D6-4533-A601-BFAB5DE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57B3-9AAC-4E23-BC82-9C5D802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0825-150C-4AE7-A76F-21C2023D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7E68-FA59-4701-A35A-9BDD15A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F46A-FDB9-42CA-A9EF-415A6107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C7B38-A647-4111-94B5-7E0E42FF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E231-782C-4661-B1DB-489D7CB4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809-2FA8-4F45-A121-BF8719E8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F94A6-E629-4202-9942-A6759C6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AE63A-3B7A-4011-968F-2DC1220B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F66E2-C7C0-40F7-AA83-565A5B9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6F09-17B5-4C1F-A985-B24FAED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75B88-5CD2-4B91-B1DF-A7761DB7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B2873-3408-4302-84F1-604F2E5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EE1D4-ECCC-4653-B1D4-0F6FAF3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EDD98-E168-4BD9-B574-AC3A248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3063D-4741-480B-B158-D7E8897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BFDE-78E9-4D3F-9719-61FFC1DC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295-B06E-488D-A850-4D8C4223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04EC2-8561-4864-8378-9A63B6F6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95379-468F-406D-83C8-EC820073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155F4-88B2-4899-9C0A-3E09400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1CD78-7063-40FF-AF20-A6D64E5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E2F51-2470-457D-9391-84E3411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32679-9625-4D4C-9C1C-197CBDB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A51E5-6CAF-484B-8583-8BCBADD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FE614-2607-4B80-A381-B51C696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8E11B-8899-4DD1-83BB-71197CB9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5356-095F-4B44-BA44-5F205A5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5D1AF-997C-42C0-8148-6D59F80A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F9FC-DC65-4778-A870-E50BA867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88D5D-DD25-4635-8C31-BDE3E79D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6D227-2348-4207-BCEB-5B7D026D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07A82-D001-4B3C-A214-FA48C487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9E3D-B0E3-42AE-A125-AF746E8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6449-7891-4A8C-AD8A-D2189CC2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54A60-B590-469C-B528-00C67A27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FA89D-D6E0-474F-898F-2F648BA7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BC33-6C19-400E-9CE5-B4B1D4D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1E96-EC80-46A4-AE41-CB6F723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2A416-81BC-4746-922E-FFA46CF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3699-66D1-4AF6-AE00-54EAB0E8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16041-C7F7-4CA2-89A5-43FDDA3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0BEE-20E1-417B-8D01-1F0D1B2C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9BEAC-C899-4FBC-9687-E3E0F377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10832-DAFA-4F59-88F8-AAF5CFD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FEBFA-2923-4858-9929-BF3439C7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73754-10EB-4591-AA7B-2268488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BCC62-28C6-417B-A124-71223C6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B9FB6-A576-4EF6-803B-36891CCA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FAD89-9567-4D79-BB77-C520B49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AEF40-81D4-4351-9592-9BFA497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0EDB3-5C78-4AF5-BEBB-F106350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D9A40-7E62-45DD-8CC3-741BB14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87B6-08FA-4E02-8931-7E2E5AED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F9362-DEF4-45A8-AD90-DF8FEF44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DEC-8690-4F93-90D4-B0493B3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651-B12D-4F70-B4BB-5A60BA4C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BFD3-AC2C-41F9-A307-8093D3C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8F9-6741-4FF6-A0E6-476113DF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12B-19BA-4393-AB48-C0E101A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E2C0-C52F-4285-B17F-4A174C2C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645-D71C-443C-AE57-6992835D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DAE8-FBF1-4E34-905F-7D361645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07260-1CAE-48EC-8FD9-FDC585D9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6D3F8-6CCC-4C48-95BD-3A82F69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1424E-D057-4D47-AE18-2D4F5BC5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B0942-D212-44E1-953C-B555C22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9FBB1-916F-4ADF-97B0-E630D63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3548C-6654-45A9-8007-9D2CD58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EE660-A113-483B-9ED5-631A885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FD9EB-1CA9-4BE3-840F-2CD8D7D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18C93-6C57-484C-9E21-8BD703E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3144-47A6-402A-94CA-DA1E84E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AD368-FB75-4A89-B662-82CD9DA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9F8BC-3F16-4009-B34F-138837AA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0DAED-C74E-4B53-8723-C61F6AD5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28B2-52F9-43EE-A282-A7C286F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914-0D8C-468E-AC23-0AD0FF8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048E-F6FA-4C8F-A5EF-BD021ED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CB1-F0A2-4870-BDA7-8145C4F1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083-8128-4671-9E0D-75FD2B17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E0C2-7BAA-41C9-962B-17C2EC5C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4375-EAD1-45B4-ADA1-132C135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442B-7983-40EC-BFF7-018FDD61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5C5-68F1-411E-A55C-1D417F08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DB49-B5B1-497E-B156-41D5D7D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9DD9-B671-4DFD-B209-E2051BBD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99E7-8483-4389-AC2D-D0754A32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8B7A-627E-4E89-BC95-0E0B715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6B84-8875-4A22-931B-3AA1AF8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344C-A1BE-448A-B06C-6B4FCC6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B950-EF0F-4799-9CFC-512031F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1DA1-A67D-4039-8CCF-F3E12C5E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FEA0-5F28-4C41-B570-64E4F292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D0AB-024F-427A-9979-2BCC59FB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FF6-6FDD-49C1-AC3E-B684E87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E297-B50A-4D14-85EA-9402D576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91D4-6E6D-4664-B157-5F4AB78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2762-A120-444A-9AF6-19778DB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D437-1CFA-4794-A0A5-4CD038E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D87C-3D90-4E6B-99E4-725DAC0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14DE-85D8-4A78-AE8B-C5265140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217C-FDD9-4328-8AEC-AA5F6F7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B127-B407-4D33-89F2-D0B53BE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9D82-D2DE-40B1-B9B4-C42DE41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6F83-C6B8-4122-8926-A84E0870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80B-5317-47C3-9FF3-0ED6F05A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D58E-3663-44B6-9B00-2AB51B7E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FCC5-CB02-4DB2-9427-BC032383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A306-E73A-4443-A020-55F71E33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F371-E653-4C72-9796-49CECE7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7E12-37F4-451A-A9CD-5063599D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29A2-3749-4E46-8666-41E2155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3B57A-0D05-4AA3-AAE3-6978514E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53AB-F95E-43C0-9650-AE3C1EB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BE30-F234-46DF-AA1E-34266CA9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AC45-9E6F-4702-9EE4-3B0193B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115-0F44-42A6-91EB-40E9439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8061D-1F37-49F8-ABF6-01D72E9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54FA-7173-4E30-878B-F4071B96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4508-974B-4A34-9CCD-C3920491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CF91-22A9-4E58-93AF-D475326E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1BB1-1955-47D9-A0A1-676BD21B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9015-1860-43C7-B546-B26C26B8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095E-E20A-46E6-85DF-616C4B7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02F7-350B-4591-A774-5D56CC4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3C03-6DC9-444C-AD15-AB8C9976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DDA3-6824-46CA-8A6F-DE9BF25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EA4-3C8A-4D74-862B-6C162CB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7498-9946-4985-96FF-A330E2A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D820-C584-4749-A6E0-BF77063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BE2B-04C6-4266-9E17-48A0FB8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281D-70E8-48F9-B22E-FEB96603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EEF3-2FB7-45BA-9CD3-CFA60D95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9A5A-9A14-4AC2-A8BF-4161D82B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0E69-24F4-4D2F-AF42-5802B0BF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F3CE-8A5D-4A3A-BFA6-E5CC4C1F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CA600-9565-4057-A82A-D610278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5EFE-66B4-45A7-B22F-23169DF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2EB-FF7C-4FB6-B9EA-C4CFACC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ADD6-6F92-4AC4-9A83-4E0E2CD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83C7E-ECF3-4DCF-ABAC-6FCF7377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5FE3-36D1-497D-9531-A1BA0BF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B956-1182-4A05-91D8-5A40FE3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28F67-F265-4E63-888B-74A0CE9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FB26-26F8-42DF-A90E-98901ED2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8AA5B-6363-4DF4-AFA0-0299891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FC87-8BF5-40B0-9689-DD7DA10E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914C8-5E22-4D38-94D0-FE9EF4B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21C33-F03F-40A6-9BC3-5983336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F81E-8A1B-4E57-A196-79E3B43EAE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3EC-F056-4751-9E1E-AA310947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C78-D039-48E8-A90B-65DD194F4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CA23-52C9-48BB-B909-6E2E03FA4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A36E-D2AC-457F-ACEF-D420EB718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843-B1A8-4702-94E3-EB08B9A29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266-99E3-4D6E-8327-F53C3761E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0518-E5A5-4FBB-9AC3-9E17D5B5A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C05D-B3DC-44E1-99C0-3AF8B276C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96E3-187D-480C-A3A8-6458EA3C5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8F6C-053D-4E26-8AF2-B56F23658B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AF8-2D01-4160-9612-376F87EFAA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CA3-30EE-486A-B438-1DA8B7B93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F479-3F55-4E88-8F6C-B5FAB690C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4D3-0032-43BD-846A-7091AD30A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EA14-7553-47BD-9546-E38C64F6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336D-3228-4E2D-9ADA-848322BA7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BBA-170E-4BD9-934F-B6C9452F0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B938-6B9E-4130-87C9-DAB6C9FF7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EB5-CC30-4D0B-8B02-C6A2209AC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44B-A9B6-484B-96DF-EB8AE554A8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4E3-DD96-4E66-A2D0-4ABC518BC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47D-3F2B-4BC3-977A-0F3CB8600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F1B-B026-4C8F-94E0-85AC1AB00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FFE4-FE5C-4EC4-B7E2-3E2589A0A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8A5-9682-446C-9297-090D1F92E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CA15-2851-4D98-8C6E-8C79710BF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8EE-553F-4714-A317-36A028C87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DA2-9DCF-419F-AEE0-AF078DAF2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3233-BE26-4D39-8B13-67D95B783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AA8E-05E0-4214-9FD2-CF943588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D9CA-9E05-4963-98BE-D7EBD3DD5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030-48A3-437A-88FF-B6BCE2D4C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D4E-16CA-4B97-B8D3-E474FC47B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6C5-2C58-44AB-ABC3-5DDE2E890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0:59Z</dcterms:modified>
  <cp:revision>745</cp:revision>
  <dc:subject/>
  <dc:title>Slide 1</dc:title>
</cp:coreProperties>
</file>