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92F0-9098-4F3A-B27B-5F51B4E46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69D3-A699-4F8B-BDF8-9F275DDD3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427-E702-452B-98DE-211D7B6A0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FBE0-6F87-4FE2-B236-030DB5E73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B81-BA54-4B64-9790-B18BB5C8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045-C558-4B4F-9DE6-4C0BC651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CAF46-1021-4BC2-9FD9-8A821286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65034-EEB6-4BA9-BBE1-60AB4BD0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6CCA9-FDAE-4A25-98AD-70D3D2FA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DE14F-8749-49CD-BF1A-4D881605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AB181-B426-4F04-BCC2-9B1F3FE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C2AD7-8C24-4EBD-95FC-86B5DD6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2258C-DBC1-4D5F-ACC7-5DF5CF6D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E011-D5FF-49A3-981C-634BFA38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456C4-4E7B-4CDA-8126-80F80379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46FBC-EF06-4A07-A312-DE1F67D7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41E-852F-430B-8831-D20D42B2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E9AA4-BD34-4EAC-8AD6-C4F85FB4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B82B1-DB9E-4E6D-934B-5CBDB415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04305-9D9C-4648-884C-187CBF20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56BA1-FDC2-480F-AAF0-352FEE11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1F0BA-146B-456D-82B8-09EF0DD0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FA288-968F-4D58-8D62-68C38DE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2A384-2F09-48D9-897B-22FC60C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D94CC-B51A-4ED5-9E41-C0EE366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F9390-E12A-4C0E-B811-3927F7D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5FECE-A6D8-4442-A775-5C10066E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C75-0F1B-4CF1-B30D-E5D5AF1B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D4E3B-B920-4622-98D9-FF910438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07D35-E944-4E01-A06E-061C0A62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4B12B-AA05-4E34-8FB2-9A826B3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E0664-69C3-49E1-9DD1-B5BAE917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477E9-039E-4386-A370-2341C922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B8180-9BCF-4382-88A3-711BC2BF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F30DA-619F-475D-9DDA-7AE97321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E9A5C-2669-48BF-BE49-3F407E2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20137-8B75-48AE-9FB8-71A95D20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545F6-C4A4-4F62-BF03-22624D1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04DD9-380D-44E8-A24F-39E7C7D3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1557C-8E76-42A5-9CF1-54206C2F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00F61-5794-4EBB-A7FD-E0C7D8B1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9EFBB-7AA1-4765-B31A-1CCBB547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34D3-3206-481A-9A2C-71CC9C88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474C6-66C4-4600-8D8E-E6493125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F040C-F1F5-48AA-AE0F-3BB18D0F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A5911-CA5C-446E-AC3C-4E15C817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7EDED-544E-4DCC-862F-CCF1D2C3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D8487-6128-4EB2-8879-E4FBF5F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FA099-9413-4CF5-ABE0-9801E37C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DDD0-BF2C-4B71-B5B9-6D1B08B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F0E3A-53F2-4F1F-AA32-836F5D10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1C1D6-BDD4-4C06-AAB5-27E72994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6900F-E1AF-418B-B567-91FD3301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25111-14E2-477A-AE75-2A3D9C1D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0E7C7-1D5A-4ED2-9558-6CB50946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0B755-CC31-4C03-ABF6-D18C63A0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1983F-D80A-4930-8BAE-4799494C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B5BD7-FC9F-4C00-9652-08F6FBD9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C52EB-22E8-4829-8F27-37F9D5C6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410D1-F119-4AB7-B8AC-5897385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47100-CC33-41E9-BB2C-CC482F17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7F0F8-B5D3-4D4B-942F-61640951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9F492-4407-4166-8DAB-2F2139F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14B45-006F-43F1-A1B3-72860ABC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ED59-8DAD-4FBA-8154-28504EF8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304-1782-4DBE-B7FB-58E52DCC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818C-6F7D-422E-902A-B6D60D91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115A-CE47-4F72-AE22-306463B3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C940-0F32-4FF5-B139-DF336E9C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F3A6-250D-4F22-8BAA-D82C9E0A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A347-B492-413F-8583-15078A00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349-63CD-48C7-983C-6C555264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5BB5-24AF-4052-A79A-5E250FCD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CBE7A-97F9-4C61-BBE7-5A4C7F0F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7021F-253A-4C35-A8D1-95CC5275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25726-1C6E-40C8-95DC-01CDAC4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62C73-C83E-4250-8E93-2B08063A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682FA-B909-4E43-A8DE-05CB00EF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7693C-DF75-44A6-ABB8-2AFDF8E5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272FC-E4AC-4DBD-895E-181DD634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F4E61-9FAB-4FAC-B79D-4BDCB51A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05463-56ED-4200-B595-FFEE8878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5254-3EBB-474E-9A29-84639E66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FECF1-332B-4D33-993F-89998BE9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D5C32-4FA5-4BBC-BBE2-3E8F3FC8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62179-23AF-45C7-AB7A-A42CA60E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6EB5-EF6C-4B92-9B6B-847232BC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312B-9036-43A4-8A19-091BF055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A8C3-BCEA-43F1-A8BA-6092513D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E822-12E1-4630-8BA5-E4455C74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44B4-8939-43BE-B4D7-4C699698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F2C0-027F-43BA-81D0-83F4B226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FF98-BED7-43FB-824E-EFDF88A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7933-1433-43D7-907C-0FBAA134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CC9-0A03-42D8-B13C-200F2A8C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A37C-9E7D-4C2A-B816-3015A2B8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D602-F17C-4B41-AEC9-66915D7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B0E1-444A-487E-90CA-FD06D758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0A81-35FE-4DB7-BA03-F04196A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6324-AD31-4BDB-BDE4-BF128AD3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8051-B17E-416F-A814-4455B3EF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71EB-BB0D-4178-9260-4DE324D2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CB52-A790-4B6A-A9A2-2B8802B0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C5C29-2899-4BDD-9176-8A9F1E86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263D-1124-46CB-8B5E-0394DC02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9DF-E785-40F4-84C7-CC3A8BB5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A035-38D4-492D-BB7F-E227E682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F0A5-7DE7-4E5D-9F22-8F15256D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40B1-4642-4DC0-89FE-9423236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5740-CEF0-4DEF-87AD-D4373BE1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A083-459C-424B-9E46-BF12AEB7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4E7D5-7F91-400F-BE55-D9135EC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6E84-9585-4FA0-8D6B-394E5E5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E25B-569A-4DBA-829F-D460C4E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7290-A00E-43E9-BD34-3CB80710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09A0-0CCE-4CDC-A75A-0AFCD345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3E4-38DF-4C1F-8282-133527F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5C172-DBAF-4128-965A-183419EE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AD475-8F1C-4A79-A643-7C801CE4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68F28-542A-49F0-8181-BE8B68D5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587C6-63D1-496E-AD45-FD1FFB2A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125ED-076C-4854-9B18-D8A247B7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6B06-E6B8-4247-8D1E-5B109A6B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E556F-8E99-47E8-8027-19D8654E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1949C-87AD-4243-896F-22B039A9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B444C-010A-4D2D-BB5A-DCDDD79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EDADF-74F7-4DAB-9EB9-B50F7206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A77-C0B9-4535-B933-13EE5986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D6FD8-8332-479F-9F86-4673B1F4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B07C-0BD5-46E0-BEFF-FCE62E3F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AA6C-CC3C-46A6-B90E-80DC3581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9587-8BBE-421C-9114-B1629CDA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D06B5-9059-4184-8358-230B8808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357F5-6503-4D43-BDE7-8AB9EC88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309E-5E68-413B-8F8B-395FC6E0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6ECDA-FEBE-43E3-88FA-4D88B697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2D4A1-5714-4992-A57A-2C8A2EAB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61DEC-14C4-4367-8A6E-34933EB7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58E-B017-4388-ACE5-8DB1338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0B2BD-D8E6-4F56-8AC8-C131A5A2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B9549-1578-4FEA-8F84-2FD24E2A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1FFC6-8EA1-4F51-AD40-A776B0DD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B744-05BC-4650-BE5A-68255BFF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39B3A-9C3C-4BDF-8BAD-8BD45F8A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A114C-C6CA-4CD5-BD0E-B173C449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604F6-5ED2-4D2B-A4F9-E6C1139B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E9D57-62B5-429B-81B2-EB24C79D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80B86-E7DC-4886-92D3-594BFFF1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ECFEA-EB1C-4ACD-B3A7-D8EB38FA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A48-8D37-4E48-96DD-4599C5FC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556C3-6427-4114-99F2-03991003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3E7A7-7B00-492A-88FE-B7CB2C2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D8F5A-76DB-4276-B472-C94435F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D8D94-ED16-4A53-BCCF-33B2AD70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6AFCF-6C79-474D-9E2F-AF031196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67788-0AD8-431E-8C22-A2C9873B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3F56-5C92-44D2-BC90-0E75032B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55644-7B70-4875-8E53-12491B28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1115F-47F2-457E-85F1-F6EC38E8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12445-0ECC-4F8A-9FFE-574C24BE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1C3F-60C4-4FF8-A5B4-14105D7E7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5702-3734-42A3-9935-9D6A77ED1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C105-451A-4B8B-A22D-24C54EE23D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6253-53C8-4408-A4F1-DD32A3898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2DD1-75CF-462D-A538-6D2C21DE62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E9B3-B3F4-4905-9712-1A99BB379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C785-B165-491E-AB2E-33E1AD260F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9D15-0DE1-43D6-8A40-E988F3074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2099-7673-4C4D-BAFF-184D77BD81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7A9F-8858-495A-BE6E-206325109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278E-88C8-4FAC-89CC-FE080FA1632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23F2-808A-4B87-981D-CB009229C0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079C-B5FF-45B7-ACC5-43015942A0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D4D8-6751-4E37-B32A-4AD2D9BA5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C2C0-7837-42EE-8CA6-8617F36DBF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6E53-1E27-4A0E-91BB-D56B60896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7ACF-BCCC-438E-A36E-2E0F87BFC3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C36A-F8C7-4259-BA4C-3AA7C4500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62A1-381F-4E47-9B38-D414F1D9C3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3831-727D-491F-AA4D-2D1F22D24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FD6A-3157-4123-9D6E-E1546A105D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B34-85AF-4F51-BEB0-D3F313D1D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52E-F1AD-4AA4-963B-7D34980270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4C50-E829-47A5-875B-DCDAE05EC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A884-7D58-4D7B-BFAD-8FA6FD28C6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A84E-A2ED-4539-B7A9-BC355BA87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DCF/SCCF Climate Change Adaptation Strategy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DCF/SCCF Adaptation Strategy 2010-201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tion is the proces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cing the adverse effects of climate change on human and natural system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refers to the efforts made to cope with actual change as well as the process of adjusting to expected chan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oal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upport developing countries to increase resilience to climate change through both immediate and longer-term adaptation measures in development policies, plans, programs, projects and 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mpac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absolute losses due to climate change, including variabilit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2D7B-1733-4708-ABC1-00591D12C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1DF8-5B65-4EE3-BAFA-057978215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educe vulnerabil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the advers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isks to economic losses through implementation of adaptation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118C-FA93-4143-8FDE-982550970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684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Increase adaptive capac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respond to th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within relevant development sectors and natural resources; diversified and strengthened livelihoods and sources of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AFDC-6A4E-498F-8A55-C3F007F8F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Promot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transfer and adoption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adapt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as defined under the Climate Convention (example: SCCF-TT Jord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5F8D-E55F-4AFF-86FA-A3BA048C5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vulnerable sector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griculture, food security, and water resources management – all highly relevant for efforts to curb land degrad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-trust fund, programmatic approa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LDCF and the SCCF promote synergies with other GEF focal areas, not least with land degrad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CAC4-43A9-4C53-9AAA-440937073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ing up adaptation throu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 and predictable financing of the LDCF and the SC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ammatic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ing to Convention guidance, developing country needs and independent eval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EAC5-D4F1-4526-A232-BFDC1A00A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novative Features of LDCF/SCC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9F57-93A7-4635-958E-5FE6F2B8B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TRUST FU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3581280" y="167652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DCF &amp; SCC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Global benefits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BAU Fina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MSP ceiling for 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ling basis approval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7086600" y="5151600"/>
            <a:ext cx="2057400" cy="170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C9A2-8592-485E-99D7-11025D5CD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12"/>
          <p:cNvSpPr/>
          <p:nvPr/>
        </p:nvSpPr>
        <p:spPr>
          <a:xfrm>
            <a:off x="213372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information, please visit LDCF/SCCF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20:40:59Z</dcterms:modified>
  <cp:revision>745</cp:revision>
  <dc:subject/>
  <dc:title>Slide 1</dc:title>
</cp:coreProperties>
</file>