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0E88-CC69-4D84-B080-A6159CC6F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D748-F651-4E87-A156-1F1F6401B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3CC2-F108-424E-86DF-BC35EBB36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AFD4-2B3E-47D0-ADC2-2BA4EFA64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7BA-3181-435B-88DB-329B986F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0A6-E5FE-453E-A673-7D8699AD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A8A1-8611-4259-878C-A08CC7F0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71643-B741-4EFA-B238-2F2E88E4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7225-E0D4-4B99-A596-17D9839E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329CD-76C1-4E7A-97F1-90D133C9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52D77-B5B2-4628-810A-A4C0DE7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AAC38-5BEA-4332-A4FA-6DD21F0A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49A1D-4302-42C5-9E45-42F9027B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3257F-8CE8-4AAA-8AF2-F893BEDD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5878F-D8A5-4E97-85D8-5875BE31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CAE24-05AC-4E10-8C6B-E9FB5881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9A2-DEE9-43D1-844E-73C33271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BD497-F508-4970-BBDF-E4F905D9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1AC2B-2253-4F0D-9D0D-031ABB6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4277D-290B-45FA-B3CB-9DDBCE5D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4540E-8764-4195-8A7D-9E1F93E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F5878-1D94-414C-A592-25B61777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9ADE5-0C40-44F0-88CC-2A6FBB00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C2C1C-9CD8-466B-90FD-71C3194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0D6F2-BFF5-48FF-8BC7-BC044534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9A877-613E-4C44-ABC4-C7DB2FDD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FDEB8-B8CA-4295-AA76-E6B81CE9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3A9-3A67-4796-9EC9-47E61665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97D92-8318-4061-A4A1-9D7CE05E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64F55-6367-432B-A59E-309A4F18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2EBA5-A47C-430E-BB12-BEB63EC0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038A3-DC30-4450-93F5-95B741D1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B4D6D-D67F-4CC7-92EC-F0D53992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B47EB-D3E8-4645-A960-7FF570AF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F9D7D-DF98-47E8-BD11-6B5BEF0F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8FA85-10E0-4CA8-9592-52B90CB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69910-3396-40F5-8F53-27E4FCB4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2A4F7-FEAE-4B7D-95DF-595473B4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BA7B3-E107-444F-83F2-1F333571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3C944-CDF2-41D5-9F0A-3B4E80D7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29913-0BED-4F28-90AA-D7DF01F2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C4625-48EA-4E8A-9C64-323B3A1E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A57F7-E5CC-4859-B03A-975B966E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3706C-2622-456D-B2B3-538465D0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4DF82-DBE0-45A6-973D-23951532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42006-FA2C-4826-892D-D51109D1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50E58-DE2F-4628-A083-334A0FC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CD0E6-23BB-44DE-9A7A-E834BA70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9838E-AA22-4AA9-B51D-9AE8926D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258C9-738F-4E23-B380-FC62FF7D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4A483-F9E1-40A0-BDBE-C6DAEFCD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5BC10-0727-4F8D-B12F-EA2B9067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73A43-AC6D-46AE-8445-1CA950E1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F3D86-5869-4CC0-AC77-175F3915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AD93B-C45D-4641-91E7-1A80F991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8E9F8-3B6C-4B29-A77E-25A9E7F5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BFAE6-1CE4-4F8C-BAA8-5A8C7060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4D58C-8A86-4843-AA90-72CED0B7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5F9DF-6AB6-4B57-B12F-575C2FE9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2D474-5C8D-45AB-BBCD-29D0330F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BBAC1-1864-4DF4-8A21-E49F5D9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8D80E-568A-432C-82F2-54241CF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0DF84-CC5A-4B10-B636-3A79AAB5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633BB-45D5-4A74-AD5D-76292A0F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41A2D-3C2B-478E-86A1-2D063B04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293-73A1-4C6B-AB17-C95C76A8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63BE-361F-4F93-8F00-8B2044A2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3A69-5E0B-46E4-B460-2CD47CEB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379B-5935-4D43-ABC8-9AD2A549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3A3F-2A4D-4171-AAB3-F19D618A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7185-8646-4C78-8AFF-1BAFCB4F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CFE-D2DF-4DB4-BC51-6BC43606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0AF1-D1C7-4D31-B03F-4E629C8F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B10F2-EDD2-43E1-9415-9D68A422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9D54F-432D-4BA0-B5C6-7E23DC0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A2768-8D65-4EC2-9957-D8B808CD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7C80D-3F27-4590-BC9E-B3CE638C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0EBED-1C0A-4CDD-AD23-0EF5927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CBE6C-1264-4340-B022-2536AA00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6F685-E276-499A-9430-53441E8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FAA7D-2D24-4A1F-96AF-5806F228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56F6E-E7DD-482A-9B16-5514A852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6E85-FADC-4EA0-92D0-95C41F5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C3EA4-A4EF-4131-AE9C-D4B881F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D974E-B499-415C-838A-D99A5DF1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0782C-BD51-430B-B286-814ACAA0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8304-DC60-4E9A-89B3-1DF445A2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C704-10A4-4D4F-83F5-149048B5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C53E-C208-485D-98BF-604BF8B7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70FA-4DB3-4446-839B-7F980121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BE3-B23D-42B2-AA81-17A4D563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5501-3B47-462E-A0E9-2A7283AC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805D-E5F2-4D65-B788-1BB6F5CA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D0A0-E93F-494F-81DB-B3FC3B37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FFB-39F3-4C95-BC3D-65236955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00C7-FA92-4358-AE9D-F382C214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6E67-C21F-493B-AEB6-6941D143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D7A6-F1BD-40F9-A0B3-7973604E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66D9-FA5D-441D-9049-70E5C6AE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53D7-3A4F-463A-A86E-1808D013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AF8A-F145-48B5-BA06-AEB51B3D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5DCE-F940-4625-BBE4-D1C4AEB3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BAC4-CC25-4608-8C46-686CB431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BA9CA-EFDE-4F40-B1CB-60A22095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6855-A371-4C6D-BC31-5CB538D4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DF6-6C91-4377-934E-A7AB7588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1FF7C-7C57-468F-8923-1117BBBF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4905-B63B-4A2D-A355-E4F43DA3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8007-5478-43E5-BE0C-A52C467A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4C1A-AEFE-44A2-8385-D2F25F1E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D066-0807-43BC-9ECD-A0BB66A3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BC8A-2036-49F4-B68C-0EB00AC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BDE85-F0EE-4C82-86FE-DF71343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A5B57-19B2-4191-8087-140BFBE1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24E49-4A79-45B2-9798-6137CC98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5205-18FE-4EA9-84CE-8EF70F0A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D89-62E6-48E0-B867-C2C16955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7349D-7E6C-4867-ACA9-0076BE20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0547A-C930-457F-A2B9-1C0AB77C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46E3-5EAC-4951-B31F-B0C907EA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66000-147E-42F5-B775-48AAB565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DC4B6-28C6-4A78-8E19-38FB31DB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F7306-7718-4338-A90F-7316500C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87162-2733-411F-A647-20DC080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BA598-9137-4352-A640-22BDD748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1D616-E7EE-4756-9D11-BE7A5CF6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BBC36-ADBC-495F-B513-CC11E3D7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71D-9A6E-42CA-AC3E-EC8D781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48F5-E18B-4DA3-8859-8340A9AF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A1CF-E1A3-449B-8B12-D4681969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BE3B0-62A3-450F-8111-3BBFD195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6157A-846B-4620-A823-27A39077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E86C4-7FC8-4D3D-B372-3AF789FA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DF72-EC71-45DC-B1DE-D231EF26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1F635-259C-4FD0-BA72-AAD1DA2C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30BDB-B35A-46A9-8178-A18E056D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51453-AEE5-4C67-B341-4A03E7AE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066DD-EE4B-47C7-AA81-DFFEC2BF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BED-2905-4ADA-97B1-45D60DB1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73055-21BA-41B8-8D3E-E0FCB816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0697F-D02D-4808-B826-3A856D5C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BB4F-6360-4812-A1C6-5DEA4117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37723-553B-4028-8BCD-78201238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41E4E-97FD-4A95-9241-4C85C38F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98DF9-D4E0-44AD-B6C7-324961B2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53D03-F49D-4CA0-A9B9-D28F76B0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09E0A-CBF9-4587-869A-6E208E85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30A8-9ADC-4871-9A0F-AB74D44F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5BB9B-9782-4C67-967E-4CD98EC1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074-10A0-46CF-9B07-2B2CA99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3BE6A-B689-4929-A30A-73C5192E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212BF-5233-406F-83A7-68ACA92D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DFA88-AD65-4058-B1A9-FF65CCDD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DFA79-ABA2-454C-966A-10625CAD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17D7-FDF3-458A-931A-06ED926E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6A51B-C827-45C5-A60B-F1219A65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7A16-3AF5-44D0-A606-5092C6BD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646F6-6FB4-479A-9920-522C902E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FB444-FBF0-464D-8132-F10B160D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4AF0C-9BF8-4612-B197-7B61E847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4CF8-4C3B-4A73-B4CF-31662E8DF9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7B13-375F-4F3A-88D3-D32E0B74C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8ADE-BE03-495A-AA18-8986DD93F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9DF0-945E-421D-B2CD-850EFDD16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DB53-04F8-491E-A72B-0037BE0DA1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C408-B781-49B5-A102-1F2D31988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16BA-E978-45ED-AB1B-8CE085ADA8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4DC7-F36B-4E78-BF3D-EDF419221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23D4-3FB0-4D75-8F31-F2DACE1709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D179-B32F-45BE-B10C-D6683814C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49BB-2231-4296-87E9-D713C601F02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7A33-A0E7-4CF5-B5C4-DF523D5799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581C-AE5C-433E-BFC9-B367A3E7EF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553B-ABE9-44BA-B629-BAAA0BBED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2228-EFCC-4419-88C8-CE13A73AF7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50BE-198D-4255-B4E1-649E2D101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3BDF-7446-4031-8E16-FCFDA64ED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74C1-534F-4F36-9293-A4BDD6EC1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1CCC-C981-4B2E-840F-D50F897424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918A-F6D6-48E5-B78F-616652232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6C4F-3F7F-4B67-8EA8-DDE3A3164A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2755-D215-4710-8336-162EEAEA3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4DBE-12E3-44B6-B8AA-DF1463B87E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7C46-8096-4FB8-84F2-11DDC71E4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05F2-2B27-4980-BF35-119CB3908C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83A1-FFC4-4604-81BE-35325DB4E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DCF/SCCF Climate Change Adaptation Strategy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DCF/SCCF Adaptation Strategy 2010-201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tion is the proces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cing the adverse effects of climate change on human and natural system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refers to the efforts made to cope with actual change as well as the process of adjusting to expected chan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oal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upport developing countries to increase resilience to climate change through both immediate and longer-term adaptation measures in development policies, plans, programs, projects and 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mpac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absolute losses due to climate change, including variabilit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294D-C291-4BCE-A539-F827E734D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7E63-7C9D-416C-83F6-F8B767EE5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educe vulnerabil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the advers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isks to economic losses through implementation of adaptation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D61B-0415-4FD2-B61C-473846C2E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684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Increase adaptive capac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respond to th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within relevant development sectors and natural resources; diversified and strengthened livelihoods and sources of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751B-D1DB-45A1-8A3B-E77E236AE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Promot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transfer and adoption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adapt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as defined under the Climate Convention (example: SCCF-TT Jord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DA11-00D2-412B-8B56-5691CC9F4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vulnerable sector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griculture, food security, and water resources management – all highly relevant for efforts to curb land degrad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-trust fund, programmatic approa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LDCF and the SCCF promote synergies with other GEF focal areas, not least with land degrad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2007-806B-45B2-9DC9-CED28563F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ing up adaptation throu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 and predictable financing of the LDCF and the SC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ammatic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ing to Convention guidance, developing country needs and independent eval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474-A2BF-4F10-A2F2-124537A51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novative Features of LDCF/SCC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1D9-6C57-4196-81B3-F2AC3BE7C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TRUST FU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3581280" y="167652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DCF &amp; SCC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Global benefits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BAU Fina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MSP ceiling for 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ling basis approval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7086600" y="5151600"/>
            <a:ext cx="2057400" cy="170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EC46-8AAE-4B44-A180-AB47120FB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12"/>
          <p:cNvSpPr/>
          <p:nvPr/>
        </p:nvSpPr>
        <p:spPr>
          <a:xfrm>
            <a:off x="213372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information, please visit LDCF/SCCF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17T16:23:14Z</dcterms:modified>
  <cp:revision>746</cp:revision>
  <dc:subject/>
  <dc:title>Slide 1</dc:title>
</cp:coreProperties>
</file>