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wmf" ContentType="image/x-wmf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dt" idx="40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move the slide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 type="ftr" idx="41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PlaceHolder 6"/>
          <p:cNvSpPr>
            <a:spLocks noGrp="1"/>
          </p:cNvSpPr>
          <p:nvPr>
            <p:ph type="sldNum" idx="42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39177-AF99-4372-84C4-F2A2783DEB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3A9BE-58E2-4E4F-8E67-13B085F0C5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02692-79AF-41A6-9F61-08C5FC11C2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&gt; Not repeating the scientific evidence and economics 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k advice on timeframe, modalities, possible size of voluntary contributions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ote language from COP12 asking the GEF to finance adap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0AD95-C2C6-4AF0-B3A6-081E40B4E7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A487-D25D-4746-9B00-E41B19289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67D6-DB70-4D7F-A0A2-29B3A8C73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BBA603-AFFF-431A-83EA-178DE0F6F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8797FF-A9F7-47A3-919F-5C05A1C66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4F92A9-8522-45EE-A0D9-105055F03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88E449-981B-486C-A64F-C89C6845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E6D6A0-6868-4588-A138-19D013E3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641025-5F0E-456E-93B1-C3841E6F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2DDDD2-44F1-4334-9FD1-F1950636C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98B412-8B30-4628-8C79-E0941B620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C5D139-31ED-4576-AE5D-9605635E8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8023F5-F908-40C4-9D53-E6453BB7D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43EE-9F12-410E-8E48-896CEA259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D7E3D5-4C26-40A5-B451-A529EE18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77D5CB-F3A1-415E-AE1C-6F72A0CB8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8FCAB1-66FC-4CDA-B5AF-1276BA1E4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4A1817-DFCF-44E0-A895-A5F270344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19B4CE-E579-4143-8CBA-6F5A9C717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DC68AE-F84C-44C7-82BB-E3C3C4DB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5FE8CB-C3E1-4A61-9BB1-FF072B54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902E38-A9F5-41AE-8240-D6934E1B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0D49CC-9136-47DD-98DB-2599F4554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E1FC71-2BC9-4C6C-9D72-D97915FD2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0B30-17BB-4524-BB01-F698E7BCB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5E2497-426B-4205-BFA0-A48354F2D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F53529-D4E9-4AC6-B00C-BDA7D1A1F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B88DA9-B2ED-4A8A-BFFA-B3F846D91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9113B9-0F20-4060-87D0-FF2C1B514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2494D0-585D-48BD-8DCC-59175850F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217A74-911B-4FD5-9520-78AD16978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B77F10-C267-4AE2-A0DF-4FC80F022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E3A7BE-0B54-463B-8ED8-5B70577A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1295A9-F75D-4F0D-8E37-72873536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E971C1-C3B2-442F-A872-E32AF7D8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844A66-8D1A-44F0-B94D-B455ED73C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4A1DCC-6208-4546-B12E-FD4D7FCA5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078A6A-7529-49DF-9020-DD08C6619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9108F9-B124-4399-9084-48F9F55D5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E327DF-39F4-41C3-91D0-73172B501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4EB00B-6BE9-4BE7-816C-870E0CE9A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ACEF03-1E33-47E5-9329-B35245AD3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6F6990-B231-4B94-A6B5-F69A2F8E4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DA91B9-81E4-4571-9020-F6999B15A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D3E97D-3131-4FFF-8D23-C0DC378E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BF72C3-9B81-4421-B5FC-57055EB4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D5B521-80E3-47A4-A0B0-0CB09D09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DF94C9-84F1-49F6-A07A-456C06A2E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9165EF-34BD-40C9-8720-7ACC9D6F0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3765AA-5143-43B3-8CD4-F6A80FC8F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45B295-9CB0-48A1-AD14-1B1DC4894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113356-5E48-49F3-B9E2-4DC9E2788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708AAE-0A15-433C-A460-8FD932CF2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214FD5-ACD9-4901-8E1D-6EE83B140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3160FF-5A4C-4589-815A-133109CB1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20AD99-AD57-4F69-B546-1CF072B06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ECA37E-90A2-4A78-AD88-8C8FA93D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4AE229-6D83-4E3E-9A1F-2A945293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72F5F6-F7F1-4589-BC56-B3ABDB27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8B0535-6027-4DC4-83E6-0AB6A08DF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A7E0AC-CEEA-4628-8F6A-CEC0945CE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1C9932-A592-423B-B717-0A093C456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6817-1CEE-41CF-9A68-33DE0AF65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59D55-5652-4297-A179-C4B963C20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C1BFE-B120-49DA-A4F8-E356EE5E3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B6F20-FB52-431F-AEA2-0A0815A86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E1157-ACE2-4125-9E6A-483AE2079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F388F-43BE-48DB-BA2D-2F39E1FAB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18C3-D561-4E9D-B1FE-67E6F050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9EF75-03F1-4225-82F7-02B88E54D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453AD3-5329-4C47-9D54-03728E98F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1F5757-D1B3-4F21-9DEA-C58E09DF4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84A6B3-1E70-4DF9-9462-1A3936896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8A60D5-7F70-4DE8-BDBB-E37D2E09A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249552-1E5A-4494-9507-7ED61D7C2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299694-D91F-40CA-80E6-CC9E4DBCE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9F41D9-4DA4-4BF5-9935-4EB469A8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0183D9-378C-45A2-8721-950B15C5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82545C-A33C-4AEF-8FAA-AFBB4873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A6C89-FAEE-498C-BB7B-B1D16B7F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3ECA1B-3248-4478-9F6D-6B0C33F54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09C642-B077-4E24-8197-85B7431B4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78B6F3-3DD0-4B54-95DA-76C54547D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AD171-EF50-4B0C-BDEF-3390913C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F207A-A197-4737-9A2C-3CFA0E2E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2C256-36FA-44B7-9903-D4625E0B5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F4685-EFCB-4497-A5BD-ABC25C05D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2A9B1-F393-4853-89D1-D1FA924A5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197C1-F54F-44AE-B2EB-8CAF87983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42A13-A257-4989-8180-FFA5F8B9D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05399-3D47-46BA-8BD2-79006C999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5FAA-801B-447C-A6DE-AB07B927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12EBA-1AA0-4C5A-AD05-673954F23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72DBF-B5E2-4D7B-9959-6405E1200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00C27-C2E9-4D39-95D8-DA7B20807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465CE-E293-4D73-A2A8-4C993206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24E0C-6918-41DC-9DC4-3B93EFC7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B6C6F-77E5-4E44-9B90-4E7B8BE4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8B694-527B-4C35-8976-D50B3DA0D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AB6EC-B165-40EF-B3F5-23D4DD4DE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BD83D-A0CF-470A-9E44-C93B7968A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D3D33-B7DC-4F92-B4BD-34AC7D926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9B45-7911-4F15-9C3B-4E1231247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DDC4F-78B2-40EA-9641-84CDF4E71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5CD52-98AE-4535-9660-B66C9BC39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99E0F-281F-4F13-A6CF-81761347E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3F617-6225-4A6C-A1F1-712A0957D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CD614-7348-4EA3-8D32-BD375B9EA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E6BBB-1886-4962-ABF5-A806EF62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FAAE2-6B03-483A-9104-937E38C6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37E20-EB49-4B8E-918E-2CAD659C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30CFC-9219-40CC-A8AA-E923E664D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DAFA7-5BFB-4D9E-847B-ED98D8095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6F70-7E7E-44C0-A716-A33538529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8F5A3-15BA-4583-BA93-7289C3A7C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E9DC6-1A78-4E64-A590-BF792178E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EC5E8-65D0-4F40-9DDB-4D6DE4411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93C08-09A9-4721-89A3-1A12743AF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E86CE-8F48-4750-BD2B-1F42D65B1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2CD5B-6F53-44E9-824E-FC54B6BBF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6A931-9D0D-4EFD-9AFC-1AB470677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9DB1F-05F8-470E-BB5F-02743227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5F88E-38B3-41D2-A073-B68BE256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EA7E2-5F47-4924-9625-A2838565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EB17-BA2C-49AF-9B3A-8D51AF9C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94DDC-4EF1-433F-BCF7-FBF66EF46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BDA8D-1455-4C06-A68B-294C066F4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05CA0-0F93-42DF-A2F1-C645D1A24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2EA47-8648-4C34-A198-2AE2581BA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4D86BB-682C-4061-B34F-EF77D1907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48AF8-98B2-4FC4-B7BA-705C124CF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38C23D-4B68-4ECA-BDEC-C4226C923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06A17E-671B-4D8A-824E-331651EC3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C651DD-3657-45D0-8C4C-FD2196E22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FB18E-EA3D-433D-A4CB-593F8AA1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EBB0-3EF8-445F-ADD9-1E35CC48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F5D9A-E406-4602-99FD-31D30B36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15CAE5-F105-44DC-A87A-7D0C1A13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2F718-85CE-48FA-A926-9E16DDF55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5D20D-1EA1-4488-84B2-280D7A7BF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4849DE-0FB9-4656-A168-85506A075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BCFB96-2AAB-4892-83CF-4E3160518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60DF4-7B4F-409C-B7E8-8B88AD261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69BA59-122B-427C-9C5B-D2D901111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DA8113-62B5-40BE-BDEF-136D0CFD3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ADE05-6E2D-4A47-B714-5D95367E9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1693-7FDD-435F-8374-EF1F6DD5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C6E92-212D-4E55-99D3-293EF71E9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EABD4-2D4D-4183-9F8F-3E1E3AD4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9AC4E-9739-4C13-91A0-96932879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FD88B-ADBF-4ADA-AD1A-426E07D4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70826-4CA5-457D-BCB9-2FED5CC94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EE1F71-D92E-4C6B-9347-C41E64A6D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681633-A5E5-449E-9281-E21A774E5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A696BA-0848-4110-A14C-150045546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3A07A9-EF43-4A50-9044-B03CB20AB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DFF4F0-EC35-4A13-B446-785B6BD3C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C85BB-6755-4AF8-9BE7-B4E2534279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8731D-76BC-4F55-A12A-9654C7D7C4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33F27-6BB3-4187-9E2F-CD21A6CFCD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D931E-8446-4000-B9DA-006359856E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922C5-32EC-4CC7-81CC-925C6F747E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3962A-5DFF-4518-9106-136C1874A8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3BB17-D766-4AC1-B562-2610F00EB13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B8E0D-9296-4184-9037-FC1F065423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54D1E-A03E-444B-AE21-26B12C5C1BC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BCA2A-6191-46DC-AAFE-B063028C2B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2424240" cy="53352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43" name="Picture 13" descr="GEFlogo_short_White"/>
          <p:cNvPicPr/>
          <p:nvPr/>
        </p:nvPicPr>
        <p:blipFill>
          <a:blip r:embed="rId2"/>
          <a:stretch/>
        </p:blipFill>
        <p:spPr>
          <a:xfrm>
            <a:off x="152280" y="152280"/>
            <a:ext cx="978120" cy="1100160"/>
          </a:xfrm>
          <a:prstGeom prst="rect">
            <a:avLst/>
          </a:prstGeom>
          <a:ln w="0">
            <a:noFill/>
          </a:ln>
        </p:spPr>
      </p:pic>
      <p:sp>
        <p:nvSpPr>
          <p:cNvPr id="44" name="Freeform 18"/>
          <p:cNvSpPr/>
          <p:nvPr/>
        </p:nvSpPr>
        <p:spPr>
          <a:xfrm>
            <a:off x="698400" y="952560"/>
            <a:ext cx="9207720" cy="266760"/>
          </a:xfrm>
          <a:custGeom>
            <a:avLst/>
            <a:gdLst>
              <a:gd name="textAreaLeft" fmla="*/ 0 w 9207720"/>
              <a:gd name="textAreaRight" fmla="*/ 9208080 w 920772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5800" h="168">
                <a:moveTo>
                  <a:pt x="0" y="144"/>
                </a:moveTo>
                <a:cubicBezTo>
                  <a:pt x="2188" y="156"/>
                  <a:pt x="4376" y="168"/>
                  <a:pt x="5088" y="144"/>
                </a:cubicBezTo>
                <a:cubicBezTo>
                  <a:pt x="5800" y="120"/>
                  <a:pt x="4408" y="24"/>
                  <a:pt x="4272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3"/>
          <a:stretch/>
        </p:blipFill>
        <p:spPr>
          <a:xfrm>
            <a:off x="6172200" y="6095880"/>
            <a:ext cx="2770200" cy="609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C6674-E43F-406B-9CC8-D8DA988370DF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8DE4-3923-4341-8E49-F260D41A57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123F9-5AB0-49B2-8146-17D184347A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DAA80-3A0F-4F66-91CF-DE699A2FE9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5104E-5307-4DDD-83A8-FD9483435FC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FFB3-42D0-47A4-8B5B-91F2BD79CD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63E69-8AF1-4977-A756-51E6E2C20C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745E8-35E8-491A-9CDB-A8BC5E38D5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127AA-0307-441A-A12C-599C55BEA7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C4ADC-58AE-454A-9D96-3ECFA9F280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63F2E-265E-4158-B2E7-CC87AE2C90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BA661-AEDF-4CE2-912D-5C6AC126AD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8155E-315F-4E37-AEB5-839E6A5847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8F51B-2649-455F-9B8C-0BBFCA856F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BD32B-9599-4558-80BB-068971C04E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8C415-C0E2-4AB5-9741-59D66270B9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hyperlink" Target="http://www.thegef.org/gef/ldcf" TargetMode="External"/><Relationship Id="rId7" Type="http://schemas.openxmlformats.org/officeDocument/2006/relationships/hyperlink" Target="http://www.thegef.org/gef/sccf" TargetMode="External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LDCF/SCCF Climate Change Adaptation Strategy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subTitle"/>
          </p:nvPr>
        </p:nvSpPr>
        <p:spPr>
          <a:xfrm>
            <a:off x="914040" y="43434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25 – 27 October 2011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Nairobi, Kenya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DCF/SCCF Adaptation Strategy 2010-2014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"/>
          <p:cNvSpPr txBox="1"/>
          <p:nvPr/>
        </p:nvSpPr>
        <p:spPr>
          <a:xfrm>
            <a:off x="456840" y="1219320"/>
            <a:ext cx="5334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aptation is the process of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ducing the adverse effects of climate change on human and natural systems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t refers to the efforts made to cope with actual change as well as the process of adjusting to expected chang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Goal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support developing countries to increase resilience to climate change through both immediate and longer-term adaptation measures in development policies, plans, programs, projects and ac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Impact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duce absolute losses due to climate change, including variability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36520" indent="3319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36520" indent="3319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75709-F56C-4581-8411-9827F39D45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4F709-74FD-4526-B318-6EF6D699AE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6" name="Picture 8" descr="Vertical harvest Vietnam replenishment.tif"/>
          <p:cNvPicPr/>
          <p:nvPr/>
        </p:nvPicPr>
        <p:blipFill>
          <a:blip r:embed="rId2"/>
          <a:stretch/>
        </p:blipFill>
        <p:spPr>
          <a:xfrm>
            <a:off x="6172200" y="1598760"/>
            <a:ext cx="2971800" cy="5259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LDCF and SCCF Strategic Objecti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"/>
          <p:cNvSpPr txBox="1"/>
          <p:nvPr/>
        </p:nvSpPr>
        <p:spPr>
          <a:xfrm>
            <a:off x="685440" y="1143000"/>
            <a:ext cx="4724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Reduce vulnerability 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to the adverse impacts of climate chang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– e.g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duced risks to economic losses through implementation of adaptation meas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2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5E16-B364-4E0B-A1B8-1F575FEA04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0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2" descr="C:\Users\owner\Desktop\water-wars-in-the-andes_1.jpg"/>
          <p:cNvPicPr/>
          <p:nvPr/>
        </p:nvPicPr>
        <p:blipFill>
          <a:blip r:embed="rId2"/>
          <a:stretch/>
        </p:blipFill>
        <p:spPr>
          <a:xfrm>
            <a:off x="5715000" y="1219320"/>
            <a:ext cx="3429000" cy="5638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2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LDCF and SCCF Strategic Objectiv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"/>
          <p:cNvSpPr txBox="1"/>
          <p:nvPr/>
        </p:nvSpPr>
        <p:spPr>
          <a:xfrm>
            <a:off x="456840" y="1599840"/>
            <a:ext cx="487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2.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Increase adaptive capacity 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to respond to the impacts of climate chang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– e.g. within relevant development sectors and natural resources; diversified and strengthened livelihoods and sources of inco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EDF99-3AE0-40D4-8D9F-2BDB3DF082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6" name="Picture 4" descr="Bhutan"/>
          <p:cNvPicPr/>
          <p:nvPr/>
        </p:nvPicPr>
        <p:blipFill>
          <a:blip r:embed="rId2"/>
          <a:stretch/>
        </p:blipFill>
        <p:spPr>
          <a:xfrm>
            <a:off x="5472000" y="1752480"/>
            <a:ext cx="3672000" cy="5105520"/>
          </a:xfrm>
          <a:prstGeom prst="rect">
            <a:avLst/>
          </a:prstGeom>
          <a:ln w="0">
            <a:noFill/>
          </a:ln>
          <a:effectLst>
            <a:outerShdw dist="241321" dir="2700000" blurRad="0" rotWithShape="0">
              <a:srgbClr val="262626">
                <a:alpha val="5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7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LDCF and SCCF Strategic Objectives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"/>
          <p:cNvSpPr txBox="1"/>
          <p:nvPr/>
        </p:nvSpPr>
        <p:spPr>
          <a:xfrm>
            <a:off x="457200" y="15998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3.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Promote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 transfer and adoption of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adaptation technologi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– as defined under the Climate Convention (example: SCCF-TT Jord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323FF-87A1-4E0D-8F87-6604A2BAD8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1" name="Content Placeholder 9" descr=""/>
          <p:cNvPicPr/>
          <p:nvPr/>
        </p:nvPicPr>
        <p:blipFill>
          <a:blip r:embed="rId2"/>
          <a:stretch/>
        </p:blipFill>
        <p:spPr>
          <a:xfrm>
            <a:off x="6019920" y="1752480"/>
            <a:ext cx="3124080" cy="5105520"/>
          </a:xfrm>
          <a:prstGeom prst="rect">
            <a:avLst/>
          </a:prstGeom>
          <a:ln w="0">
            <a:noFill/>
          </a:ln>
          <a:effectLst>
            <a:outerShdw dist="203137" dir="2700000" blurRad="0" rotWithShape="0">
              <a:srgbClr val="262626">
                <a:alpha val="77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oking forward: programming under the LDCF and the SC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"/>
          <p:cNvSpPr txBox="1"/>
          <p:nvPr/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vulnerable sectors target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agriculture, food security, and water resources management – all highly relevant for efforts to curb land degrada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ough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ulti-trust fund, programmatic approach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the LDCF and the SCCF promote synergies with other GEF focal areas, not least with land degrad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EFF8E-DAFD-4F64-8EFF-1332B85822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5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oking forward: programming under the LDCF and the SC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aling up adaptation through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obust and predictable financing of the LDCF and the SCC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grammatic approach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ponding to Convention guidance, developing country needs and independent evalu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C457D-6FD1-4403-8B79-95306EF62A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9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novative Features of LDCF/SCCF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"/>
          <p:cNvSpPr txBox="1"/>
          <p:nvPr/>
        </p:nvSpPr>
        <p:spPr>
          <a:xfrm>
            <a:off x="838080" y="1218960"/>
            <a:ext cx="792504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36520" indent="3319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236520" indent="3319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9D33A-888A-4986-B257-9AD0297361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3"/>
          <p:cNvSpPr/>
          <p:nvPr/>
        </p:nvSpPr>
        <p:spPr>
          <a:xfrm>
            <a:off x="990720" y="1670040"/>
            <a:ext cx="3622680" cy="33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GEF TRUST FUN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mental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lobal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-fina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4"/>
          <p:cNvSpPr/>
          <p:nvPr/>
        </p:nvSpPr>
        <p:spPr>
          <a:xfrm>
            <a:off x="3581280" y="1676520"/>
            <a:ext cx="457200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LDCF &amp; SCC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itional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Global benefits requi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S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isting BAU Financ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gher MSP ceiling for LDC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lling basis approval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DC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5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7" descr="Woman with wood Burkina Faso.tif"/>
          <p:cNvPicPr/>
          <p:nvPr/>
        </p:nvPicPr>
        <p:blipFill>
          <a:blip r:embed="rId2"/>
          <a:stretch/>
        </p:blipFill>
        <p:spPr>
          <a:xfrm>
            <a:off x="7086600" y="5151600"/>
            <a:ext cx="2057400" cy="1706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EEC87-922E-412D-8151-4E98B6A8AE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9" name="Picture 7" descr="Man harvesting Ethiopia.tif"/>
          <p:cNvPicPr/>
          <p:nvPr/>
        </p:nvPicPr>
        <p:blipFill>
          <a:blip r:embed="rId1"/>
          <a:stretch/>
        </p:blipFill>
        <p:spPr>
          <a:xfrm>
            <a:off x="-85680" y="1517760"/>
            <a:ext cx="2073240" cy="275580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12" descr="Fishermen Mexico replenishment.tif"/>
          <p:cNvPicPr/>
          <p:nvPr/>
        </p:nvPicPr>
        <p:blipFill>
          <a:blip r:embed="rId2"/>
          <a:stretch/>
        </p:blipFill>
        <p:spPr>
          <a:xfrm>
            <a:off x="7156440" y="1517760"/>
            <a:ext cx="2170080" cy="275580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7" descr="Woman with wood Burkina Faso.tif"/>
          <p:cNvPicPr/>
          <p:nvPr/>
        </p:nvPicPr>
        <p:blipFill>
          <a:blip r:embed="rId3"/>
          <a:stretch/>
        </p:blipFill>
        <p:spPr>
          <a:xfrm>
            <a:off x="2938320" y="1517760"/>
            <a:ext cx="3316320" cy="275580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6" descr="Boy with a branch Bhutan.tif"/>
          <p:cNvPicPr/>
          <p:nvPr/>
        </p:nvPicPr>
        <p:blipFill>
          <a:blip r:embed="rId4"/>
          <a:stretch/>
        </p:blipFill>
        <p:spPr>
          <a:xfrm>
            <a:off x="1474920" y="1517760"/>
            <a:ext cx="1963440" cy="275580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8" descr="Vertical harvest Vietnam replenishment.tif"/>
          <p:cNvPicPr/>
          <p:nvPr/>
        </p:nvPicPr>
        <p:blipFill>
          <a:blip r:embed="rId5"/>
          <a:stretch/>
        </p:blipFill>
        <p:spPr>
          <a:xfrm>
            <a:off x="5645160" y="1504800"/>
            <a:ext cx="2060640" cy="2775240"/>
          </a:xfrm>
          <a:prstGeom prst="rect">
            <a:avLst/>
          </a:prstGeom>
          <a:ln w="0">
            <a:noFill/>
          </a:ln>
        </p:spPr>
      </p:pic>
      <p:sp>
        <p:nvSpPr>
          <p:cNvPr id="1084" name="TextBox 12"/>
          <p:cNvSpPr/>
          <p:nvPr/>
        </p:nvSpPr>
        <p:spPr>
          <a:xfrm>
            <a:off x="2133720" y="4191120"/>
            <a:ext cx="5410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more information, please visit LDCF/SCCF websi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DCF: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www.thegef.org/gef/ld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CF: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www.thegef.org/gef/sc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5" name="Picture 2" descr=""/>
          <p:cNvPicPr/>
          <p:nvPr/>
        </p:nvPicPr>
        <p:blipFill>
          <a:blip r:embed="rId8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20:03:18Z</dcterms:created>
  <dc:creator>wb284794</dc:creator>
  <dc:description/>
  <dc:language>en-US</dc:language>
  <cp:lastModifiedBy>wb350798</cp:lastModifiedBy>
  <dcterms:modified xsi:type="dcterms:W3CDTF">2011-11-17T16:23:14Z</dcterms:modified>
  <cp:revision>746</cp:revision>
  <dc:subject/>
  <dc:title>Slide 1</dc:title>
</cp:coreProperties>
</file>