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E68B-6517-4764-A492-EA542F799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7DFF-8766-4F69-A2C0-356081851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6560-12CB-4BC8-92D0-C3DFA11B9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F615-F281-4BE0-9759-279394CA7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E1C-4921-48C2-A3E0-0DB8BF40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9CF-AB08-4DE1-AFBA-CFCD1ABC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EED-8B7F-40BC-B32F-5F1F778A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EAC-C0D3-40AC-8F11-39F5DA16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F7AB-D533-453E-B35B-A861EB3E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CE0A-CDF7-479A-954F-858FCB8D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B8D7-B9E1-415B-AB71-1D0EA9E0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153E-C790-4519-9838-A668CA4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9B6A-8A93-4395-932A-2E63A913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CEA1-4BB9-4967-B1E1-D1B8CAB8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259E-4AA7-4B33-BC1E-77CC86C8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CB9E-CFBE-4CE9-ABB9-8E0E886E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C0AB-BB76-4364-8BE5-4DB35BB4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8941-D267-41AB-9878-244C3A30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354C-6E84-428E-8CCB-29D4DB81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203D-3322-4198-A75E-CCDE94E9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CF5-AE3B-4434-9FB8-F85EEA11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F26-18EE-4FA5-9F59-938A6523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58C-16BA-4F42-92EA-717E1B8C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BF0-54DC-42DE-9A1E-D4121099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73C-486E-4E0B-BF7F-96290CFC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4C8-3B5F-48E0-BB89-9D181901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9D5-4CE9-445B-B1B4-C7A0A27D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6F0-E1A7-4C8B-8C96-C60F6C21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AF95-A37D-4126-B1F4-89633DD223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89E9-693C-41FA-BE3C-557F0B37C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26C0-FDA2-4082-9B71-CD4657B7784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5C84-5310-4680-9518-E4712B5632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тратегия адаптации к изменению климата Фонда для наименее развитых стран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(LDCF)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и Специального фонда для борьбы </a:t>
            </a:r>
            <a:br>
              <a:rPr sz="2400"/>
            </a:b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 изменением климата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(SCCF)</a:t>
            </a:r>
            <a:endParaRPr b="1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834840" y="43434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Семинар для членов ГЭФ </a:t>
            </a:r>
            <a:br>
              <a:rPr sz="2000"/>
            </a:b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в расширенном составе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0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одзаголовок 2"/>
          <p:cNvSpPr/>
          <p:nvPr/>
        </p:nvSpPr>
        <p:spPr>
          <a:xfrm>
            <a:off x="1314360" y="426960"/>
            <a:ext cx="365940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я адаптации к изменению климат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DCF/SCC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2010–2014 гг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6840" y="121932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птация к изменению климата – это процес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кращения неблагоприятных воздействий изменения климата на людей и природные систе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Речь идет о мероприятиях, направленных на противодействие реальным изменениям, а также о процессе приспособления к ожидаемым изменениям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огать развивающимся странам в укреплении устойчивости к изменению климата путем реализации неотложных и долгосрочных адаптационных мер в рамках политики, планов, программ, проектов и мероприятий в области разви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ффект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кращение в абсолютном выражении ущерба от изменения климата, в том числе от изменчивости клима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AD4D-1339-4235-B784-D964B904B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56A4-DE93-43F1-8381-6793D0AAF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  <p:sp>
        <p:nvSpPr>
          <p:cNvPr id="599" name="Подзаголовок 2"/>
          <p:cNvSpPr/>
          <p:nvPr/>
        </p:nvSpPr>
        <p:spPr>
          <a:xfrm>
            <a:off x="504720" y="636264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нижение степени уязвимости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еред лицом неблагоприятных последствий изменения климата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., сокращение риска экономического ущерба через реализацию адаптационных 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F763-BCB9-46F3-9FFE-5F8C0B058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607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одзаголовок 2"/>
          <p:cNvSpPr/>
          <p:nvPr/>
        </p:nvSpPr>
        <p:spPr>
          <a:xfrm>
            <a:off x="51444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CCF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Усиление адаптационных возможностей                                      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по реагированию                                                    на неблагоприятные воздействия изменения климат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напр., в рамках соответствующих секторов развития и природных ресурсов; диверсификации                  и укрепления источников доходов и средств к существова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646C-3CEE-4589-886A-8FC54A2B5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  <p:sp>
        <p:nvSpPr>
          <p:cNvPr id="616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CCF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казание содействия в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ередаче и внедрении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адаптационных технолог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определению этого понятия в Рамочной конвенции ООН об изменении климата  (пример: передача технологий Иордании при содейств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C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B07A-7DBF-4D47-881F-11674E6AB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  <p:sp>
        <p:nvSpPr>
          <p:cNvPr id="624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и реализация программ в  рамка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DCF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уязвимые сектора – объекты целевой помощ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, продовольственная безопасность, рациональное водопользование, – все эти сектора непосредственно связаны с мероприятиями по противодействию деградации зем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ством многостороннего трастового фонда и программных подход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C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C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особствуют формированию синергетических эффектов во взаимодействии  с другими тематическими областями деятельности ГЭФ, в том числе – и не в последнюю очередь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мероприятиями по противодействию деградации зем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C278-3C1F-4C29-846D-7636DCA27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1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и реализация программ в  рамка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DCF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ащивание объемов адаптационных мероприятий посредств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го и предсказуемого финансирова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LDCF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CC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мных подход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деятельности с учетом указаний органов Конвенции, потребностей развивающихся стран, результатов независимых оце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9F11-F9A2-424F-BDEE-DC785CB5D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8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оваторские элементы в деятельности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LDCF/SCC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FF62-10D0-4404-9EC5-0828A4C89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720720" y="129528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евой фонд ГЭФ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стные 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аль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4419720" y="129528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DCF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SCC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е затр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требований о глобальных бла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систем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ычные механизмы и источники финансирован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редельных сумм по межотраслевым проектам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обрение проект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DC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мере гото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6324480" y="4572000"/>
            <a:ext cx="2057400" cy="1706400"/>
          </a:xfrm>
          <a:prstGeom prst="rect">
            <a:avLst/>
          </a:prstGeom>
          <a:ln w="0">
            <a:noFill/>
          </a:ln>
        </p:spPr>
      </p:pic>
      <p:sp>
        <p:nvSpPr>
          <p:cNvPr id="648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2479-5A95-4032-AA91-7BAE5A90E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658" name="TextBox 12"/>
          <p:cNvSpPr/>
          <p:nvPr/>
        </p:nvSpPr>
        <p:spPr>
          <a:xfrm>
            <a:off x="2133720" y="4191120"/>
            <a:ext cx="579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ая информация на сайта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DCF/SCC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60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cp:lastPrinted>2011-09-30T12:21:04Z</cp:lastPrinted>
  <dcterms:modified xsi:type="dcterms:W3CDTF">2011-11-01T20:59:54Z</dcterms:modified>
  <cp:revision>765</cp:revision>
  <dc:subject/>
  <dc:title>Slide 1</dc:title>
</cp:coreProperties>
</file>