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1055-C130-4B87-939B-84BF93E6C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BEF5-2650-4CEB-BA5F-293FC73C1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6B68-C1FF-4293-ABA3-0EF7F5282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BDBF-7767-446A-825F-97216CFF3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C0B-FC92-4938-A017-48448618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B8E-FA11-4F81-9A2B-50DF7BF8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FA4-EB26-4BD1-BB82-83A6D159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F31-DAA7-4CAF-9501-09017382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40C7-82A0-4153-932E-3764956E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228F-3E50-4E92-9B7D-077B98D7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8A16-FFA8-4BB9-B8CB-A15EF493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D033-D580-4115-A0F4-AB3D01F4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0FA4-1A7E-4E12-9EB2-42AB223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FABA-143A-467D-98AA-72745353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1C55-C6D7-4E82-A30F-36C04706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9447-D557-4D94-87CC-85CF8CA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CF96-71E4-4BD8-A99A-531FF2F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7CC4-8538-4F98-8C38-079235E4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CC1C-4796-4967-8F9A-6F2AEFE4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5B7F-ED1C-45BF-B836-884B171E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DE8-0667-4EA0-AF49-D65E4D7C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49B-545B-4791-951B-9BB3604B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59E-6394-4186-AA01-C09E2541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3F1-1D5F-4D29-9049-95F21B66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1A2-E756-4906-8026-390B60EC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C0D-B8B7-4018-9C62-C148151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7F2-C8B6-4EEA-AE8A-A7AF764C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B98-A5C1-4434-93F7-100ED5C5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6FEB-2218-4C0D-8793-6C3FB16A02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A357-A619-4688-80B8-E834E64FC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36D8-2087-46DC-A89B-4980DAA1396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3E19-76EC-46B3-B1B2-69BCA8B2E5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тратегия адаптации к изменению климата Фонда для наименее развитых стран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LDCF)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и Специального фонда для борьбы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 изменением климата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SCCF)</a:t>
            </a:r>
            <a:endParaRPr b="1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834840" y="43434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</a:t>
            </a:r>
            <a:br>
              <a:rPr sz="2000"/>
            </a:b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в расширенном составе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0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одзаголовок 2"/>
          <p:cNvSpPr/>
          <p:nvPr/>
        </p:nvSpPr>
        <p:spPr>
          <a:xfrm>
            <a:off x="1314360" y="426960"/>
            <a:ext cx="365940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я адаптации к изменению клима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DCF/SCC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2010–2014 гг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6840" y="121932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птация к изменению климата – это процес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кращения неблагоприятных воздействий изменения климата на людей и природные систе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Речь идет о мероприятиях, направленных на противодействие реальным изменениям, а также о процессе приспособления к ожидаемым изменениям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гать развивающимся странам в укреплении устойчивости к изменению климата путем реализации неотложных и долгосрочных адаптационных мер в рамках политики, планов, программ, проектов и мероприятий в области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ффект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кращение в абсолютном выражении ущерба от изменения климата, в том числе от изменчивости клима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BA57-0DF8-4A7B-9FDA-2568346ED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68D1-4483-486F-A85E-F95B57786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  <p:sp>
        <p:nvSpPr>
          <p:cNvPr id="599" name="Подзаголовок 2"/>
          <p:cNvSpPr/>
          <p:nvPr/>
        </p:nvSpPr>
        <p:spPr>
          <a:xfrm>
            <a:off x="504720" y="636264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степени уязвимости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 лицом неблагоприятных последствий изменения климата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., сокращение риска экономического ущерба через реализацию адаптационных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9A1C-FFAC-4373-854C-F7B5B8B59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607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одзаголовок 2"/>
          <p:cNvSpPr/>
          <p:nvPr/>
        </p:nvSpPr>
        <p:spPr>
          <a:xfrm>
            <a:off x="51444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Усиление адаптационных возможностей                                      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по реагированию                                                    на неблагоприятные воздействия изменения климат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напр., в рамках соответствующих секторов развития и природных ресурсов; диверсификации                  и укрепления источников доходов и средств к существова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522F-F63B-44B1-B7FD-69058996B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  <p:sp>
        <p:nvSpPr>
          <p:cNvPr id="616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казание содействия в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аче и внедрени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даптационных технолог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определению этого понятия в Рамочной конвенции ООН об изменении климата  (пример: передача технологий Иордании при содейств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C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F728-BF85-40F9-A9F9-150EDC489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  <p:sp>
        <p:nvSpPr>
          <p:cNvPr id="624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уязвимые сектора – объекты целевой помощ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, продовольственная безопасность, рациональное водопользование, – все эти сектора непосредственно связаны с мероприятиями по противодействию деградации зем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ством многостороннего трастового фонда и программных подход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C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C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особствуют формированию синергетических эффектов во взаимодействии  с другими тематическими областями деятельности ГЭФ, в том числе – и не в последнюю очередь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мероприятиями по противодействию деградации зем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1687-B662-406A-983E-2ED788AD6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1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ащивание объемов адаптационных мероприятий 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го и предсказуемого финансирова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LDCF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CC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ных подход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деятельности с учетом указаний органов Конвенции, потребностей развивающихся стран, результатов независимых оце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5FC5-9895-4D7E-908C-F10FACCA8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оваторские элементы в деятельности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LDCF/SCC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C715-6648-427C-8922-11138EA94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720720" y="129528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евой фонд ГЭФ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стные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419720" y="129528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DCF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е затр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требований о глобальных бла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ычные механизмы и источники финансирован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редельных сумм по межотраслевым проекта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обрение проект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DC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мере гото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6324480" y="4572000"/>
            <a:ext cx="2057400" cy="1706400"/>
          </a:xfrm>
          <a:prstGeom prst="rect">
            <a:avLst/>
          </a:prstGeom>
          <a:ln w="0">
            <a:noFill/>
          </a:ln>
        </p:spPr>
      </p:pic>
      <p:sp>
        <p:nvSpPr>
          <p:cNvPr id="64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A229-AACF-4911-9F8C-3E65DB963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658" name="TextBox 12"/>
          <p:cNvSpPr/>
          <p:nvPr/>
        </p:nvSpPr>
        <p:spPr>
          <a:xfrm>
            <a:off x="2133720" y="4191120"/>
            <a:ext cx="579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ая информация на сайта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DCF/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60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cp:lastPrinted>2011-09-30T12:21:04Z</cp:lastPrinted>
  <dcterms:modified xsi:type="dcterms:W3CDTF">2011-11-01T20:59:54Z</dcterms:modified>
  <cp:revision>765</cp:revision>
  <dc:subject/>
  <dc:title>Slide 1</dc:title>
</cp:coreProperties>
</file>