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F Expanded Constituency Worksho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dt" idx="73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 type="ftr" idx="74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 type="sldNum" idx="75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D3E3B-4DC2-4A13-8FE9-C95AF6840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ECAC5-EFA4-4ADB-9FA9-6F29A1963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F Expanded Constituency Worksh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4A1B-B5AD-415F-8CF0-F8537B7A6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78A7-8018-4CAD-96A3-53BBB0A34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4BB623-13A9-4353-84BA-A31238AFB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EC853E-107B-4116-8908-70C08E90D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C7017E-8C6F-4F3B-B040-BF366C282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04EE37-51EA-48FB-AB9A-8DE21C57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EF45C6-11E1-4098-88DC-6B2AA4A1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450E53-BEA6-4F99-A0B2-102FAE50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476BB8-EB06-47CB-8E46-5964A2F9D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E4C7AB-3E2B-4D90-9AAD-240FC0D72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A5C639-A394-4A41-B485-6CF4036C6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F776C2-CF50-4089-940B-9751A60BD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ACDA-CB94-4EE9-8444-13526EE55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0266B7-5F61-439F-9294-744B85942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77593E-C3EC-4BDB-A001-1DF23FD12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064236-8A58-4405-952E-F17B213A7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EEBEA7-9535-4A91-B6AC-677CF5D57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C61A2D-1C8B-4DC9-92CB-F1AF37BF0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C723D3-13BE-4018-BACD-9EB87F3B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8104CD-8CFA-4F08-B93D-646FBF04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FE401D-8297-4B75-AD2F-3111681E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F4E575-39FA-4119-9591-1EDF2EF46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A3BFB5-42D1-4EF1-AF95-FD6EFEAE4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F7D7-5715-4193-AC5C-56BEC1C1E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277791-19C5-4330-A869-467A9F405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BADB9E-A6FE-4829-91B8-D6AE05171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85021F-BDC9-4BCD-8CAF-09C4760FC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C8B4D7-838B-495C-AD61-7667CFC04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83A536-2CD6-400F-8407-52B5038E6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D9AB9E-B65F-42BB-89B3-B784CF8CC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6A2FB7-33DF-4B58-BBD0-C808DCC03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FAB10A-2B2C-4005-BC74-514F2BDE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1800D7-C192-43F7-A2EA-FE94CB65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F15DC2-DD31-49BC-BFF6-7494C444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49D76-141A-49E2-8C5E-403E6D557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0B0DA3-CDEA-4834-9322-E747CDDB2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A9BD35-409C-4479-AE03-3831A3FDF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277CE2-4B78-482B-8571-91C75BE17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8ECE2C-C06D-4912-B433-4819E7551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7D6AC8-2DD4-46D5-B5D7-125F08962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0912FB-A4E6-4CB0-8BDE-C0D9BE19F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DD9D57-C28E-4E5B-83E5-A7F17EF71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81EC6F-9E47-41AE-B059-0E3C53C64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7A7565-0F03-492E-8882-C30CC7797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201FA0-A9C6-4145-AA8C-AD8656E6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CB583-94EB-4572-8A8C-CB2B4FDA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58DF7B-1656-4E55-BDF3-EB24E71C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E36853-56AB-4731-A92B-ADEEC671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93EDA7-7945-424B-89A8-97B55D4A9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F00B5E-551D-435E-A43B-428822031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671C5D-1C3A-4352-B964-C856F0F1A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3E3C07-B7B1-4EF2-A638-1E1104A93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B140DF-5327-4B8E-BA1B-1D946B2A0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63A237-0BF7-432A-8F87-C0B4E7FF4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E7B04A-3B94-46AB-BFC9-C42B5F0D4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0C73C1-E1B1-4BD3-9398-92A722677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98E20-FB70-4ACB-8FC8-9F95C1241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D5798B-1F98-4B18-A2B1-41B1DC126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68B8F4-0EB2-4900-B34D-F2D292A3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02E78E-B1B8-47CD-814C-F5F29256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03BB7B-A17F-46E5-8358-26D873D5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7E9A17-46C4-4181-958A-11E92CE72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27E3C0-5E16-4ABD-AB2C-CAB5E88EB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18C1F6-5C17-4FC6-A2BA-712245A22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5D36A5-A6FD-420D-A209-A51AF90E2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567DE9-CC47-4FFD-A877-51891DD2F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34CB8C-25DE-44B2-80E7-86F2FCD16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017CA-EF9D-4CF7-944D-1602A0A64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39CD0F-611B-48CB-AE4C-3050B5D05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90374F-713B-41BD-9761-C38F60F78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92BD44-81A7-42A9-9F60-912B7D3D0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E6C9BB-8831-4DC6-87FB-775EEA7B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E38FC3-EC94-445A-B4A3-F53E0BEE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C4195C-83C4-4BD1-ABAF-DC1CBC2B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7293E5-9879-4B39-A910-287F4ED75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2E8D31-71AB-4272-8D03-925039E43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7A597A-42D3-4E88-8677-79CC372D6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9EB054-7B07-464D-B022-DC6B68CE5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BE7E0-E4FF-417D-B84A-9E50EA90E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560AC1-C63A-4446-9353-4D78C0E5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B673FC-835E-4D57-9936-909AD3E6B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A49EC5-852E-4ECA-AC37-8D743F4F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173844-EA22-4822-A04C-3CA5AB804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D650FD-F298-42F9-BD02-8258433E3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51A179-72DA-4855-94EA-436AE1D8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AF3B7D-E916-46AA-AB88-B0341282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38A2C5-1FE8-49F2-B4F6-F08F54AB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6BBB93-9890-4EEB-A22B-FCC886244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D3367F-3DAB-4D31-8771-D2807677F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A96F8-D75E-4305-B554-63C71E3D1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1B04ED-0632-4C8C-B6B5-BB569B60E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D98D5E-2B9C-4FAF-9A7A-388DFA7AC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4C2E94-A428-4FBC-A740-1771A7B85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B856DB-B659-4E7B-B20D-ED13085C2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A63B32-47C8-4E86-A9CE-7E06FD2D1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43D75F-CD3E-4997-AE86-A6B0FC857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C1877D-A07D-4890-8977-9987D168E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6F0FC1-EE39-4DAD-AC54-2DB7529A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A38E29-017E-4DC7-A162-FC9CA81D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6F715A-229A-469B-B9B7-20C1F869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8E2BB-7326-4BF7-9240-D128F2E4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F9B2E5-4A61-4642-95F5-46A11E858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69BF15-B007-4908-AC36-CC35D6AE3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DD5BFD-C4C1-470C-B707-5C50E994E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AAF1C8-87C4-4E68-B9BC-9A930B5A1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505401-7EF2-42FF-874A-5A2B9B8A2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656DCF-C34A-4704-BAB3-73F75033E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7BC537-49DC-4102-BB77-3B69DCE30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0B595C-8C0F-4048-867D-18430A208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C9AC29-48DB-45F5-BD94-C5AE942D7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5E0CDA-5D14-439A-8284-70FCD2AC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ED88-0683-4F65-B0E3-0B171E561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61A99-5097-4E11-B209-1584734B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F4BBF3-FD69-4BE7-92AD-C56C32F0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3EC64A-C037-4B2A-A04A-1A19636C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ABDBE2-B959-4275-8592-DE0F2F3A5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4AAC10-ED1B-409E-83FE-3593BCBF2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F46170-7119-4DFF-BED6-855E40641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8B3151-95C0-4383-9791-8EFA59D8A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BC8A72-3399-4C3B-80C4-C637C1D7D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48D58A-3845-47FA-8E07-6E81B974F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2DF244-61B9-4EC0-B94F-11C20EF47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85ECD6-ED76-40A4-A09A-FD4005F7B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C2430-046C-4B7A-AF0A-BA309261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AEABFF-837E-4263-B77D-BD10653CC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D26885-6C4B-42E0-8622-C3635E80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C9B9D7-716F-42E6-935A-CCDD88F0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6D913C-C326-4771-AEFE-02BEB272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A4DAC2-A36C-40F9-A121-52F49113F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07134E-CB6E-4FDA-A9C7-734A56F76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293E30-786C-4338-AA67-CDDFCD420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5F7D35-4993-4065-AABC-B264ECCCF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1FA3E3-B849-4C64-9C3D-5DAA8F1B7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0CD996-BB37-446E-B5C2-E7B81A3E3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882C7-F2D0-43AF-B4E9-923966C0B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6A2568-9588-49D0-A16D-F28FDBB45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CE1C7A-E9B1-4514-9AC8-7C7FC57E2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863E57-D1E8-4A9F-9BCA-5E15A881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F36671-80E8-44A0-9265-19FA58DA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193D5B-3872-4A5F-B964-D44C1C53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48DD6D-7C74-4D51-B11E-8CB86F48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982559-4323-4C2C-A6C8-6D2135E2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162D59-F91A-4A23-B769-6ABE72D3F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13A58F-D9EB-48B9-BE9E-72B1788B3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5CE7B2-6ED0-4898-92D3-1647BA595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18977-EA85-4512-AF00-53BD83179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43680D-E6EA-49B9-91EF-69D3A482A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A255BA-02B7-465A-AEB9-854788933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B358CB-8017-4AD5-B200-13F7779CF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21DCDC-998D-4A85-B2E6-D408577EB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58AC70-0D16-4352-AA14-81140C637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86294E-E89B-43D4-B8E9-EB7E06E4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AB925E-A20E-4343-95CE-6D0B6418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6B1516-F2C4-4574-AB2D-A09C7072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BCA89E-7207-42CC-BC9D-1AE3EDD79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7393AC-3561-4202-811B-31FCF4E17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AEAE6-B8AF-41E4-97F2-160D38095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5AD801-C266-4923-B45E-F622D2411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BADF83-3D8D-4D0A-BF99-A0E0F6341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459959-45A7-4EDC-920D-E0074114C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0C2071-1D12-44A5-A22C-2B73B7990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2D5E20-82DA-403B-A3E4-268B81FB0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00DE2C-FCA6-4C6B-9E0B-0D8C6E4F9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850276-B56E-4368-85CD-E19B7823B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255A25-12B6-4C69-AE2D-3166AC1A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41D508-5DB8-49C6-AB51-8CAC2396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5D845C-4A1C-4BBA-B723-7C94BC9B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E0A74-A973-40A2-A168-CECB8BC04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76BFD3-46F9-48A8-8E22-A153620F8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C0D0B4-EDF9-49BD-998A-964C3DE0D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1EE151-C7E1-4450-99A8-FD08D622C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7D4F26-6654-406B-891D-0597087BD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32EFB24-B55E-49E7-82F8-5C0849DAF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2F3C5C-AB00-4838-8EBB-9E263D077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B07D7CA-140B-4451-8C7F-3AC1EF59F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8A073F7-832D-42A6-B8D7-9F1767305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A2A57AB-0E9B-4417-B318-F8A58C9A3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43871B-FD9F-4FAE-8D2E-33804A8B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63AB0-3B4F-4295-B299-F4083A07B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83A4BDF-CBDA-4454-9F24-5D60D114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6E62355-0539-4943-A7CF-4830F5A8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1F7E010-8EE3-4276-9421-4CE5BCB81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EC30DF-3F21-45A7-B0C6-6E0F97FC8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42D6565-2071-469A-913A-B4D8CE912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AF7AABC-EA7D-461C-98BE-2BBBDD2CE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845925-DA9A-48FF-979B-B7760F045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697FD29-9B95-4A50-881F-08E1B32C8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944064A-8882-4484-AC2A-ECCF9AA04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8E2C8AE-18C5-4D32-A2FA-745EE9FE0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3C061-6F06-40FD-9C82-025C9F680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357006B-8326-4AE9-9166-5659CF99D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DA9DDD2-ACF4-43B3-8A63-C5A08894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B522889-D104-4869-BDF3-1AB5B9ED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ADCEAB5-3DF5-4AE8-A138-FB5E7F4F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051F523-C8B2-4AB0-883D-450CB91E6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DFEA0E-07D6-4629-98D5-5078528FC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B9F6335-A444-4EA1-9329-CFF4AE6D1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F7A43E6-5FEE-4680-8C9E-494EABB4E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FAEAAE8-740E-46BA-95B1-82163DCD0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171A109-6916-4638-84B9-24936EE2B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AB653-C99C-42B4-BBD2-D61154B59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EBB650E-F3D1-4EB6-8B76-87447B0EC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E5E50F0-5B00-4332-8E28-072E1DADB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30C75FA-0E94-4001-9F7D-94E811FCE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E1768A9-4262-47E7-98CE-63819AEB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9E21FE9-2952-4E97-8B49-818BA2D3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5850BCC-2A82-445A-9C0C-430B37B7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8A246AD-0950-43DF-A2A0-AE0EFA7C2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A9FB4AE-8101-42E0-97D7-875D719B6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5D05280-311B-4CD9-8717-20C8933D3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6AEAA-9F3E-4292-AF6D-81A8C621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7EFE-64E4-43B6-BB3C-6E09AFC8D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258E1-EF89-4423-880A-7E97F606A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52A6C-ACB2-4D48-8EEC-DDCF5352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9BBCA-8C52-4C6D-A9E6-13988A0F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D94C0-1F19-4EDB-A39B-F1AB808F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ABD54-6590-4B96-934B-DD0E7EC0F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028C9-49C3-4FB3-900C-0A2609333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865A4-6603-4DAA-93DB-214A7A9EA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787C7-3B9E-4528-9385-234E9F7F8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7CA29-FF4A-48B2-BC14-180279C57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8BB3B-E327-430C-9097-AA385D1C3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8B07-58A7-449F-BE94-E3FBD202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A58E8-39C8-4DE6-A8B7-218734792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29DC3-A622-43B8-99F4-052B92FDD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4DC14-7EAC-4410-BCE6-D88CB09A6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2A4F8-D572-4004-8DFC-B358DAEE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50B10-823A-4078-A98D-54CA31BF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91809-EDB4-426F-A2B4-A043AE58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662E2-033B-4058-9A23-D20EC5A24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38390-FAFF-4952-9ED8-16BC58001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BE4C1-77C2-4153-BCCD-AFCE9909A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A75C5-C113-4BB4-900B-D788C2CAF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D41D-9029-4DFC-B0B3-2939A6E92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27FCA-3FEA-4423-A73A-DF16E8E1C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F760B-83EF-48EB-92C6-440244736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A14AD-EE34-4FA2-B826-CA3647036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A2B8B-CD6B-473F-A56E-0674539C4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1CC4B-8911-4308-9D1F-EAFE5CFA2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E4F94-EEF0-47C1-8A4F-4FB5F648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2FE0F-7581-49F1-A0A4-A45388FF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0E6F3-C915-44B1-9C49-9E7F0D43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B69F9-3CEE-4C37-BF30-E6F89A23A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2B4A6-C755-41EF-A063-75B6C63DA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E84B-9291-4ED5-9CAE-33990B0E2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D6275-D78D-474D-A14F-3D271B35B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346B3-2AF7-4053-9798-A2B388E5C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7976C-5F93-4AB5-85FB-6F752BCDA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79365-1ABC-4143-9613-217F9A3B2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913301-B110-4E71-AB73-EC9C5E85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375D68-43E0-4512-B0F7-C900C5955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4D28A-9437-4D10-9DA9-78CE50EF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0B606-F87E-46A9-AD72-BE433894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AC2EB-D3F5-46D3-A4A9-1F58FFFC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A659D-627F-451D-ACB2-5F857C18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46C0-FEE5-4A27-995D-E0534F2F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B0764-E038-4EE4-8D60-399FDC32D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09C3D-9C76-4EF9-94E6-556A55AE5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E9DAFD-4EA1-471A-ABFA-5F8C65126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471A4-3A74-43B2-82EB-F14A50243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7C95B6-08F9-4C44-8646-B68E80B5C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D9F933-8086-4A74-A676-6EAEFDC96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E8374-24C2-479E-91CF-C3E81E224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A809DD-93A5-4966-B4FF-29F81D57A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97D44-12DA-4B1C-9F8C-525048442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AC2BB-FA1D-48A6-B5E1-C9F8628A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BFAA-E4A2-41A9-A0A0-57324C15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347838-72FA-4BA6-A75C-688AABBD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71585A-826F-439B-987F-2779EF76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8F7F98-890F-4800-B110-638F71E13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0011F6-3779-4E23-AFBA-8941EB9AD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177F0A-9A6F-4973-9F9C-13857F2B1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E39D7A-E5AC-49C1-8363-7AF7766A4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B2BCEE-8158-44B1-BB43-BE1073C2F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91EAC0-9E15-4DC9-B357-C7D559FF2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23E802-E49F-4021-9F95-E65B835B2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6EB991-282D-4B71-8BB5-D62C2BE48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7DE1-B56F-49CF-BAE5-C432D55B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4C79FD-BEB9-4F01-ACEB-0938EDB09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11D2EA-B281-4F36-8683-69FB0145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708EC3-DB20-40EC-B7B6-6F0819AC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D6B39E-BE04-4838-95A7-9E5C880E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D72712-31F0-4353-AD38-EC613CDA9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FDADE3-482A-44A5-8F57-E8895AB61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C6A153-7D7D-463D-92F5-6E4E1F9B7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8444FD-0D98-4388-A0DB-DA6BF7D01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F004B2-726C-4A2F-A3D9-4F4C1F8CA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6D9A6F-613B-4BF5-9597-45B60B491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B9661-E39B-420C-B19C-949D52CBFC1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39D42-3F5E-4204-98A6-6A4D66490E9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59668-D7EF-48EB-8F09-0B1589DBF19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73F4C-34D5-43E9-9C4D-07F5630223D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73E4F-E155-470E-A623-85B4F7A660D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E9CC6-F2FD-4139-B25F-626534F7D6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7FEE4-2617-46E9-8BC1-6BB61233F8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0F0A5-9831-45BC-B2E3-231BAFFD9F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EF1C0-454A-4974-8B32-1B7A140A62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314D0-CEE9-4093-88C8-E8D6BD0DFB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283F8-EBBC-48F4-B485-316405F028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34E7E-6421-4F4C-9718-6DEC38DC6F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FF07C-9B11-4DE6-94E2-A12D4BEF47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19D3B-8917-42DA-A4B8-B9D1C9A44F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E5968-25B7-44A0-B477-FF09464892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D2E2E-8489-4988-853A-54D6DC2EB1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AFAF3-B600-452F-AD35-B0099E7E7D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38FF1-1B57-45FF-BED3-1F39B972DB54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579B1-1AE9-4884-886B-3616A98A1B9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B8E70-2775-4DFE-9AC7-D5C19B664DDA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FC0E0-6A04-46BA-9461-2B58DF7CADC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8DBDE-5098-4A60-865D-45262A4B937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99D76-DCFE-4F8D-B5DF-8E311143D02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9A53D-844F-48AA-BBAF-0A39D7D5E08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  <a:ea typeface="Arial"/>
              </a:rPr>
              <a:t>GEF Strategic Approach to </a:t>
            </a:r>
            <a:br>
              <a:rPr sz="4000"/>
            </a:br>
            <a:r>
              <a:rPr b="1" lang="en-US" sz="4000" spc="-1" strike="noStrike">
                <a:solidFill>
                  <a:srgbClr val="00642d"/>
                </a:solidFill>
                <a:latin typeface="Calibri"/>
                <a:ea typeface="Arial"/>
              </a:rPr>
              <a:t>Capacity Build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5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1006" name="Subtitle 4"/>
          <p:cNvSpPr/>
          <p:nvPr/>
        </p:nvSpPr>
        <p:spPr>
          <a:xfrm>
            <a:off x="1219320" y="3657600"/>
            <a:ext cx="67053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25 – 27 October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Nairobi, Keny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4617b"/>
                </a:solidFill>
                <a:latin typeface="Calibri"/>
              </a:rPr>
              <a:t>Four Pathways defined to develop capacity of countries to implement Rio Conventions </a:t>
            </a:r>
            <a:r>
              <a:rPr b="0" lang="en-US" sz="3000" spc="-1" strike="noStrike">
                <a:solidFill>
                  <a:srgbClr val="04617b"/>
                </a:solidFill>
                <a:latin typeface="Calibri"/>
              </a:rPr>
              <a:t>(Council in 2003 C/22.8)</a:t>
            </a:r>
            <a:endParaRPr b="0" lang="en-US" sz="3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8" name=""/>
          <p:cNvSpPr txBox="1"/>
          <p:nvPr/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f assessment of capacity needs (NCSA),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engthening capacity development elements in GEF projects,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rgeted capacity development projects CD (former CB-2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ntry specific programs for addressing critical capacity building needs in LDCs and SID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09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trategic objectives for cross-cutting capacity development inGEF-5 (available 44 mln USD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1" name=""/>
          <p:cNvSpPr txBox="1"/>
          <p:nvPr/>
        </p:nvSpPr>
        <p:spPr>
          <a:xfrm>
            <a:off x="38088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D 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 Enhance capacities of stakeholders for engagement through consultative proces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D 2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Generate, access and use of information and knowled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D 3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Strengthened capacities for policy and legislation  development for achieving global benefi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D 4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Strengthened capacities for management and implementation of convention guidelin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D 5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Capacities enhanced to monitor and evaluate environmental impacts and tren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12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Generic requirements for projects: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380880" y="13712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e consistent with strategic objectives for cross-cutting capacity develop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http://www.thegef.org/gef/GEF5_Capacity_Development_Strategy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ave to be multifocal (to benefit at least three focal areas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iorities to be identified through NCSA process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vide co-financing at least with ratio 1:1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n be MSPs or FSP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15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7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18:09:00Z</dcterms:created>
  <dc:creator>Daniel</dc:creator>
  <dc:description/>
  <dc:language>en-US</dc:language>
  <cp:lastModifiedBy>wb350798</cp:lastModifiedBy>
  <dcterms:modified xsi:type="dcterms:W3CDTF">2011-11-17T16:23:36Z</dcterms:modified>
  <cp:revision>110</cp:revision>
  <dc:subject/>
  <dc:title>GEF NGO Network</dc:title>
</cp:coreProperties>
</file>