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F Expanded Constituency Worksho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dt" idx="73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 type="ftr" idx="74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 type="sldNum" idx="75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08FBE-2497-4A41-999A-A19A520820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BD95C-3375-4399-9B64-7353AC36B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F Expanded Constituency Worksh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4AEC-E776-4EFC-91F6-3D695063E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05FD-40FC-499F-93DE-3E3363250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2D6B46-C383-4FBD-B417-EAB1E682B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90B550-D2C0-4ABD-9DBC-BA98BA1ED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74A8A1-7999-429F-94A8-E2259BB4E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BD1558-7380-4043-ADAE-9A27C1AE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EE6361-BACC-4FBB-8371-1FB0B308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EEB923-1C71-4B2A-AE94-4D5115D7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CA7EF5-3C3C-47DF-B378-A705DED41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1579B4-6A57-4971-BFB0-8970CDF6E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EEBE7E-71DF-4F5E-9BD6-A291FB9D9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BE8EE3-58FA-475C-B9F2-FC91FA726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9326-42C6-45F6-AD89-0D5F5CF8F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B1247F-B87A-445C-958D-4912DD1C6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A440EC-88D2-46F7-8598-E92AF1C95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161E1B-9574-46C2-A063-006B72BC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06E193-8649-4A94-9816-90411DA9E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D11621-DD32-4E3B-BE45-48DC1A77C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B0F488-C902-4573-BAD3-E2503D15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1FD7AE-410C-4C93-98C7-EEB86DA9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A3676D-277C-4118-9192-D1737007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2962BC-D220-42F3-BC5B-91EDDD876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BA4CC0-E662-42CC-A704-E6B5CF5F4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5426-8F99-420D-A705-1CD19AF12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065F93-E90D-452B-B4CD-4EA2F2E6D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12BF00-E1C7-4CCD-9CBD-62F5A45C5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5C05C3-426E-4595-9691-3C7FC5A90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1A910B-536E-42B0-B663-EDA22FEE6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458534-88CC-4011-A0D7-FEC8DAE25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5776E8-550C-497D-9169-F38C67120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47DE5B-77D0-4666-B75F-4DCBF2F97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14E5E6-8548-4A45-8B0E-BE3DB9DA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3B80AA-507E-463D-A83C-866E659A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A11925-5810-4830-940C-D94F547E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25797-0272-4769-8A7E-EC4AC4541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E8458D-B3AF-4FDC-9A9B-DDB56EC49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DD7CAE-E6A3-4DCF-9F4C-43D694977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16D9D3-F038-45C2-971A-D44B66E5E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0A1EF9-AD0A-4949-8EE3-D66CDE3E6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809F01-41D9-4D71-A04D-0823EA38D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644005-DF61-4DE3-8072-EC62B074A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11A228-8BCD-45B0-B8B1-F16B4C6E5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27CA7B-D039-4566-87C6-B1F47D3F3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3953AC-098E-4063-AC3E-354EE349F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FE9273-C3D1-41CF-8EDE-958DE691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93900-A116-4CE1-9F5D-7FD92D4C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D2D120-C46F-47B9-833C-D63C5318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5FA88E-3C6D-4DE4-A622-FCA62838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D4FF76-6D94-4332-8425-6A8A7EA2B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306A52-3E19-4BCD-AED7-373C1D93A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CACDB7-CE8D-424B-9826-2D6AA39E0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BA563F-770C-47B0-9DD5-E46A32318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5B1857-85EF-40AD-88E8-7B1DC0A4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93B50B-018B-4A6F-8A9E-384EF1ECD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53551B-6C32-4CA7-A9E9-28C67C5D8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513183-B184-4453-999C-D3309F834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69A30-1550-443F-95B4-675A092C0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F53EE0-CAD5-4DD8-8FA8-237ABEF20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34CC66-7E51-4CE3-B258-7B896CE4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17591B-DC27-439F-ABA1-CCC8EF36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F5AC65-AD0B-4C8B-9077-7253CC10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E2A682-E2E3-4ADC-B171-F94F1804A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E006A0-B459-4A90-BC05-110751BAC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BCBB39-B5EB-4884-9DD7-FDD971952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76FF89-77B5-4415-83F0-36E6D1B22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95CA87-3AAA-4DB4-BE10-4D615E7E2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B6F95D-B2B6-4F6C-8548-F81662A7A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0CA56-68B5-4CF5-A60E-DEA3C317D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CC24E6-71D5-43D1-B578-85D448B8A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3D8500-E9C9-4FAB-BE28-ACE4CD8C4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6DCA05-36E7-4A45-9808-257C3B8A7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5C6D0A-8347-4BBA-8A7C-08959EEB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C130AB-91BD-47E3-9D25-A06A51F3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33747C-7668-48D4-BC2C-11881E82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94CE3B-B210-4FDD-9EB8-F48802779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396318-5069-40AF-AD27-DF938A942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25FA73-F8D7-4099-88F8-068183318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442CEB-71A6-4C2D-8A15-68D53FC9E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7FD17-8AB7-4250-A335-95FE4ABC3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59F68F-8811-4686-B0CF-363472806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6A357B-DDC6-4F60-8DC9-F4634C900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7CCEA9-AC04-49EE-BCE3-D2AE50EE2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B12CB8-DFFA-49F3-A70E-FF44DDAB2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8F3F94-8329-4F89-86B6-AC0CD7078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1327C2-A01C-44A0-851C-FCDADA0C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9FA0AB-57B4-4356-85B7-6BF18547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3796C7-A0C4-4FCF-BF0B-BEA9F9B9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2F51D2-7C32-467A-B90D-6CBB3C558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6D1DAB-9066-43A5-AAB7-9FB983BB5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92E75-027F-44DE-ABAB-38CEB106E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005DBC-E237-4D40-88B3-144B95A5A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2BFCB9-0021-4183-96B2-CDAF27276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E984A3-7A14-4BED-BABD-E045EFAF3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DD0CCC-62A0-44F4-9388-58ECEC298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2436DD-AAD1-46AA-8348-91DC2F91E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4749B1-AE5D-4955-9F11-D0E085C83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02F747-0A31-43B2-9DB0-DE7F40218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0F8DB8-4923-47AA-964E-8A819A0F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8ADAB7-79FC-4566-8B87-F3B0C494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748C54-F079-4F92-AB0C-9498E96D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EAA93-85FB-4BD4-857F-054F784F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303D87-041E-4F94-A635-FCAC57F8C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47C60E-CC51-4528-B4A7-245731CC8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D81219-30BE-411E-912C-EAFF1214D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D2012A-BA48-4AF1-A5F2-153FEF391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2FED5A-7572-467A-857F-ABB36626D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A73CDF-FA61-46E5-BD3E-96D8EF1A4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E874A7-2852-4D0D-92A3-68DD1F065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E496B3-CEA3-453F-8980-6FF8B44DF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018EE6-4502-4275-B534-E0005991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E638BE-59DA-4538-BD12-42271248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D84E-FFFC-4EF3-B669-D4AF7CA8B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753EE-ED96-4B11-ACD7-A728792A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DDC13E-D63A-446B-BCF6-F17D9D9F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09F80D-DE6F-4FE1-A3F9-03D04460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670F72-2B48-447B-BC14-F4395C1AE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EA7DE0-10EC-479C-BC6D-676DCBF72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0ABBE5-B537-4DFF-8890-47F16DDF9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557D6F-3B42-45A9-A49B-E00F3A5D6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3D01FF-3336-4FFF-83EC-538FD8A62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2F00DE-5BFF-4E7D-847B-263BF854A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B9A971-8417-482B-94EC-907A2E153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AC688E-26C8-41D6-848D-1702A56A1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1D4D7-CFE3-439B-9A3E-876C38F6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B31014-0146-4A54-B477-51D763F62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D296AB-FAA2-407F-9367-D1B8CE12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38EAE9-5268-43D8-AD63-D1DB9E2E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2A871A-7A1D-4C3B-8271-96A97515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0F43FE-1318-47BD-BBE0-0D8696129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39C408-CF7A-4759-AB6C-1C94F19C8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D7950C-C17F-4173-95A6-6D5AECFCC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D63EB3-B141-4D75-BE65-D32A48954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832488-CE66-4F68-8412-BA2AEBD96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3C8BA8-308C-4EDE-B301-E3C4274AE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CF36E-802D-4D7B-8706-365292D3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867B5A-EA07-4550-A16C-B993A3C20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E8A330-190C-48B9-9283-70E1ABDD0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1ED9BF-802E-4F21-BD79-2DC85AC77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1EC925-7704-48C5-9693-0FA4E2FB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D9C28A-EEB5-4B44-A16A-24476D48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70E0A7-2F4D-4182-98FC-6E7408F4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614669-CF8C-4879-A27E-E567533D4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1B4B56-4096-4AB1-BC33-7421D1F6B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FF654E-86F8-4E80-9E6F-099B0409A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34C627-3E2F-4340-9FB9-60E884B0B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F2D4D-C5CE-42F0-93FB-948C92EFC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E89C87-4B08-4EC9-97E7-A9C08D0C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FC2664-4649-4F4F-AAFC-87139EFC5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CB6E72-A471-4728-873B-F7A259F4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647C9A-EBC7-4B19-98E9-E59297EDE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2E4507-2D79-4E8A-82F8-EAD97B8CD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8D9295-216F-4421-A752-AFA5D1DA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903423-8C15-4AC5-B3A8-70210E4F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22CE3E-9467-4B7B-B8A8-C62A23E8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A445C0-2643-4D71-A60B-0E3B4B5E7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8BE3B7-E63C-4730-B30E-11F173BEB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2E334-C89D-4655-9814-DF3CD22A6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9D07B1-92D6-4C53-AFB4-CE866881C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93ED7E-4505-4FEA-8EF5-7CECAF835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EC965C-BA14-4B83-890C-E926153DA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B524EE-564E-42F8-8E14-A8B4060B4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F3D58F-69DF-4E1E-9BB6-FD8F4B046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307C15-F512-42DB-8FE6-42AC0F4B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289291-D68C-4B8D-B0B1-16D550623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60A99E-8FD5-4A08-9EFF-B7379FEC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99A90D-4C34-4365-9EDA-6E84BEC7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8BF3D6-09CF-4212-AFBA-AEE6CE1D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B00F9-5CE8-4334-B10E-70690D653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357C51-7A93-481A-AEC2-B777BDC2A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96C92E-E464-492D-A611-3D20F316C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8BC8F5-A666-47C8-A647-F42D4E5FA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27732CF-4E2A-488B-9AC7-905A88261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5A9E092-5FF1-400D-8FD0-D86C35504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102DB34-B4E1-432B-8F9D-46F80CB2C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C7995E0-3C4B-459E-A95C-ACC6D2AD0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6A20056-EF8A-438F-9811-8C4208E24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FC470E1-6ABC-4704-BC3B-B4A25EAD1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05C6941-FF28-4674-869A-CE9C875B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4B99B-04C4-4733-8467-61D507CE4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6440839-6376-4E98-91D9-A74A7A61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B8B36E9-0AB1-4D61-BDC3-9E36633E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422FEA-CAD9-482B-933D-660F08EBB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93DC345-CC2A-43FD-87D5-3837F4494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06ECBC2-B3B8-47C2-AA56-1E3BA56F9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262F913-DF3C-45C4-84B8-C9F6F08A1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60569E8-BF43-4A82-847C-B3AE9C7DD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5C0B14F-F9CE-4B15-AE1D-33051C855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1933189-5842-487C-9D89-971AE001C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8625EFF-E241-428C-8A72-DE51A1530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E68B5-0F1B-4910-A811-37B72A9E2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DF42D8C-B934-4D1C-BF86-CB1FC65B9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265D485-F22C-4A77-872E-986449D2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CBE8554-9138-4D76-B053-8CF9C7AA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19458FE-5549-4073-BB1A-E90DC766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6F59124-0E0A-4E60-B323-71B497BF8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4970CA8-6DCB-415A-8D90-DA2AE3CF0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6E6CFE2-DE16-48B0-AEC6-67141021F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8A87104-DAEE-4E56-873A-A5BD39847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D8232DE-F5D7-446B-8F71-A8E565F4C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C35B10E-C6DD-4B73-8546-F89227F53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BB8C5-3D20-4734-84DE-25CE9AE8A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CB78BD8-5F16-476C-A10C-7C67FC739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D427F0C-09F4-4108-BBB9-A3F6CC13A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5F4FBAB-0D12-4AE5-8791-118E2C609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A6D5041-7C0B-42E4-887F-2F7B418F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842B38A-042F-4A8E-B4F8-0A780639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F334A22-B8B5-4F6F-8B40-5F12B549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56376E2-46B0-495B-91AE-613A56044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D82C938-DDF5-4BC2-88D9-BC33060B3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9C0FB23-F2B6-49DD-99B8-E59D57B9A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25740-7F7B-4043-9A4F-BF79A6796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6B86-E06B-43CC-A596-6F665FB9D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220D3-F72E-4F4B-A010-66823207D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D552F-B129-4BE4-AE37-ACC4B84C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750BC-65E6-4AB9-8B84-3E2E1FC9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D3BA0-AE10-45B6-A160-F9E2789F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C9327-7994-4071-8368-7B1BACBF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E9F4C-8B77-47D6-9DC6-C74AD22D6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E0034-FCC3-40AD-B0B7-D022C65EC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30C78-6631-42C4-8B6F-72242B176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3900F-8FE2-4C2E-B5FC-CCBD3AA31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6AE92-DFE0-4CDF-8DBA-B8CB12026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5970-97F3-4C64-8870-2E2B91A5C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E4936-3F20-4554-B09C-B4A710F3D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68E45-BF27-421E-909C-F90BC16C0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1F07A-9C57-4746-AB49-7A7CAC39A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FC8B7-6E43-489F-B624-53338AF7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47D09-7A42-463D-B9B1-21376663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7D7BE-1593-438C-9D3E-E1387B98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52968-B242-4607-A0D0-8B2F2D1CB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BD55D-9055-464F-B3EE-FC9784E01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30A89-DE3C-4A7C-8C9C-E2E3ED267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F5D6FD-A24F-471E-B184-05F7A9613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AB79-1521-45AD-9BB2-8A01D1662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B174E-6166-4EB3-9D2A-0DD5E6D70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0C907-2FD9-4449-97E9-DC2E46893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F249F-35B8-4B6C-9EEF-1661E002A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8CF7F-F1D8-4744-94D4-7B4EDB0D4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E2D14-C379-4F8B-9C89-E1B09A8FA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58335-02E0-4C01-B1FF-1DD31ACC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7D1DF-834D-48D6-9099-11750377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126A0-E7DB-4358-BA1A-F50F4BDE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C3D05-3605-416F-AA4A-AD7AA4BBF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E94E1-E3F0-44F2-AB56-2B5383C24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4FA1-B17B-4BC4-BF98-0DD427B52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A3686-A7F4-477D-9E4E-D822785D6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A9ABE0-C89A-4F39-9CF4-068791DAE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8A1B7-DF8E-489B-AB9E-8DF1C6EAD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15179-B8D8-4C86-A621-4C069512C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F4006-44AB-4D07-9635-B6BEA96B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F71ACA-14B3-4144-ACCF-7594693C6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1FE71-9F1E-4F96-93BB-81CE59113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7BE912-7C94-49F5-B6CE-B54955AA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60A9C-33E8-49E4-B4A6-8FA9C2CE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EF7CA-FD63-489D-9EDF-4BB5E0A7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9FC4-EFD7-45FA-80F5-099E86CC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C44D9-DEAF-436A-9F69-E9449E1FC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E9B7F7-9716-4759-8624-A4B040FE8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CD058-77AD-4A41-B7D2-3A5D9D61D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F82FE5-69BE-480C-AD67-1B4E1BC6D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08335-8D35-4DE3-978C-4D42A3BB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83CDB9-108A-4D68-9CD8-597EE867C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292E3-4061-43DA-B1E8-7390AEF53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8BF8C-9A89-4165-8018-58076BDEA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D8BB2-952A-4C92-99F2-FF18AD2E2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5F4EB-4BFB-47A8-BD4B-60E0C1F8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EA96-A022-4EB3-9FC1-15134AF9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FCC78F-A2FA-45CC-B3CB-809E9F69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BDC66-69EF-4D5D-9D87-CD61E290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1B306E-C7FB-43CC-ADB8-1762D9799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881B0-D597-4C10-894C-D3C36C009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08C4BD-12AB-4BDD-849A-5B2ED18E3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4B7E1D-B497-4BB2-B486-5314FB472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200244-50F9-4CD3-B7E3-FDCE59A44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A24A9-CD7A-4C3D-90E6-32DCC4F30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227C81-8888-4C87-88E6-32A1EF8C3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C56465-6FA6-401E-96B2-83F8DC6C3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6983-6AF1-4C9C-BB50-D9D33D0F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DF0B6-8840-4464-A5A4-6B0D89657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BE18D3-B7FE-401D-B3D3-C258F9BC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83782B-19D1-4B91-9714-44083808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75A3D4-2B33-44B3-BACC-CDFFC22B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1A6282-A40F-484B-A1C6-624C464A7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DC89C7-938A-4152-936C-4515E8CF3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A2BF50-7D91-4A65-9272-5F80E45A4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E333DD-B3E8-43B9-8BCE-06B02F59C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732FA2-C2DA-46A1-A374-3F5E74696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469F8D-19C5-43BF-BCA8-747392545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D77BA-C5CC-40C0-817C-51DCA06D633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02FA5-C5D8-4052-9E1F-459CDBE7F13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CF386-3B82-487C-92A3-797AF350032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A7176-F6E0-4D1F-B006-1F0F38D1CF3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52A52-15C6-4D2C-A81D-88751A4E28E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A1CB1-295A-4D2F-96D2-C7D5138B38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EC2E9-182E-44E4-A64F-D87D1E19D5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2BBE9-1F80-4631-8863-C84DC25666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B1DB7-3509-4520-85AA-DC3AB3A04C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FF62C-8F09-46F2-BBEF-95274C52CD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1761E-749A-4221-BA6A-532EABA825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63836-430F-46B5-AA3B-4464488AB4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58BA9-91F7-4075-A8CA-CC7228DF2B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579CA-E2E7-41F8-8D48-D406BDFD0E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3E9D6-2B15-4C1D-A988-BED287113E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9A177-E66F-4EE3-B1F5-95048DFB58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C6410-B832-4B39-A0B5-19948E4984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375AB-3BA7-46DD-A09D-A52F33BF5D76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6E4B0-2140-494A-9BA7-C8E7D524AE5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8E8CA-9B52-4D94-B2B5-0B76A504584A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3332D-4D62-457F-9F7D-78415C1B2BA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61221-DAC8-4538-893A-73D1051C249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A78A7-925B-4CA1-8B6A-CB162EA765B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E45C7-105B-4609-AEF2-C0C6B487A1B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  <a:ea typeface="Arial"/>
              </a:rPr>
              <a:t>GEF Strategic Approach to </a:t>
            </a:r>
            <a:br>
              <a:rPr sz="4000"/>
            </a:br>
            <a:r>
              <a:rPr b="1" lang="en-US" sz="4000" spc="-1" strike="noStrike">
                <a:solidFill>
                  <a:srgbClr val="00642d"/>
                </a:solidFill>
                <a:latin typeface="Calibri"/>
                <a:ea typeface="Arial"/>
              </a:rPr>
              <a:t>Capacity Build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5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1006" name="Subtitle 4"/>
          <p:cNvSpPr/>
          <p:nvPr/>
        </p:nvSpPr>
        <p:spPr>
          <a:xfrm>
            <a:off x="1219320" y="3657600"/>
            <a:ext cx="67053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25 – 27 October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Nairobi, Keny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4617b"/>
                </a:solidFill>
                <a:latin typeface="Calibri"/>
              </a:rPr>
              <a:t>Four Pathways defined to develop capacity of countries to implement Rio Conventions </a:t>
            </a:r>
            <a:r>
              <a:rPr b="0" lang="en-US" sz="3000" spc="-1" strike="noStrike">
                <a:solidFill>
                  <a:srgbClr val="04617b"/>
                </a:solidFill>
                <a:latin typeface="Calibri"/>
              </a:rPr>
              <a:t>(Council in 2003 C/22.8)</a:t>
            </a:r>
            <a:endParaRPr b="0" lang="en-US" sz="3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8" name=""/>
          <p:cNvSpPr txBox="1"/>
          <p:nvPr/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f assessment of capacity needs (NCSA),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engthening capacity development elements in GEF projects,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rgeted capacity development projects CD (former CB-2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ntry specific programs for addressing critical capacity building needs in LDCs and SID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09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trategic objectives for cross-cutting capacity development inGEF-5 (available 44 mln USD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1" name=""/>
          <p:cNvSpPr txBox="1"/>
          <p:nvPr/>
        </p:nvSpPr>
        <p:spPr>
          <a:xfrm>
            <a:off x="38088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D 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 Enhance capacities of stakeholders for engagement through consultative proces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D 2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Generate, access and use of information and knowled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D 3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Strengthened capacities for policy and legislation  development for achieving global benefi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D 4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Strengthened capacities for management and implementation of convention guidelin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D 5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Capacities enhanced to monitor and evaluate environmental impacts and tren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12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Generic requirements for projects: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380880" y="13712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e consistent with strategic objectives for cross-cutting capacity develop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http://www.thegef.org/gef/GEF5_Capacity_Development_Strategy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ave to be multifocal (to benefit at least three focal areas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iorities to be identified through NCSA process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vide co-financing at least with ratio 1:1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n be MSPs or FSP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15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7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18:09:00Z</dcterms:created>
  <dc:creator>Daniel</dc:creator>
  <dc:description/>
  <dc:language>en-US</dc:language>
  <cp:lastModifiedBy>wb350798</cp:lastModifiedBy>
  <dcterms:modified xsi:type="dcterms:W3CDTF">2011-11-17T16:23:36Z</dcterms:modified>
  <cp:revision>110</cp:revision>
  <dc:subject/>
  <dc:title>GEF NGO Network</dc:title>
</cp:coreProperties>
</file>