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7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ftr" idx="7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 type="sldNum" idx="7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B91B-4912-4C58-9C03-0DC9BE367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52B0-B251-47C4-BEB4-DC5E2A454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D1A-CB09-4622-BA3C-0378B8E0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B0A-00BC-4D33-B46B-EE221BD8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3516D-7180-4D4F-A8AA-03C78DAA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D4565-5BA3-4CC8-BB59-88044B22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D8E30-C987-4E79-9060-4560C9A7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DB9ED-5A6F-497A-B79F-370F0065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3059C-7EA2-4EF8-9D6B-BD87DAC6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2AFB1-7D21-4D38-A1F7-F6B8B8FF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C1FF4-B3DD-44DE-BF0C-9CE64DFB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300FE-4171-43C9-8D11-ED5F9A9D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F0E8F-0287-4C66-9447-42BAB018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9C93C-40B4-4EF9-90AC-6B7FB625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508-950D-467C-9669-F37E7205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A327E-3645-46CB-B9C0-A792C5AA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0E9DB-81CA-4A61-8483-0FD418BB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27B26-2B07-4497-A3FB-5C6FCCD3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1D96E-B967-481B-9563-4F1868DE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D27BE-A390-4CC3-99E9-0B7EA80A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067B4-E443-4767-AAEE-693C5189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AEBA6-CF38-4B1E-9CA8-D95978A1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01165-A0A9-478A-87F2-D5D535D9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F8C43-8BF6-4E3E-8778-E089066A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90F39-A1F1-4FC7-99F7-3199B433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EF2-6B03-4328-BB06-88BAF875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64411-50FD-4601-BDA2-EF3A38D1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3A913-71B1-4282-878B-FBFF6C62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D2A0D-B34F-427E-87B2-A49783DF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9856C-A5AA-4A17-881D-3C116063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342DE-4578-45AC-B793-513FEC6D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7021E-9692-42E8-AE87-400A563B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AEB67-E6BE-4719-B87E-D45CBFCC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D0164-FDC1-4BB5-B555-588D3DA7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D71B1-AA84-4952-8BC6-13463C6D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D1D8A-929B-43B1-819F-8695B027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8C30-6148-4342-819F-D3F1DAB8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481C6-09D4-4D34-B99A-29BECE57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3D9AA-B6C8-419A-8EDC-E9C00A5C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929B0-DF73-4A01-BD57-564DA95E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92DE0-02D4-4FDA-A13F-8981B83C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11D9D-93A3-48BE-81F0-4DCFFB57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8F263-CD0C-4E64-84E9-2A10713E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7D967-17C8-492A-9E69-02207E81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1C3B1-78AC-4CF6-923E-E0CE25C2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2E4E7-AA2E-45F5-A9D6-DE6D7380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2E464-69D6-48AF-83E9-A9A83F4F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5BFF-83AC-4D3D-B2E2-D9C38CD9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C1E57-002B-46EC-832E-BBCE8410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B8B77-8822-476B-A9C0-4AAAFA8F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9579D-13BB-4933-B17E-167F48BC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0E9E9-7312-4272-9F0B-56272718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F9347-B69A-4856-A04C-55E78C75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D5947-204F-41F9-82AF-876D0580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4CEA3-CEF5-48AD-842A-2C608C31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92A2C-8714-460A-B619-D36C92C1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48B1C-F6F9-4605-8BD6-6C83C733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B2692-2D2E-47EC-BC03-41247773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D339-ECEA-4503-8A6B-CA5C87A1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8CAB6-B3DE-4988-B811-ED8D3763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41D17-C26E-4C2A-9F5C-C95F05B3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09793-667C-4BCF-8836-A5A6AF8F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605C1-9466-489F-970B-9D499450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4D87F-BAED-46D5-9418-3AF4EAE9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FA7C0-FC93-4165-891C-08C51592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96A75-1857-48B4-8443-5A1F49EF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32A1C-5BA0-4BEF-91AB-4E0E96CB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0AB11-0700-4EA6-A162-2CA00816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E36CB-720E-4FC6-8ED5-EE4412FA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F789-B0E9-47A3-8981-8AA6CC0A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FC588-19E6-4382-B7B5-698BE802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EBA2A-6764-458A-BD72-FF843DC4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186F3-75F3-4B65-B7BD-E9F13CED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E0518-0412-4F89-B2E7-8B6332BD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DF1203-56FD-453F-ABCC-EEBD3663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196B0-162A-4B8D-9422-3C41527E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61516B-E7A2-4D5D-B8D7-50352914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97156-6D05-44BC-A60C-817DB944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98410-F331-46F9-8FDB-D6E92DE9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E17AA-B078-45DB-BCC6-2C5693C0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AA84-840B-4533-907C-50DE06DE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1D836-E08A-4842-9EBA-21F8633B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73147D-CCC5-487C-B132-13BD579F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C78019-B435-4040-92F3-887F64FD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5F4CA2-54A1-4831-8947-75BE2BFE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CFC179-FB10-459F-B35C-F51D043A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0DC979-3469-40DD-9809-E6CDD96D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7175E7-C5CD-4C3E-926B-46177F5B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E9B0B3-02F4-432D-AF33-2C6F1FAE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FBF1DE-3C6C-4C8C-9621-058E758E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F92B9-AC82-4B76-A8F1-7D3F5232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4286-66EC-455A-82EE-7632FA4A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DBF994-2F06-4A51-901E-76DA8629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B1954-F77F-4267-B066-4BFBA713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75FEB3-D7AE-4E32-9404-C07FBFD1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46E76E-20D6-4B6F-A9CF-42ACAA3D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B47607-4BE3-4F0C-936F-B9F3578D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46D646-56D2-44A8-BACA-912E5BA1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CC0BDE-0C5C-4304-87B4-346B1EF3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4C49ED-F741-497B-BE5B-1619D054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C6433-C6D6-4956-AC2C-83046437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9B0E2-D09C-4367-9D39-CCDB4938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D1AB-919C-4BDA-AC7C-05547418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AD5223-D0D2-4F99-9293-C277A0C7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7067F8-BC69-449A-B519-4A6B399B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955C70-73F2-49AC-8864-26290E88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B39B4-76EA-481C-838A-15D1B64B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634D43-4E39-4D06-96BA-30AD6F34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A47B09-299E-479D-9A26-43D23E70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74D727-E050-4511-8E1A-FBF158A5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086787-7693-4637-A2DA-069646B0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7702C1-A042-43EC-AADA-1D1CD9E1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7CE38A-6A80-4A06-A1FA-2D7A6AA3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B1B-AB77-47CA-B97B-A2174427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A20B-85C0-4325-84BD-04117496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97AC1A-517B-4DC3-96E4-D1DD9AFB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05DB96-F679-48BC-9609-739F2F13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A3B6A-541B-4A73-846C-86D890E2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168D9E-6AF2-472E-AA7A-E720ACC4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53AAB7-FC6F-4566-8D13-DD2620BE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6942B-5AF2-4F16-9C14-9F352CE9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CD2C49-AD31-42AA-9235-50B36E7D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AB2837-2AB0-4C8E-86A7-BB979CD7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118BA2-62A7-4674-AE2C-F6D8B6B0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19C321-B0D1-4755-95FD-78A23BCD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1ED8-9162-4177-83DB-4C97B03E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02F07-645B-40BE-9DCC-F020E56E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C081FD-AB7A-4B98-AD0C-D7477424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65A0F6-8A84-4B58-A15D-D8044FCC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67486D-117D-42E7-8DC0-40F52486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5D994D-3D02-4C78-94CA-F8DFBB48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ECB3CB-A80E-4000-930B-D7119417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03672-FB9F-4EAB-91E9-C52A618A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DC1BE0-65A8-4B64-A40A-3346AB0F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8CFE2C-A056-4D34-A18D-CE4D48BD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DA26AE-F9C1-4F90-AF13-41FD5F59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BEC0-3860-4251-9CF6-14DC20B1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53497D-850F-4466-AE3B-2ECEBE0C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84836B-895F-48BE-B961-94D932D5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9AC7F0-D519-4268-B924-E15955DF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FDD7C2-7BF5-4B25-B9CC-7A660B43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F8C20D-7C64-468E-BCAF-FEB3107D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454866-0A35-4A2D-9D75-32DB0CC2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D0C224-9E77-414B-ADD5-6BAD54B9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F54541-AF99-47DE-8141-B22B45F9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973934-CF6E-444E-A064-349C945E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CF0C5B-6275-4CB6-86D5-59337FB2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98BF-14E8-41E5-A5DF-43DC0D1D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9F6799-690F-4386-A013-5052FB94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292F53-3158-457B-A63D-603ED56F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FB8595-5D15-4D5B-821D-C0962247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7321B7-6D52-47A6-B23F-3AF1710A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25F5FE-876D-42B9-832D-6ADFE164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CB5F1E-3796-4050-B8DA-BE62F24D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6D0698-7F96-44ED-A4C3-EE04699F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0719F2-7409-41E6-BD4D-1F278255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85447C-05E3-47D3-9CED-E5750391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5764A2-F5FA-4A4E-95D4-30D91B2F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9BF5-A0E2-420F-818A-CA45F10B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AB29A1-03B2-4A81-9AE9-01CBED7A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838B0E-FB20-4A09-8572-62C88FD9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5AF3B9-931E-4478-A6AF-911D3076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034054-AB10-4103-B15A-D0A71DD4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6C3B91-9148-4AD4-BC81-55D863BD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E9CFD2-FC36-439D-8331-2F2EFFE7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0E11F1-9BD8-4D15-90EB-0D5AF259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EFB4AB-EDDB-4B6D-AE7A-87BE48EB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86919F-D51B-4838-9500-04C6D624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3FA2A8-82DD-4B5B-9337-E8DBD9F1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4C1D-3E86-4A1B-9B1A-1ACEC7E2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FB42FA-2EC5-4940-B72B-83E8150E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AF3244-D245-43B5-A6E8-812264A5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D67040-BBBF-41F3-A7AE-ECE3FB8C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E5D9F5-2549-4F3B-A8AB-1743E4BE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8B0724-F856-48E6-B1C2-D8AED63F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FECA93-028B-4414-B02E-07FB63B7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0D1C5C-88EC-42C3-80CD-29239CB5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6FA703-9BC4-48AE-A51E-104B0F38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1F2045-8456-4B0C-B9B4-AE89205D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42B8D9-90CA-4E56-92D4-C1035B2D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D87DC-12E2-4BC4-AA9D-3F375044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55024F-8D7A-480A-A30F-1747F3AE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77218E-8C6D-4884-950F-7C14CC99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65D0D3-75C1-4465-BC62-013935B3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E70522-7A4D-4CA7-950D-8FFF2670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FFA8E8-D546-45F9-A27B-E9F600D8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689A9E-990D-4557-80F3-D1C352CA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437658-73D6-467A-AD5C-1660F8B5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6460E3-8A84-407C-B412-60B9E42A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C7E602-B3C5-4E38-BE16-58C5BBC4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CAA412-263E-4C1A-9C72-84D98E8D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84A1-0A77-4667-9A3C-FE8182A8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F817DF-DD7A-43FD-B7D7-D43C4B86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C92B27-51A3-4264-B19F-2C62A712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61C0BD-02FB-4121-AEA0-D4A2DD82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8307ED-8A54-42D2-828F-B2D43F05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01B4EA-A089-4E65-A2BA-9AEFF858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3B0A89-8D6C-4E56-BB4E-BC7C01D1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D3B920-E2B2-4F97-9560-5DDBEE2D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6E1C0F-0FC9-443E-9279-2FC9CF00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C503BA-09BA-4D3D-BC85-F5A4A22B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84ABC5-5A56-45BF-819B-543D3796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E0B95-C9BE-4442-ADCD-E080440D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BCF6CB-0224-49A2-AF72-9086A6AD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2A5B3B-F3D2-413E-ACF3-B674EA20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64FBA6-8EFA-49D9-924A-812C8AD5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D20EC1-CD3D-424E-84E7-12942DB4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097964-9D31-4AB9-B31C-AB0C43A2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AD74C9-0DCB-4D4A-A38C-0A1EE384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32D42F-3D6B-432E-966A-13E5505A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359E30-6474-4FC9-A7AE-4664DB24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C89F37-CF12-4463-B7C7-8B7D0E1C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960B-D2AD-4F29-BABF-06A6EB0E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A3A-23A9-4937-A0D5-693E00A2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B5466-E5A8-4DB2-BAEB-DB0957EE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55757-4F68-4C63-B7D7-1FB700F5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E4C4A-CE06-4A63-87A6-E378B4EC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7DCA7-0426-496C-ABBB-E0AC9B79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0C36E-E747-4D65-8965-3B7E5D99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FCCC-2B4E-450A-BCE4-97F58F7B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839E-B385-4CEA-9859-CB67C1EC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5A44A-B185-44F0-A167-532AD869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0C827-787B-4F6F-B28A-0EA2EFC9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B0DE-0ADA-414D-9E28-82FFA2ED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B18-5948-4723-BC67-727B4B7E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EAC69-04F1-432B-A94D-9021ABF5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2EF64-7FDE-4D19-9032-311BC137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C0845-53F3-497D-A181-9211A5D1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AD460-41AB-4DED-B669-7F5EAB91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25DA0-757A-48C0-8113-44E25FB6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4CE24-4584-4671-A854-878DF20E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5666C-7916-4C14-94CB-BA2FDBB7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5F123-5D4A-468B-ACFE-6417847E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3C729-3DB0-47D5-8C07-828EDE19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8E413-B9BD-44E9-ACCC-AF66613D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B6E-B3BF-4E98-B166-D73DB8F2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54E0C-33F5-411E-9859-79DD1190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6EFC4-B5A8-4882-B99B-E874376F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586C0-295E-4F55-8FC9-42AD88F0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5B8CE-BFF8-4F8E-822A-3F397FE7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10247-066B-48BC-94F9-70B6F4F8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C3417-2D73-4659-9AC5-1D72E05A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9D54F-1244-48B1-9583-67A6B1E7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D139B-E33A-4DA1-AF7D-1EEC344A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A968F-EEA1-4BDC-9A9C-00FC1926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BA755-AE07-4137-B77C-BB9712DF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385-1740-4A06-8285-7BFA9328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76735-1FFC-4E8F-95D9-2BACBF0C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3B21A-3140-4F8A-A059-C73F8EBF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2939F-0A5C-482F-90CC-EF601339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CB0C0-10F3-46EB-A39F-158FEF03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D746A-CD47-41E7-9940-46948758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06EDE-C964-46EB-B4E2-31BD4F0F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92D1A-BD4F-42A1-AF5D-72BF48FC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D9BB3-7585-49FA-AA9E-25826BFC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7CD5B-AA64-450A-91A5-176053FE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65887-50C9-47BD-89E6-45615AA0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161-3535-42CE-8917-64A13E4C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4238E-7A5D-4CFC-83BE-6D29F6DE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525D0-33F7-4DB1-8DCE-6BDBA708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9B176-2297-401C-AAF4-93FA8C50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85B97-A3D1-4CF6-88D4-A3955F32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98407-0D61-4BFB-BF86-59EC9899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BCC97-00D4-432E-888D-D4B1D797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1AF84-19D4-4E98-8475-6FDAB13E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331DB-8D92-4908-AFC1-753832EA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35451-B50A-42DB-BD7E-3BA6D865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44AE1-9F51-4542-BEE7-0129F866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1EB-2B44-4645-A2B5-BC3B85F6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4ADDC-CD4F-4EEA-B6B4-4E6E1285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93FC0-E30E-4FC4-9D31-0F438889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30365-CF24-4519-8E81-B06E1C73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329E0-4D0B-49C9-AA23-80E44F22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8ECF5-FE46-4B2D-A8FA-116E1E78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E9DF0-4465-4D86-A1F9-69B271EE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374FD-6337-4115-B809-A812E963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E5EA8-927A-4D0B-8651-CBC37F78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93171-6E93-4240-84D1-AE902ECA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47BF5-6F5B-40E6-A830-A476D88C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AB4-8A15-4413-9D2F-90599A8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0883E-D090-491C-826E-A2CF4766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E71EF-D619-4C08-AD33-02F87786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3DFB2-3734-4E96-94B3-98D8E23A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4A002-6881-41CF-99B3-77E1F56D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9187A-321D-46A0-8ACE-A6BA680A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FA78F-98DA-41CB-93F8-2E6C3C17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67971-5902-443B-BB6F-E6AC9696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F2E99-A533-4D72-9131-618FEC8D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F433A-7C90-41FE-ABB2-13AB4A8C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F60BF-E880-4682-9F1E-EBD185C4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0AA8-01BD-478C-B56A-4C1761C6F26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7DB1-7374-435C-9FC1-847DE60EFEC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F0C7-59AB-43A2-8A6B-5E0CA910D1D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7FA1-1D4B-4153-AE19-F9C2CEFD516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DC47-40F8-4465-8538-A224CAF3125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F898-93E9-4A64-8BDD-1499C8028E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BFD0-11CB-46E0-8BCC-429D024EF0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336F-4CFB-4EE4-9316-58FC340E3C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A7D2-3E39-4579-B75A-634A183B92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DC94-A0ED-42CC-9C1E-5052A9AFD5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E726-29E9-4C40-BAED-452551A1D7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B5F0-D039-4A1A-890C-2772A9A47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4DAA-8218-4245-8FCB-E6F5DDA27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7C33-5E40-44A1-A677-329AE81092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7DF2-F47E-4A44-AE72-801E52F59F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53BC-4F0F-47A6-ACD8-28ECF6E327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DA81-2D01-4AD2-A1F2-AF1B8008F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F81D-C81A-4FF4-8D0D-F441F5C5126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2ED0-3D9F-4023-B419-0F81FD2AD26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B6FF-32E1-4FE1-A190-348F634773B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58B1-9C19-428B-9689-0EFF52A5D83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0DAD-D4F5-4CE3-96FA-2AA0CFDEEBA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C887-39AB-486A-8FB3-6BC55AF4486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CF5B-8875-4954-B0DA-95DE8D7BBE0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trategic Approach to 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06" name="Subtitle 4"/>
          <p:cNvSpPr/>
          <p:nvPr/>
        </p:nvSpPr>
        <p:spPr>
          <a:xfrm>
            <a:off x="1295280" y="41148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 to 3 Novembe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Cape Town, South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alibri"/>
              </a:rPr>
              <a:t>Four Pathways defined to develop capacity of countries to implement Rio Conventions 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(Council in 2003 C/22.8)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 assessment of capacity needs (NCSA)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ening capacity development elements in GEF projects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capacity development projects CD (former CB-2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specific programs for addressing critical capacity building needs in LDCs and SID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rategic objectives for cross-cutting capacity development inGEF-5 (available 44 mln USD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088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Enhance capacities of stakeholders for engagement through consultative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Generate, access and use of information a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3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policy and legislation  development for achieving global benef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4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management and implementation of convention guide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apacities enhanced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Generic requirements for projects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consistent with strategic objectives for cross-cutting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www.thegef.org/gef/GEF5_Capacity_Development_Strategy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to be multifocal (to benefit at least three focal areas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orities to be identified through NCSA proces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co-financing at least with ratio 1:1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be MSPs or FS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7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wb350798</cp:lastModifiedBy>
  <dcterms:modified xsi:type="dcterms:W3CDTF">2011-11-17T18:00:35Z</dcterms:modified>
  <cp:revision>111</cp:revision>
  <dc:subject/>
  <dc:title>GEF NGO Network</dc:title>
</cp:coreProperties>
</file>