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2281-CE9E-497B-BD08-AE2F12DC4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7F68-F27C-48A6-8AA4-E51F652D2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0F3-4BEA-4D81-9C5A-1D0C2483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720-D04E-434C-92C3-27B41944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95D4D-D7B2-4679-A304-5A0BF3FF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1A232-EAFE-43FD-B8DE-D017D249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D940C-3393-43C2-9F4B-4C91075D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484E7-AC3C-495D-A49D-7C45ED1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2AB55-D896-4875-88AF-AE66F2CF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4EBFE-192A-426F-A462-1621F6BA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0E3D6-11DA-4E8F-9172-F229063A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B7C92-84B1-42ED-B5FB-215377DD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949B4-A2D9-4A72-BE38-B377448F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5FA16-AFC9-4C5E-91E7-4232BDB7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81B-38EA-41FF-B759-ADA4B7DE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949C6-05A6-4A66-A434-45DB97CA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74218-5281-41A3-89CD-60E25B20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34A1A-9E5B-4467-92C8-7462F1B5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AAC20-AB38-4C37-A8E3-3D48FB3B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AE0FC-C1FD-4678-8140-589FE0E6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6162A-2112-49A6-A8B2-E0F624AE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2950B-0EB3-45DF-A336-367570D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B73C8-57B8-4FDB-A96B-1EEC2EE0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31B20-72DA-41EE-961F-06615D83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FFCD3-1196-47C0-98D0-65122941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380-AC2E-4AED-A7C7-5551E586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AFC47-B024-43D5-8EBE-83A73E1B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99A40-9FD3-44C6-8D23-DAC8CA15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9DEAB-E3B5-4031-B200-B8D94C69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A3D75-4F60-4560-BF1D-79126A6D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5D22F-B58E-4859-A33D-A58829E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28E9F-E08F-4DDA-B560-B0B86ED0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C3185-D3AD-4F6D-8187-C4F0AE7B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9A829-4890-4DE1-80D5-E34FDED6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D13E2-06D9-4A01-82AD-79905BE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CB475-D629-4EC4-AE3B-F3EE2FC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2EFF-3CD4-4124-A9E3-1BFEE7D8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BF1C4-45F9-4FAD-BE9B-B0BAC142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0DEF1-EA22-4A0F-830F-B97108FC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A52D4-E25B-451F-A503-A1D5F265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0F236-90A9-4FD0-BE7E-E91002B6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8798D-C061-4447-B9A1-3FAAFC83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22FE8-A630-4806-8F7F-683A0F1E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3669D-AEC2-4892-8049-C85FDA58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9CA9F-CBEE-48B5-A8E5-8D11F414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50C37-1D83-4502-9640-14B1A388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2FCDE-4D7D-42E0-B283-5E1E7B7F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BF9B-4892-495D-816F-55BDE146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8151E-64FC-49BA-9C62-0730B907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0837E-184A-4144-B76F-24F0324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BE3D6-76E9-4A05-8141-502FD813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16B97-4E30-439B-8350-F276850F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78241-E54E-4FDD-AE45-B2813275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AB00D-55F6-4340-848A-68F3A309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397E6-1AB8-4777-AE58-8420D653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AFCE4-BD09-40D5-BEFC-37318A61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88572-148F-4FB9-A2EC-6B49A7E0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8BB63-EDC9-4FE5-A1E0-DDD9F657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7CB8-696D-4922-89A1-8A49724E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3811F-78A4-49B8-A1E1-E3DA596A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20BDD-19C9-42CF-9094-14411910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C23FE-F486-4C86-99F1-94AB146D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DB3E7-1EE3-45EE-AC2E-F84EAB8D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5A52F-BBD6-4C29-88B9-A57CAB85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9D60E-2F36-4A20-A081-7E531411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1A499-79BC-4793-BAA8-6EF5E5FE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5564C-2091-422F-B782-479F13B2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B672D-F750-4079-98C6-F1FF2EC7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4114A-5FED-4630-83E9-DCC1F91A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56E-4728-44BB-95C1-43AE7FC0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7E668-1552-40CF-BB72-A41F2106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B5C57-1BA4-49C9-81A6-886FE4BF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FCB3F-A492-47B5-9D37-57741CCE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C2CC0-2C42-469F-B891-C2D20D0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6277E-ED69-4F40-9B45-D2CA7E1E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C15FA-926D-4FFC-B0C2-DA90C51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0C5DF-4CB2-4256-BDF3-23F50003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12EE2-653C-42F0-8B05-BFA21AD9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BC864-D90E-474A-999E-D5FFBED5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E1567-0459-4F68-8ABD-B6661301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9A26-33BD-439C-A558-B2AA740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A1B9F-3191-49E7-B34C-0C745154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BBC05-24F3-4612-9849-DE199E85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1E6D4-659A-4430-8B60-83EFB69A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0E53D-69BD-41D0-9663-355D14E4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6E3DB-358E-4632-B25D-07417E5A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7E86F-BF88-45A0-B285-4048228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C18D9-6DA1-4B3E-874D-6232F60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74C8A-A5F1-48BB-BADA-D158520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5CE8D-C391-4B9C-834B-FFEDC62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3DE36-29CB-4358-8D41-0E5E6E68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6851-5B35-497A-9871-C656D9AA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F5E3A7-B97C-4B44-947D-26C6D8E8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41423-5237-4878-8DCE-91323B7D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142AC-72D3-4BA3-8988-049803E5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62330-31F1-4017-BC8B-B6F0099A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5F966-FC6C-43CB-8660-CB527F1F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1EBE0-B6C7-4172-B94E-DD5480BD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CC79D-ED60-49F7-9FF8-E0ED8AB8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AD5D6-12FB-4764-B729-9A5A2FE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49286-E1C5-41B9-AC6B-D661812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97E12-AA1D-45BA-8947-B4DC516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9100-8A05-4E76-A0A9-44C5F68C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A391D-83A5-49CF-9192-BF47371B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CE841-FE9C-44F6-BEC4-338BDDD3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10B7E-EBC2-4E22-8FC0-BAD9D365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54104-07FC-40FC-9D4D-686C4166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4AD3F-05FE-48B4-A0CD-069DF037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3258A0-78C4-42A8-A98C-FB1BB22A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EF8A47-44F7-4E56-BC9D-49B072C9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3232A-FA58-4D36-8150-557DA6BE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22E4E-97AF-4D21-834B-A9FDF594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E5988-9BD0-4172-B1DC-0EAD8C72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101-F79F-4F5A-948F-A15E1EF2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96DF-A9BC-459D-B0E0-31A01263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5CA50-0161-44CD-81DD-890AAFD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5176DA-0AF7-493F-982A-1D5C26F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E0C43-14A4-46E0-8499-7FBFB0C8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1ED6E9-F910-40DE-ADDB-3D20B8C4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4434B-7938-48A4-8ADA-91C1AD00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273185-5B87-4C11-A0FE-3D022EAD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8E8AF-4FC3-4F3B-8921-8882D33C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C973E-DFCE-4181-B90E-9A4F6DA3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F1F00-DA5B-412A-8CA3-6B047761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FB7E4-C984-4411-A432-1B30843F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CDA9-FE35-4CA7-9B42-02B7B3D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B5D76-AC04-4671-8996-DD00E4BA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FAF37F-E41A-4954-A567-BB1F3F5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E2370-7CAE-4437-B901-0EC2F0B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DB930-09A0-49BA-92AD-D85836D4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AC5D12-3E7F-40C0-A4B3-FB0BACB0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7790A9-76DD-4922-A198-39EFBE3C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24487-B2A2-4455-B1C7-219887F6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809A7D-E034-4086-A8EC-2F371704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DE68DB-47C3-4856-8DC9-E6015AA9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6FD81A-EA83-41F6-A7EA-BDA7699C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7A38-2309-4C19-802B-F18C152A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1DA9C-0A21-4D57-B977-B9678A45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2909C-FC68-44D2-8B7A-3E72E532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8FC3C4-9D42-42C4-ACB7-FC49F968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65D57-0A95-4347-AFB0-DCE4BC11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91FFD8-1AE7-4BF7-9D39-1C09D14E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24DE9-52A5-435A-9D3D-0A5EDE00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8289D-3B23-427F-9821-B1B51938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ACBBE-A4CC-4191-8E53-0C7672BA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D464FD-CC0E-4AFA-A54A-7E94B233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D7B18-D032-4736-9519-2E8BC169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55EF-0EE0-4CA8-9D5B-361E23E8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CC404-05E1-400A-9727-A42BAE4D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56CD43-D16F-42F0-94D2-10925E7D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B6013-FD32-4D33-9769-BB100292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8588F-4AB5-42D4-A6C4-69B4C9EA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09F496-CEAC-48D7-B3BE-B38DBBF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2614E-744C-4ED8-9623-4AA43AEA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BABD3-7781-4C45-8402-22A0B500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EAD8B-622F-41C6-B7E0-016B435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0A6F31-CB79-461F-B75F-DE7AD7E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A5732-DC2B-4BF2-832A-F6E718FB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1D61-DF78-4EAC-916B-37DB1582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0097D-2638-4F79-BD52-D7E55CE2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42567F-4044-4FAD-A7C5-CEFC9679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E5D3B-8B9A-4394-AEF6-9A686A49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8699C0-014B-45F4-A157-4424A12F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AF5F8-89A9-4B18-9CA8-09D083FC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38AF9-7552-497C-AEE4-103443B6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04EBA-FFA9-419A-BC22-A4BFA9DC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20FCA-CE82-4A2F-980E-C81BF67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DCDEE-C37C-4288-B8A2-42315F40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84984F-6181-435B-84BA-9ED15FF0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71E0-A1FD-469D-9738-5014A67C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31AED-69C1-4AFE-BCA1-94952626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F03A0F-79D7-4EC7-AC62-AC5B261B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D409F0-E874-4DF3-BBDB-6707BA32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4B3445-991F-4322-AED4-F3011862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7FD7EC-5CAE-4D37-8C76-2279C104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A2CC65-6560-408B-A30B-C5F5148F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75DAD7-FDE2-4B82-B28B-1DAA652A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C39CD7-6309-48FD-BA62-C4B64473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1CF8C-5ACA-4816-B420-FC6F7BDA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70DDF6-6352-4A64-B65B-C7663AF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8631-B4AF-4F01-BCC1-D0BD7122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73EFEA-122E-4CFE-9D89-12A444AB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864F49-EBF0-4371-89D4-800E45D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6BB1CB-C85F-4310-9750-D4532FC0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D0251-4399-46CF-9F8A-9384A8AB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6F232A-F8C4-4511-B6B6-5966DC73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13ACF3-2B63-4E3E-ACCC-7E007CAC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415FA7-073D-439D-A8B0-D3429D49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EFC38A-5C63-4855-A186-95E14B75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C21DF0-8267-436F-8488-65BBF053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11F49B-4D6A-4A0C-986F-C8A1363E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745C-4A55-47B1-A9A4-BEC1A0EE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B4D9A6-BB1E-460C-8F24-FC73BFC7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DF41E0-184E-40BC-AD5F-3F96A16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FEFC1-9957-4878-AEA6-430AEAB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2CD607-A747-469D-867D-1CF9B170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7CDFD2-773E-47D9-B305-C232CD86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54C459-811D-41D8-A893-F2D0FAF6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6A26B5-8148-4199-939F-6AB9889C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CCDFCC-A6CA-48FC-8B63-CDAF2149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5F0B49-6FE5-4677-8D68-7B4AFABB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D9C804-FA7C-4627-AD92-13489A50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DA5B8-E436-41E2-9F5B-C543BB46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D6DE5A-7AE7-4BF2-95FD-185E01B1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5E4581-3D0D-4E08-BA92-D96262D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5BB0A5-011A-4E4D-ABC0-F099FAE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55E64B-118A-423A-A634-068CC5B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B89E3E-E0F7-4150-A328-183E7C6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49C58B-7B12-45F9-B9CB-4D97749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3E379A-DA5A-47CB-8CA8-54A03368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F66CB9-C417-4228-AA22-879B1DA7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72A3EE-8C3F-48F2-A58A-E854DB7B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2817-9BD1-44FF-9AA1-2E6EF9D5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D13-E312-41D2-AE61-72DA0505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6F0E-6FB7-4558-BE59-F954ED2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1473-57A5-4ADF-89B6-BD9948E2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7CE4-9849-4042-B364-3050097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FCBE-55FE-4E55-B5FB-210C85B8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81D8-FBBC-4058-8CF4-FE96B35C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980C-049A-44D2-9219-A7FC814F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6CB5-F819-4B6F-9F23-51369F0D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481A6-67B4-430A-ABBE-4875FA6F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E0E3E-876A-42F5-AF65-9BC6B853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6A24-D4EF-4D9F-95FF-FCEADE5B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1FF-9EF1-44C6-A2FE-C480575A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D8CB-B52F-4EEE-95E0-E776B0C9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FFC9-9E59-466F-8BA1-91C9DF2E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B029-03BD-4458-9821-F08B43C3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5D37-6F51-4A27-9885-2C4FB2F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4194-4D45-47D0-BA76-A80A83E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1294-9F19-48FE-8B34-2E6C978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7882A-C777-4FC3-9C2A-2EE98DAD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39B3-D5F5-4BBB-8508-1A6D90CF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E483-B599-413C-A3A1-1C978978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DE806-10A0-4D0F-9BED-90CD0750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437-D610-484A-AA59-4E645A22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185FC-CFFF-4422-B575-CA632F41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9674-60B7-431C-8C08-9321DD7C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9020F-F708-4359-BC11-17F3100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035C2-8712-4ACC-9667-A558421B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2C95-D88F-4B5E-81AC-DC2C1B06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3D672-9C2E-4487-A902-292AA4C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AED49-4B27-4055-9AD1-8E258FA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7AD0-DA0F-49A4-935C-4C2698AC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4BDF-5BE4-4663-8FE5-50B90366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C87B-5797-44A1-AD0E-252199C6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20A-060B-4B51-B875-B4059655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4616-09B4-49F5-BCF7-D321C9C1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0DD0E-0597-43D7-8AC9-8273E0AF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DAB33-C234-47CE-B358-C9B99355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9B18D-7B04-4EBA-AA2F-9DC32875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8131E-6FAC-4C11-BBE2-6D45442C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C188-7D58-4CA7-9C5F-5A4A912B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753C3-345E-41A4-A109-6C76D2BD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3B928-0C78-4267-AB82-968E3BBA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B8A4-1013-481D-8A9B-E5689FFA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A5DF3-E804-4CC4-9127-023D849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8D5-8474-49F1-BD9C-6BAC12C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E6B3A-77EF-437D-A6BB-9B96AE6B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64F4-ACF6-4F10-92FC-0D990E00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27CE0-E473-407C-A9E7-B7659826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61893-F257-47AA-B3BC-EEA4D61C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1E71-B4A2-4445-A30B-26DCC9B4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7A75A-A218-4233-BB3D-284CE35B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8B2F-8DAA-45C7-8ED7-E3718F2E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92A51-2F03-43B9-9DF3-A9B8C4A6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09F28-1226-4E40-B89C-53136D96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A4498-1FB8-47A3-AA0D-DE4AC23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A61-F69F-4BF6-A07F-E823459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091ED-45FF-4DC5-A05B-4DDF066D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300EB-6478-47E0-8D76-A96ADCE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88A0E-550D-41BE-B5C1-930D44E1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0D1A0-F51B-4A8D-93DA-C860350D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F1CCC-1590-40D2-A52F-2B39033A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A024-1E8E-4AFB-B025-6ACBCE30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0BB3A-EDA3-4FFC-B5A4-EDA8EB62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6D701-7955-4163-9169-F60BBE88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DD444-0117-4E1B-AEFF-0C600FA4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8E2B3-5874-4438-901F-88AFE6AF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1C7-C685-402E-B609-BDE97DD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11DAB-322F-41A7-A036-E45C4C1C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43BD5-C798-4C1C-88A5-B3D8F38F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2504D-E867-49F3-867F-66E5DD3E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0A8D8-3DE9-4BB0-8649-B72C1E0C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E0884-0CCC-4B91-AF1F-773D35D9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457D6-D3F3-4139-8F4D-BCFEA343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F5A00-04B5-4DB0-9AB2-35B8FF4D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98536-25D7-46D4-9E60-78D7B788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A64E9-008C-4B51-93D8-8E19046C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9C5A-BDA9-4F64-A8DC-0C1FD377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BC4E-E9F3-4025-A370-3546E3FF16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26E-2020-4D8A-BB83-B99EE54BD5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86B2-307A-4FAD-98F4-06B09CA8C6B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ABC7-81CA-4C57-BC3E-39CA481987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1809-35F1-4303-B4FB-A5A279F244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3A72-AC3B-4619-B051-C44F964E7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4AEA-3CE9-4EEA-9291-4533C9BB3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036A-18EE-4C98-B92E-5F4D9E76B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80E1-BA1D-461E-BFDD-4196A25AB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9832-B31D-42EF-8473-241B45E72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EBD-21F2-4242-8CD5-654144426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AC0E-125F-44E6-B1CA-C54B5F1EB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2DFE-3D18-4729-AEAB-314421992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EA70-6EEB-45EB-9E5F-9A4AF504B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5A01-1059-4BC9-96A3-3592615A7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2ACB-DB56-4B67-AEE8-05EB0F645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23B2-C779-47FF-927A-BA8C6CC99A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C255-3DB8-4FC5-BF0E-4F95FCCC713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2974-3FE7-445D-9410-AFCAA1C9905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A9F-DE7B-4E8F-B121-098E7FDCB31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FC0E-9A6F-4DC3-A448-BBF59531D4D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680E-A7B2-4261-B8EB-B3DBF20964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9109-1C9D-49A6-872C-3545C1269E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3D65-B712-44C7-8C7A-22237886D7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06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 to 3 Novem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Cape Town, South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Four Pathways defined to develop capacity of countries to implement Rio Conventions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11-17T18:00:35Z</dcterms:modified>
  <cp:revision>111</cp:revision>
  <dc:subject/>
  <dc:title>GEF NGO Network</dc:title>
</cp:coreProperties>
</file>