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A692-8561-4595-8828-1DCF960448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C358-A336-487D-8C9C-3E390D21C9C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D29-8A32-4DAA-A40F-A99C3655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048-8D88-424B-8359-CF38EF2E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2898-F639-4C75-AA20-84AC1E9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E2DEE-381C-432E-9382-30A6E2D7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94786-7A31-42CF-9323-F11EEBA8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3DB5F-1869-46FA-849B-5DA30875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147F0-E088-462F-AD22-D2865E17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4E8D7-EDD5-4DA6-A6F6-ACE68ADD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156E1-35B0-40AD-B507-89CF1293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CA2F4-8140-411F-B4BE-29628835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42CA1-696A-4FE5-A826-D0AC325D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D04AC-1749-446C-A053-5589E883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2A3-8E01-4FF3-B2DA-9BC0C6DA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1C731-6C48-476C-9945-DC6F486A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B43D9-59AC-4CB5-98F0-43CA6C42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34B93-597E-4E50-BF69-0D1DA288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77E45-4986-496E-B51C-31685B67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113F8-3ADD-4C5F-A962-E7CF8D64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83B5B-4856-4601-A205-52A0B578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C23B9-F51D-4AB0-9190-09044B8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24542-51F4-4140-A1E1-B8106F9B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E95C6-41E3-4049-9FFF-5F00F542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A01AE-13DA-4274-B91E-B6B33A75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395-BC6E-405C-ABC5-6C840CCB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CE627-97FA-46BF-A5D7-8FDDC6C5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5AF30-4229-4254-892B-704D2F35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14463-596D-4AEA-AC4E-C03747A8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026A0-49A6-4368-B966-49A3B8E5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F05C2-C2B2-49CF-AF3E-6736BDB7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7AD1E-DB72-4DF1-8DEC-AD17867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C304D-4B07-4015-8553-A3CC24CA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82969-F2EA-43C3-BE5A-726444B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5F987-9CC8-405D-A875-2464606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F2B64-D2CD-4194-B05A-5051A26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D388-6D45-463C-AC7F-B95834DE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95949-025A-4D49-9678-510798AF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66A75-EB3B-4E27-9170-0C43B123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85769-C3F0-4C30-A294-05CFADD2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373D8-EC4B-4BEB-8B5F-4EF463FD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122A5-DE6A-44DE-AC6D-BB08B78E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1CF54-4F6D-437A-A731-604033A7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30375-2AB1-435C-A322-BCED7A51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9F2AB-CCE7-447A-A562-240730C1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A2CA4-94EB-4ED3-A1B2-477DD0B3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0E6D2-642E-4AB8-98EE-0376E890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687E-97B9-4215-8AD6-EA6913A3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4B641-E71A-4F1A-98C5-1E93AB1F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52B78-BAD7-42DB-870E-B220A725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30B2A-73F0-4A68-B320-7E4711F8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F1DD0-53EE-4EEA-A38A-B909E58B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B52D1-118E-4DD5-B17A-50EFF46F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C2C67-4FAE-4171-862C-0F8D94ED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90144-76F1-4129-A9EB-B605A308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64ACD-9C15-4C8F-AB14-8346E629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10688-041E-4F9E-913A-BA569FBC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0C2E1-7278-4C0C-A476-FD8EDDC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194D-5DF8-4931-B1B3-4EFCF40D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32FCA-B4C0-4A45-9F33-7B881A46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A4D35-1232-46BD-B496-90D18DB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A47E3-7FAC-4D77-9C65-2DC888E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74721-6CC6-4F67-8C21-DF3D668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59E1A-71AA-486E-9733-FE835338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55C36-C415-42EC-B89E-15CED9B5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173D2-DCB0-48E7-B383-B33FBCDC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EB0D7-59C4-4B9B-A59C-445ED1BF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B6198-0EAF-4B92-B6F6-5FB88808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BFF16-D4EB-482B-835E-C3A9F44A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FFE3-A8A4-4434-807F-DE186FC5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9892F-3862-4798-96CA-2C653E77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2CA13-03BD-4C4D-BCB2-505CFD49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4D9E9-B4DA-4EDB-BCAD-7AEB8B3D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D7FB5-B88B-446E-9E19-D6E1B6B6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E5601-54C3-4E35-ACA1-6DBD7A5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51E42-065C-4817-8237-11222F80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3F6CA-ED7A-4D16-8914-A028EC32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63A37-A566-4EF5-BA1C-9538BA81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B5812-5F8B-4CE0-84AD-F25A34ED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CF903-3B2A-4AD6-9CAC-4DB2C52F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9B98-1BDF-40AC-80A9-0BAD21BC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47435-EA91-45D5-9681-EE84FDA3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64102-8715-4C80-84A6-112DF373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D8C97-6672-4856-A1B5-D7715D0C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CB78D-360B-4768-AD1E-1EFBE8FD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E7047-F696-479A-B727-D2DBB92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42DE3-41EA-4838-9B55-728643C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3E785-7750-472D-9BAD-1087A92D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3FF04-580A-46A9-8213-3D0F4E2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FC59B-697D-478A-A051-838A6EFD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85454-5E61-4E05-A488-C8EB1B14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E80E-2589-4B00-8A3B-BDA8890A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B93DD-4EF5-4D96-9CD6-3E256E71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E7E06-7249-4824-A07D-28479B0A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FAE8F-0B93-43B8-B6E9-DBC7466E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E8F16-2A45-4A69-98D7-04074CA4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07844-2E8B-4DF0-BD16-BFC233B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9B177-5868-4AC7-B9AB-935BF0E7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469A5-7029-467A-9E34-30DAABF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3817C-EBCC-4A2E-B5A9-478288D7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BA848-AE6C-4AD5-9714-A7E354ED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5FA39-A68E-4FF8-BB47-301659F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71C2-9C39-4802-96BF-232605EC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44202-6B46-4BB3-B33D-44A0C7A2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D6401-CB6A-4A68-8CC0-00CD279D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5EC19-B185-41E9-AF8A-751B8170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626D0-D42D-435C-B577-9178D715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4E07D-D973-417B-8710-E9087A39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9A715-A7DC-49A5-82F8-411D330A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27898-79D8-4E15-99AA-DBDA18B0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6D102-A8C9-4A47-95B8-D3D70516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FE838-CE79-4CDF-BE4C-093979CD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49284-4F7A-439C-934D-4828199D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706-D6CA-479C-B65B-D52026A0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5CDB-4FE1-499F-9405-318C9F02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14F0F-5D79-458D-8370-9AA9B871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7F47D-0092-452B-8CC5-BB41A76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A3D8F-548B-486D-9C2B-F74C9034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3A9A9-1D2C-4E84-9A2E-8993AFBE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0C6AF-7DD3-4350-B75D-C1E24F76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96A6F-73B7-4C8C-B153-BE996615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6FBC2-4A3D-42A5-8C7C-46A82BB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74470-880C-4BE2-B6C2-BB20E449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5FA11A-B7F4-45BB-8F6C-B94B561C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7F709-C36E-48D3-9AF2-C8C2B5E6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58CD-6235-4191-B2C3-417BE139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D2C0F-88C2-4AEF-B4B4-BE91C432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73858-A185-4E15-BF99-E44C5F4C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13F22-7FA8-428D-8030-333EA2B6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ADB22-ACD3-4189-9E56-A42982C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19FD8-F03D-40AA-A73D-797FA1F6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3B278-9AE4-49CE-96BB-D3D4580B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A1395-0E2E-464A-88DB-B4750D54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088A4-6C61-452A-B1B7-F6424FD9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9B80F5-7C46-4A6D-9876-7FD91AD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013A52-4E3F-49B8-ACD5-875EC6A4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420B-C29F-40C6-AEEA-7FF6A632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E6341-CA1C-49BE-A8A2-56CD747A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8DA98-F653-43C0-A9B2-4DBEC1CF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A9BE3B-7FC3-489D-925F-51727048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7FD0D-7BDB-42AD-97AF-77EA0A86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55DB2F-FDA7-4A17-9880-6CA187F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E889AB-B8DC-4A0D-B18F-08DA1FFD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9A429-A2E0-42DA-A24A-0D7ED6ED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61C91-C75C-4F82-ABAF-90B46012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B3105-B6B8-47D5-8924-9EE51D3A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CC84A-EADC-4299-9A8E-17917B46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579E-434D-4081-9B24-5D3C3B60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F90492-DC9D-49BA-BFA9-29E369A8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D5DD1-9799-4F0B-AD19-F072786B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9197B-E4BD-454C-B928-E6C55781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CD71F-81BA-4AEA-8AC5-FB11DF16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3E2EB-F90B-4216-B761-D71E6AF9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35BBD-E436-4E1E-9084-C9B037C8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9E3A0-F076-48EB-A576-71E25152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C0375-9748-4732-94D2-8CAAC3A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812DF-47B2-4426-8F05-16ED95F4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5D9544-77B9-426A-BEA6-6AD1EB23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E74F-AB47-4E1A-AECA-0D0AAF67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8F597-AEE4-4202-9793-0C731787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01146-D7A1-4357-ABDA-B6DC3EAC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59172-5537-4B45-B265-E03BD304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EF6529-1D8A-4FA7-9A84-AAC89B47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F7159-906C-4114-A222-6B70903D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5B81E1-4BE4-4539-9561-4404F16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93378-44BA-4A57-A608-63C0E748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973F8-28F5-48C0-87C0-52446F60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39C78-DBDD-4DFC-9ADA-D6273FA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B3BAF-C4B2-4397-BC25-08C5BB4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AB39-5B8E-47BD-AD90-DBE228CC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7B32B-7EC6-487C-94E0-D05B1B9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5BB442-4F57-4EB9-8697-C2BE5847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55F56-CE3A-4702-A225-EBDE513B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7FF760-7B9A-49A5-ACE0-BD588F2C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EB4589-E9A4-4D5F-ADFF-D1E78E2F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D92A3-B625-40D2-AB81-735A291E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80D00-934A-4974-A965-CAA2FF47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40336-876D-47B6-9ADA-04AF8497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E10C56-3078-47D4-A93F-9A9632FD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CD228D-D4FB-4C3E-9864-78F7ECA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C785-304C-4AAB-8282-915D713F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9F174F-4EA7-463D-97E0-5A536053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677E00-6EFC-482C-B6B9-1BC9819D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CA3ED0-B07E-4802-972C-74FFED38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F9EFA-DBE4-4128-A481-F3775832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CD8791-6986-4164-B3CB-F5B7B70F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09BDA-8305-40C4-B34E-D9FC80ED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070669-A089-4E54-986F-BFC322B6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F6ED40-39CD-4662-AA81-2868B79F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4621D8-62A2-4D96-B881-1C831CC8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FB68D6-7977-45D6-BAFC-18145EB0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3DE7-1842-4F6E-9CF2-A48B094B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4A952-FC76-4DE2-8DEE-AE43A4C3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BAD2E0-B9D4-404B-9600-DAF5DEC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6C3C09-8477-438E-94E5-A5F9E9D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808BCD-C7F5-4219-B3B9-8D6B1DE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23E74F-9B8D-49ED-B749-94FDE126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20D40F-E510-4072-9D7C-32E9BFC1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81CCE-9F94-4390-8B6C-1D419738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0758FA-AB9F-4980-A3F0-E215E814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548EDB-7808-4114-898E-8B29BC47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9A5034-6CB7-4789-B5C3-B0D57723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C339-A062-4BAD-A600-1358C545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64EEAD-47EB-491D-8D17-4C0DB3E8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A9AE97-35FE-4E9E-B654-39FB2291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FEEB00-B124-480B-8A0D-351334D9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0F3BA6-EA1C-417D-998F-4AB4C8FE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E218DD-4749-46CD-9F67-2D89093A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802EAF-D2C6-4BB2-B2D2-B8DA6BA3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244316-F43B-4463-AB27-09BBB553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428ABE-9E5B-4DAE-9E34-0A1215C7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A68DBE-5A75-424E-9AE4-40EF454E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DE13-10D4-49A2-A648-C265EBD5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D21-AE77-4553-BBC9-17018892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32AC-1285-43C2-A658-214D8DB3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FBBD-A9FA-4283-A432-7B771F3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AA37-9BF1-459B-96BD-DC6AC78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5827-E669-489C-8526-1DB7E21D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0E18-EF79-4291-9D74-A9BDCFF7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E790-37D5-403E-8E5B-F38FC922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24C9-3569-441A-B2B4-2DC7F44C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624D-31AB-4C95-A587-75279C88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D720-C8EF-4826-85FD-5DFC4FE7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9102-76E8-496E-8AB4-8E61D78A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78C-CF2D-4081-BF83-B8C704ED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A049C-6E45-4C51-BE44-F410AACA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1DAD2-71FC-48C1-91F1-D329EDD0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C3624-51DF-4383-A88A-35FFAD39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D170-D6A6-47BA-BB05-C54A5DB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FA34-9184-4024-A717-C2F2A94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BA8DC-BC24-4B80-8C76-07AEE24C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CE9D5-E517-4103-BFE2-CADBF6CE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757E-9C81-41D4-99D7-AF8719F4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7B0C-49E9-4D12-B55C-E9F43C76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7825B-161F-44E0-8DE6-00342059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A84-E2EC-464B-89E1-A9DBFDC5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3C21F-EFE2-4370-8EA6-2AD87E80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4AF5E-1A01-4F71-806F-F5EA02F6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0BDE7-A998-46E6-AE8D-55EA0FB3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5E438-07E5-48ED-A483-1FC5499A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224E2-45A7-4297-835C-25CA3935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B83A0-13B2-4460-92B9-DAB32E6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F57D-35EF-4673-8226-CFBE191C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8D537-B229-41FB-A328-559B8502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8D7CD-E1C7-4017-9442-688AF347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EA61-625F-42D4-9932-7F43484B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EE9-8E09-4D6D-86A4-5D0D6EF3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5779F-5DAC-425E-A58E-4F8B98B4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014D8-950D-4314-B670-8BA1FCB8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BAEE-CB96-493A-9C23-5DD911B4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BD62E-35A3-45BD-8EFA-59BE0C67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1D7E4-8B65-4006-BDD5-04E36ECF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F2914-5346-4259-A7EB-CBE5FD34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3863-2FE5-4DA0-A563-F1B2677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DC215-0863-4345-9872-B77B1FAD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C0BDD-6A34-4B32-9890-0A8C23BF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0FAA8-8D15-41EB-ACDA-C40BFF8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07E-2539-4430-AF0B-8A5D4753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26A40-E9D0-4CF4-8EA5-81B9ABCF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44DDB-09B8-414C-8ED7-E7D68A4C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4713C-C894-45BD-A0F2-7209E4F6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60EB-FF8C-4C54-AB60-32264A33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85B80-29D7-47A6-969B-B4A108FC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774F-5E6C-4D43-86FA-F8F696FE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029A-038A-4607-AA18-4CEB5C48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61857-048F-4330-95D8-EC2B5F2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7DB8-0863-4558-8DAE-A9B626D6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B32AD-F43A-40F4-855D-2730DE7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243-4A34-42AA-9C37-5255789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17244-0099-4B05-BC8A-AF48564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C5283-BE53-443D-B995-D90AE9E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4FF5-F683-4EEC-8877-9D0BAA50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28178-3EB2-4E23-8B90-DC7B54C3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83096-DC47-40CE-B941-69BDD3D2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1F117-A141-4702-AA89-4F214830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0D2A2-6A2B-41EA-9F08-3F6EBB10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B26D2-549E-45AA-A52B-E49B69FB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40D56-D7E9-4892-8012-3A31DF37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D260-2549-43BB-B683-85C4C3C8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4A6-D573-4232-856F-44A65F20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0560E-AD79-40C2-9588-3ACE5B2D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183D0-33E5-4A7A-BAFA-67FB26C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CA5D6-EFF4-4E5C-AEFC-C5D85B8F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E55B2-37D6-43E8-9F43-5CB8DA4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9530-6A95-4A6B-ADE5-882F3AE8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4CBA4-D3F6-4E7A-8CE1-15892CFB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2374D-DFAB-4B1C-885D-44F88029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DA7CA-680F-428C-9698-FCC518FF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DECA7-1CD3-42FB-8416-92D3A3D5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138C5-EB96-4E77-BBD9-B7DC2ED6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5625-5FD1-443C-91D8-1C38DF7F78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1C43-8C16-47F3-8BAD-73E65A2DB9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725D-8482-4B1B-9482-204D7F7CD0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886B-08D6-4E78-A59F-70C3A6D840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62A8-707F-4D70-B8A0-1E9E933367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171F-C285-4F14-97DB-AEFFA0AD5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8AA-5C96-4144-95F4-1842DC3CB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605A-D144-4EE5-951C-4E90334D2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E45D-8AAF-4F97-973F-D1CD82E92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A898-C436-41D4-97DA-2F16ABB62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C830-D79C-4300-8857-B1B78F702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910E-E7EF-4421-BAB3-EFE204893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5750-DAD5-4614-BC45-DAE770234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D1DF-A2B1-4985-A26C-F4D7D9686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A1B6-2330-44FB-B744-FA5095AE8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7C1A-B9A1-4F43-8B1C-57E513C81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2344-E7B8-44A6-84FA-0A2C3FAC4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9400-07E4-4CA8-A443-7F64407A641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992F-39F3-49F7-948B-0585ED1D829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4957-D132-4F09-9197-5915D9F1CF4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0357-6E75-4E27-B04C-352D43A149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EA86-7C43-4629-B56D-EAA9622BD9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499-5563-4961-A02C-64FE15D8FC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9C2B-78BB-47E9-BAC1-AA3F3DFD0E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FEM : Approche stratégique du renforcement des capacit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Quatre modes d’intervention ont été définis pour développer les capacités des pays en vue de la mise en oeuvre  des conventions issues de Rio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(Décision 2003 C/22.8 du Conseil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oévaluation nationale des capacités à renfor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CR)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nforcement des éléments liés au développement des capacités dans les projets du FEM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ts ciblés de développement des capacités (CD, anciennement CB-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mes spécifiques  visant à répondre aux besoins essentiels des PMA et des PEID en matière de renforcement des capacité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bjectifs stratégiques de développement des capacités intersectorielles pendant FEM-5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(44 millions d’USD disponibles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Développer la capacité des parties concernées à prendre part à l’action engagée, au moyen d’un processus consultati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Produire, exploiter et diffuser des informations et des connaissa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r  les capacités d’élaboration de politiques et de lois afin d’obtenir des effets positifs à l’échelle mondia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r les capacités de gestion et de mise en œuvre des directives définies par les conven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nforcer l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apacités de suivi et d’évaluation des impacts environnementaux et des tendances de l’environne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igences applicables à l’ensemble des projets 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38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Être conforme aux objectifs stratégiques de développement des capacités  transsectoriel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Être plurisectoriel (profiter à au moins trois domaines d’intervention)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s priorités doivent être définies dans le cadre d’un processus d’auto-évaluation des capacités à renforcer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orter un cofinancement, à hauteur d’un ratio de 1:1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 peut s’agir de projets à part entière ou de projets de moyenne enverg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123720" y="2209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erci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1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11-17T16:35:35Z</dcterms:modified>
  <cp:revision>110</cp:revision>
  <dc:subject/>
  <dc:title>GEF NGO Network</dc:title>
</cp:coreProperties>
</file>