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74D8-4C2B-4302-8255-6893A658CE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F96D-4DBD-4877-9501-E732985E6D3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B85-3761-4AB0-8FF6-B1BE47F7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AC6-D3B3-42A9-9825-EEDC7F8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F39AC-D4B8-4F57-B05C-83525B45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63FB6-240F-4D1C-80A4-8F8A12B4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33D5F-2DA3-48E3-87CD-0B1F10A3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EFB78-AC9F-4A1B-8812-3630D8D4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2739C-CC48-4858-AA05-B3DEC60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ED3A9-FA9D-4123-BB4F-5C510292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3D639-4AAA-42B7-A7BB-9474B810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CA880-2CDB-45C7-8ABA-2718F7C2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D42CD-C75D-43CD-AAD0-3868152D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F69FA-4147-41F8-A863-200A66E8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CE9-0A16-41A5-819D-D88D70A6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137C7-2FDD-4B1A-9DFE-FDB9446B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909A6-5283-42AD-85CB-13E1425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DB4CC-5955-4CF8-8B4F-ECD04ED1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EB66F-415A-4257-AB7D-225E5028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6BFF6-BFD3-4D89-8447-A9C7982B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489C8-1995-48BB-951A-07EF4B63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8957A-8687-4508-91F4-049BA917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D4D37-D280-4694-BE68-168DFC5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5636C-56D4-4E86-9A8A-7A0028B7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E3678-7208-41B4-9CA3-EED036EF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408-3B03-4A74-AD13-7BA41998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00E47-22D7-40AF-A312-56EFBA0A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4F727-7FA9-4B3B-BBB0-B60A419E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A45C3-045E-4109-B608-F1782143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874E0-2232-498D-842B-984321D7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E717E-54AB-4B2C-95A1-8408B5E4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F9373-BBF5-4C1C-8C5E-BC9771E3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90F73-9CC7-48F5-8E1D-A7EE7A7C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5BFE3-9BF5-4D57-9579-1F1B6D8D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E7FC1-704C-4608-84BB-6093FED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55C55-6060-4F01-8E4B-6571A30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3F5B-AAAC-404B-99CF-416989ED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71F0B-911D-4055-AB73-4889914E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DC5AB-DB16-4269-B89B-DBFF9D82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D3D67-CC7F-4889-8A43-2417CAFA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27806-6E84-4BDF-96AF-9BAB688B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196C1-C879-4E3D-8CBA-0C68464C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F1F45-EA61-4EB8-9CBB-0E22666C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14F9B-86FB-40EA-8F3B-E5754FD3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FF3E3-F13C-4BDF-B9C7-21DD8558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DAAFA-A756-4A90-A840-FF696430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5B8F1-58A7-4B17-8815-E056D60C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5036-8577-4C22-9C9D-B1882BF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C5662-200F-406B-9586-A8D81BB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C49EC-AA87-4FEF-9C75-ABF67811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34BC3-BC4B-4BE7-90CF-E3AE8F8D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FB03E-EDAA-4974-8D58-9A1F62A5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B0F32-0922-456B-B7D6-556C3683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740F3-114B-4008-8CA7-8D69F5C4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EAFC2-2EE5-438E-994B-714DCDCF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A97AF-3242-4F15-B687-22C05407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7D8C3-3B9E-4499-8230-37A96E5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0E1E9-DF71-4294-A403-3510F89F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C94A-F8A9-4483-92ED-C869638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4D1D1-5751-4A66-AE6A-4327C822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31615-EA52-4C9B-89CF-49AE11B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CD93D-A838-464E-B7CE-A4309D7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701E7-D2AA-4C93-ADEA-7AEA479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D7276-206A-41A8-A9A0-49288F76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D0275-76E9-461F-856F-F1D5CD54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52FF5-A9C5-4922-94D1-F04CF17B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D61AC-A127-4BBA-B668-0ABF7F23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4C924-CF29-4282-AB35-3F6CE9B4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AAA58-1048-47D6-9555-F89B2D1C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EA00-42E2-4B5A-87F2-758F888D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006B0-E301-4DAC-9F10-AB23FEAA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6126C-E7ED-4BAC-83CD-6C95FAE3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9C051-2480-4865-B70B-6160E9E0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82BC1-15BB-4CE3-BC85-48852B9B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3E70C-F6CA-4667-B090-21C70AA0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67769-617A-476C-9442-02300243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0C6E8-353B-41F3-B344-A0DA18C0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1450B-3B06-4D4C-A66E-0231CA1E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4682D-ACC2-4938-B8F4-6450D253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99E9E8-E173-4F30-9505-2EBB98A1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286D-6F60-4DA3-9033-9DB06FF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9D8E4-315A-44D1-A426-1A984C0F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DF4BE-B0E8-47C1-AB77-41EA1BD6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F3436-95ED-4FAA-8A73-B6BCF289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16789-5290-4D6D-AD7F-4ADEC83F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33BA3-90E0-4DA6-92E1-E329D512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2485B-5734-415D-AE07-439D9AE9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B5F5A-8C5E-4BCF-AE2D-B6BC3AF6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EDAFF-7EB9-4AB5-9F7A-EE74B95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4F545-2BAC-4C5E-88D9-BC972FA1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1817E-2F9F-44FA-A5A6-32398F80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A20B-52AE-44AC-B752-3C97DC90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9214D-D822-4448-A45C-093ECC81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27559-780E-4295-8D1F-2F5B61C2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F8A15-3388-4C81-8FF0-DEA42E25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2E93E-F017-45E8-B7B9-8254416F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A57F6-E6E6-46FF-9313-DBA4B1CA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A2F15-8A9E-4989-B12C-CCF962C1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AB176-07EC-4BB5-A5FB-CAB6EF90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41D48-4E43-42F6-A8A7-6A538302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E5393-DFF4-4750-BD67-C0BF8BEE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AA150-1015-4112-9E83-A642EB0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9204-CD55-4194-B54C-03B111B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9750D-848F-451C-B10E-91624AEA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F46C8-C7D7-471F-9867-E3574485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04DB1-6522-47C9-AEC6-791CDEE5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D9402-0C23-4E02-A8E0-DFB0A131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E1879-3379-4A56-BCEC-E64D5AFE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4415D-10D0-4B74-9D8F-8FEA1359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E7BCA-5307-49F5-B984-3CE592BE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D4943-34C1-4CB9-BBF0-39634EF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EB3DC-147E-472B-B22C-F3CBC94E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022CA-F070-47FA-93DD-AE4AA00A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744-BB54-47AE-B024-40A2D885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0C30-43D8-4F40-9B8F-67FC57A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B3F75-E7FB-4CA3-8EB3-9DCFAAD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A40B5-A0F4-4904-908C-3FC1BF3D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0C8FF-E831-4FC0-9C73-30DE1502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53A6CD-9BD6-4655-9B6C-E8D0C361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752B35-AB7E-4014-BF34-E9B689F6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A8CB6-2946-4504-8B53-7427D8CC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DEEBF-A478-4BF8-AD20-6823330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7A1AC-2900-4CAA-86EC-31766510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97FFD-D2CD-4CB8-9E54-2775A41B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894DF-3738-4693-94D0-87C87DBA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C4D7-269E-4B19-88A2-6885F1B8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7799E-10E9-40CC-8A16-DE3FB49E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6B916-2D9C-433E-B65D-A145C352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0A180-5798-42A2-899A-684D9712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81957-6FE7-425B-93BC-E97C44C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1E391-CD75-456E-A3FE-9E31B2C6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EE5E3-4675-4F7D-B68D-F41B9DBD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9D82B-1CC6-4A98-88F3-7DDB7EDB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203B8A-3651-432F-BE52-2E8ADD48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8092A-733B-448D-A347-3EBC61B0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1A8E5-F926-4711-8C42-7052F05A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BBF9-FB14-4151-9271-10AFC281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9C388-048E-4D09-A5E0-0AC09AAD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ECD99-3792-47BB-804C-5726D4B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FA819E-7141-4C68-9DDD-B62B2ECE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285A6-6094-4BE9-B557-E84664E8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C03B2-F5CA-46E4-B218-348D62B9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1081F8-3205-4F5C-BD64-15E1C4C0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A9038-05AC-46AC-A458-6BB32C04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26640-32C0-4EC7-96E9-D57E1637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2ADFBA-34A1-4704-85D6-DE36DF1E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EB7D00-B814-4491-AD29-DBF1C44C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0B4B-6972-432A-BFE4-602057EF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D51B3-2DCB-4F64-86B4-3238199B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314951-2BF3-41E6-808B-D268D6C2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B2604-7743-46FA-9239-9F8A929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7AFC0-5A02-468E-B2F7-6DC1A09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F6D62-568C-4752-B010-64E79D7B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97562B-FAB6-4AE9-9044-055A0028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78DD1-60DA-41CD-AA95-D2236639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33A792-D134-4455-BBCE-E20B9B2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E9DFA5-E4B3-47E5-B6DA-D48FC5DE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7C4801-5A12-478F-B953-55FD9225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6636-9741-4E3A-B459-5E1915CD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15A26A-25B0-4493-BBF1-F66B7B87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19478-F525-4F1E-ADA4-1A0BCAFC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72E3F4-A748-4DCB-BCC4-60A65640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DB779-A675-48B2-85D4-D307A249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53E5E-8352-4347-849B-9A7FAFF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9E8C09-F97F-4290-9AC7-E18FC19E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137D0E-08F6-4BFA-A64F-F3049EFC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92EE2-2BEB-4DB3-835C-A5AD6AF9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915D0-6182-47A9-B025-55148A4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8EB6A-5260-4E86-A21B-547181B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DC9D-DE96-490F-97C6-A1DFF7DE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F4C6C-BEE3-4742-833E-1347DC2F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31197-5EF7-4237-9BBF-AA54C91C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CEE9B-75D1-4079-A0CB-00381FCC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5C417C-8A3C-4717-A79A-BAB23A60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1F7028-2608-443B-BB96-40ACEBDF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95F7F1-3684-4DA7-ADE9-A158DA56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736775-B95F-43D0-A4F0-156EF7CA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8C33AD-F4B0-4B6D-81F8-AF515C9C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EEA1A4-DFC8-4566-B4A5-DE7B9685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B80E96-A7BC-4B1F-9448-58D99A6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513E-B85D-4643-8665-72F3DC66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02FF8B-DD63-4877-A87A-1FB39F46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EE426A-9C63-431A-BBB7-EFC8F90D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2E12A5-4FB3-4340-9334-58382E3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28B773-6346-4DAA-9339-FCAABBBA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67DBB0-C2D4-4229-BC2A-556B9694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57C609-31CA-40AC-BB7B-9D59069C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71AA19-73A0-4965-917B-9122E32C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A143B9-6AB6-4E71-A290-52C1C686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76CA34-7E60-4477-B1E2-7AB6718D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E9DCF6-2A18-4ABD-8AED-2411A4EF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3890-6DA0-42AF-B3C9-70F02258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0062B5-6575-4CEA-A5C6-F53052D5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5CACF-3071-4FE8-BA9E-7C753784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A87A59-077B-4208-9CEB-CE0999C7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0617C9-38DB-4F3F-B755-E0F8797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CC2AE0-3595-4D4C-83E1-FFAEEAE5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685CF0-6973-49A0-A4D6-6B2A0673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C613B7-7B64-4E15-9D77-03A33842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C3C786-5EF7-4ED0-BAF7-EECADB0E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5311A8-4BED-4094-9FC4-6C81FD04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114C96-F5F7-44A7-8032-A8613018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26F0-AB0A-46AD-B955-97289775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0C1146-31F5-4182-9659-D947308C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151BB8-C7B7-49B9-BF6A-85CF655A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BE3165-AC42-4183-B853-6167CB71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6DC71E-60F1-4855-8E67-ECD6B943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BD0AA2-48A7-47A6-A236-A810D44D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4B196D-8334-47E6-A112-875D058F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152C4F-8D87-4B50-8DA8-86EAC38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20127E-CBA9-4FA4-9954-6C739FB9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78E874-FF7E-4F88-B256-DC08F855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7934-FB03-4E66-8FBF-45C1BA95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C5B-F876-424D-A7F9-614E59DA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8BF7-CABC-47BE-860E-778C5CB3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483C-4351-4A5B-820C-5D98DCD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DA19-DADB-4B6A-9411-12ABE2FF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7FE5-FB44-4CEF-AECE-8B979BC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4EB13-137D-4219-B77D-76E30277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7B5E-86AA-4100-AE5A-D804E80B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BFC5-B944-427A-BA70-CFF4B79E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8222-3B66-401C-BC71-C94C74A0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6FBF-A170-4E37-9A82-E3C1EEF2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E09F-069F-4955-90B7-4520C20C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FE0-BEFB-44F7-992F-FF2B81E6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A347-BB81-44A8-99AD-AF0AA44A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871E7-67D4-4E3E-9168-4E393174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40DA-DFFA-4852-B288-5CC45ABD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066CA-57C2-470D-9CBA-D30BAA70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B363-E258-4E0B-AF8E-88E1022E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B1FA-081A-4D1B-A1AA-159FEAB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7B3E-238B-4B15-9B01-EB6C7231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7E99-9C12-4482-9F2C-4A33A276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FF2B-262A-46D5-8DF0-A4475565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1172-B207-4103-AD2E-5BDB40A3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4EB-1024-4989-8D78-EC7DCAC1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5A41D-81AE-4552-905F-BDFDD16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D19BC-2038-44A7-8BFE-6096FD87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0704-12D7-44D6-AE07-89979951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311F-2A90-4240-B906-814540AF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8029-D451-47F1-9FC4-FA4967C5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43D9-28D0-479C-BE29-8C976ED1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A8E6F-840C-41C7-B9B3-036EB8FA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E8BEF-74F9-4726-85A8-DC72BD33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3E49-32FA-4DBF-B0D5-AECA6675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AA08-9BAC-46C9-8D99-C2431446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9AA-C40F-4C5C-B168-9CF76E7C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A6E8-2265-4D17-A137-968D4548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E17CA-114E-47BD-A7FD-0CC43D8F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A53A6-2D6B-4E72-83D2-87BF0056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7FF34-F007-4192-9C42-B449CD9D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A9C3C-088F-4A35-8827-8CB66081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0130-3554-4702-B2D6-431FDA93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3422-EAD0-4C0A-92F2-50CE2371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0E89-44CE-4A12-BD88-72C4466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5357C-F589-4121-9BBB-3360AA11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3EC9-85E4-4C67-AE3A-B781AF0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0F1-C6B4-433F-9D57-1D3893B2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03509-71EE-4967-B9FC-F865211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1544-FE8F-4F9F-A412-9B76CC2D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5CC24-E556-4D32-BDE5-BF05733E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6210-2A93-4EBD-8120-83953448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1D73-AA17-4BDB-A96B-278DDDAB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7E011-9BFF-4399-A3F5-856CB0B8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F2EC1-C05C-4FA9-A5B9-1B47A9F2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2D754-EB37-4CA8-AB23-65890F46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50CB5-7A27-4B54-943F-FCFCBBF7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A1385-7B4B-4D95-B084-DFC39A2B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35D-6600-4934-A352-73AD9D96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9563F-CD6C-4930-9177-ABD3CC4A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CE72F-DD3B-4629-9425-6371F173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8AFBC-B4C4-4844-A554-A67C5BB7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2000C-E61E-4E49-A679-C323BDEE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1365D-F002-4B10-8DA8-CBF98F49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45693-1BFC-4D3D-9E49-9DA00A20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F7B7B-6027-4BFD-B3BA-423E7DBF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D1C47-AEF6-490A-A221-AA39B52C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147FA-C933-4A95-839F-66C8F8C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345D-7F30-4C35-A34C-119849FF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FBE-F15E-41C2-B2DC-DF04D7B9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67718-6EF7-45C2-849E-78F79975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B4F38-A56F-4DD7-921E-4434FE49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896CD-236A-4419-8E5E-8B1DA95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F0DE2-23AA-4B81-9EF9-CAF58D5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F435-C065-40C4-8199-8F033DA9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D765C-B9E4-4657-9B03-15CC2C86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BE83F-63F6-424B-B4CE-D79BB394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AA343-00DA-4F39-B435-FC8D55B8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F56EF-EB6D-4DE1-8A3C-900EA86B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1C9E2-0FBF-4FAD-AE45-493A8C41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FC19-FC97-4A24-839F-D30AA2905BA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08D-5694-4498-B264-48F30196832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2119-88DB-4871-830B-37738695759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26F9-9F7C-4762-9509-76354F5713A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39C0-3AC1-4ECC-99EF-D55918C347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C340-FF5B-4D0E-B883-4C6884A2C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68F9-A06C-49EC-B8D2-3DA5F8A56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3A02-B6CF-445E-9927-0A7148727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2B05-E980-49BF-9CA9-3475D4D66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BB10-D433-48D0-9964-E82B2D9CB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E5E9-7674-40C8-A8DB-FF061F0B1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467B-C137-41EB-921D-EB1A4FF23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1655-A996-4A70-9DDC-AC5D091DA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CB2-8F4D-445F-8926-DD9B612F3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DE7D-D6AF-4C50-AB42-3D1FED21B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E091-04A1-4B87-BE64-DC5A3F9EC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1691-C777-4FE5-A7B1-350431CC2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0953-FED7-4D6E-B481-826CF2ED1CD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DDD0-683B-4900-86AB-42E4F5DEB8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CBFE-D512-44B0-8FDE-7A21E0C60C4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7BD9-3CE4-4307-A08E-A285E7AC23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7B0D-4489-4F54-9C91-2D07F7C1D2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D78E-2781-4131-B8CF-8E007C3B761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4D10-FCB8-4362-8F1F-3A75C85E6F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FEM : Approche stratégique du renforcement des capacit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Quatre modes d’intervention ont été définis pour développer les capacités des pays en vue de la mise en oeuvre  des conventions issues de Rio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(Décision 2003 C/22.8 du Conseil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oévaluation nationale des capacités à renfor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CR)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forcement des éléments liés au développement des capacités dans les projets du FEM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ts ciblés de développement des capacités (CD, anciennement CB-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mes spécifiques  visant à répondre aux besoins essentiels des PMA et des PEID en matière de renforcement des capacité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bjectifs stratégiques de développement des capacités intersectorielles pendant FEM-5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(44 millions d’USD disponibles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Développer la capacité des parties concernées à prendre part à l’action engagée, au moyen d’un processus consultati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Produire, exploiter et diffuser des informations et des connaissa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r  les capacités d’élaboration de politiques et de lois afin d’obtenir des effets positifs à l’échelle mondia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r les capacités de gestion et de mise en œuvre des directives définies par les conven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nforcer l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s de suivi et d’évaluation des impacts environnementaux et des tendances de l’environne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igences applicables à l’ensemble des projets 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38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Être conforme aux objectifs stratégiques de développement des capacités  transsectoriel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Être plurisectoriel (profiter à au moins trois domaines d’intervention)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s priorités doivent être définies dans le cadre d’un processus d’auto-évaluation des capacités à renforcer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orter un cofinancement, à hauteur d’un ratio de 1:1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 peut s’agir de projets à part entière ou de projets de moyenne enverg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123720" y="2209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erci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1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11-17T16:35:35Z</dcterms:modified>
  <cp:revision>110</cp:revision>
  <dc:subject/>
  <dc:title>GEF NGO Network</dc:title>
</cp:coreProperties>
</file>