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ABDB-19DF-4F8D-B336-7C81C5428FB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4FD9-3E2B-430F-B00E-663F8EBDE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0509-8B41-4DB8-80A5-5B9AD6160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D247-0BC3-4508-92D1-1F4AD86A5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17FC-0241-482B-AB50-44E4B3B563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A8FA-94B3-4E06-9974-8051775D7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CA5D-D91B-4087-8E41-9556AE1E0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7FE7-FB01-4F82-BA12-385D5D298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A4BE-A8B8-4EC9-838B-1E9F34E8E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411480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ea typeface="Arial"/>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ea typeface="Arial"/>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ea typeface="Arial"/>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65120" y="1596960"/>
            <a:ext cx="5803920" cy="435312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218960"/>
            <a:ext cx="5105520" cy="426708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endant FEM 5, 15 M USD seront consacrés à des activités pilotes de réduction du mercure.</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EM a contribué à tous les travaux du CIN sur le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projets devraient porter sur l’un ou plusieurs des enjeux suivan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a fabrication de produi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es procédés industriels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et de l’exposition à ce polluant dans l’orpaillag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ntreposage du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s émissions de mercure dans l’atmosphère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mélioration de la collecte des données et de l’information scientifique au niveau national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 gestion des déchets et sites contaminés.</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27640" y="1127160"/>
            <a:ext cx="3822840" cy="53100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1600" y="-6480"/>
            <a:ext cx="2828880" cy="2127240"/>
          </a:xfrm>
          <a:prstGeom prst="rect">
            <a:avLst/>
          </a:prstGeom>
          <a:ln w="0">
            <a:noFill/>
          </a:ln>
        </p:spPr>
      </p:pic>
      <p:pic>
        <p:nvPicPr>
          <p:cNvPr id="113" name="Picture 11" descr="Drums containing DDT_Panama.JPG"/>
          <p:cNvPicPr/>
          <p:nvPr/>
        </p:nvPicPr>
        <p:blipFill>
          <a:blip r:embed="rId2"/>
          <a:stretch/>
        </p:blipFill>
        <p:spPr>
          <a:xfrm>
            <a:off x="2889360" y="-6480"/>
            <a:ext cx="3444840" cy="2298960"/>
          </a:xfrm>
          <a:prstGeom prst="rect">
            <a:avLst/>
          </a:prstGeom>
          <a:ln w="0">
            <a:noFill/>
          </a:ln>
        </p:spPr>
      </p:pic>
      <p:pic>
        <p:nvPicPr>
          <p:cNvPr id="114"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09:47Z</dcterms:modified>
  <cp:revision>348</cp:revision>
  <dc:subject/>
  <dc:title>Slide 1</dc:title>
</cp:coreProperties>
</file>