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E183-1550-4F6C-8169-4F900E614A0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02BC-D89D-4525-AC95-07DEDDD59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035B-9EEA-43F1-BE5C-9E01BFA22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367F-53DE-4527-9C2C-BBF5C26DC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3656-3FF5-4724-9516-9F8DCA0B55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FA74-CAD6-4CE3-8294-9EAA3D79D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47F5-9D26-483E-B004-E5BF0136E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11F4-59D5-4F63-AD8C-33DCCF2BD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21C8-8624-492A-9325-39F590F68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8831-D7FE-484E-9E2F-3ABCD6202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8 to 10 May 2012</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ntigua and Barbud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65120" y="1596960"/>
            <a:ext cx="5803920" cy="435312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27640" y="1127160"/>
            <a:ext cx="3822840" cy="573732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1600" y="-6480"/>
            <a:ext cx="2828880" cy="2127240"/>
          </a:xfrm>
          <a:prstGeom prst="rect">
            <a:avLst/>
          </a:prstGeom>
          <a:ln w="0">
            <a:noFill/>
          </a:ln>
        </p:spPr>
      </p:pic>
      <p:pic>
        <p:nvPicPr>
          <p:cNvPr id="154" name="Picture 11" descr="Drums containing DDT_Panama.JPG"/>
          <p:cNvPicPr/>
          <p:nvPr/>
        </p:nvPicPr>
        <p:blipFill>
          <a:blip r:embed="rId2"/>
          <a:stretch/>
        </p:blipFill>
        <p:spPr>
          <a:xfrm>
            <a:off x="2889360" y="-6480"/>
            <a:ext cx="3444840" cy="2298960"/>
          </a:xfrm>
          <a:prstGeom prst="rect">
            <a:avLst/>
          </a:prstGeom>
          <a:ln w="0">
            <a:noFill/>
          </a:ln>
        </p:spPr>
      </p:pic>
      <p:pic>
        <p:nvPicPr>
          <p:cNvPr id="15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4:54:38Z</dcterms:modified>
  <cp:revision>309</cp:revision>
  <dc:subject/>
  <dc:title>Slide 1</dc:title>
</cp:coreProperties>
</file>