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EE49-E616-4E0B-A846-1FAB28A70CF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7EAE-6C59-40B5-B98A-235D03DDE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1199-1716-4101-B8C9-05001CB50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86F7-2F04-4965-8D33-8A2910A18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1449-DC7D-424C-9622-44B6DD9D9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0830-DFC9-43F6-A1EB-8D2D3FA99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6CF4-E2EA-42FA-8FE2-1815A99CC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7FA7-294C-4375-99B0-2191E60B8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1DB6-2760-4A1F-BEFE-5B1D74142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26D0-9F3D-4D02-9080-E43B46A75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8000" y="15516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8 to 10 May 2012</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ntigua and Barbud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65120" y="1596960"/>
            <a:ext cx="5803920" cy="435312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27640" y="1127160"/>
            <a:ext cx="3822840" cy="573732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1600" y="-6480"/>
            <a:ext cx="2828880" cy="2127240"/>
          </a:xfrm>
          <a:prstGeom prst="rect">
            <a:avLst/>
          </a:prstGeom>
          <a:ln w="0">
            <a:noFill/>
          </a:ln>
        </p:spPr>
      </p:pic>
      <p:pic>
        <p:nvPicPr>
          <p:cNvPr id="154" name="Picture 11" descr="Drums containing DDT_Panama.JPG"/>
          <p:cNvPicPr/>
          <p:nvPr/>
        </p:nvPicPr>
        <p:blipFill>
          <a:blip r:embed="rId2"/>
          <a:stretch/>
        </p:blipFill>
        <p:spPr>
          <a:xfrm>
            <a:off x="2889360" y="-6480"/>
            <a:ext cx="3444840" cy="2298960"/>
          </a:xfrm>
          <a:prstGeom prst="rect">
            <a:avLst/>
          </a:prstGeom>
          <a:ln w="0">
            <a:noFill/>
          </a:ln>
        </p:spPr>
      </p:pic>
      <p:pic>
        <p:nvPicPr>
          <p:cNvPr id="155"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4:54:38Z</dcterms:modified>
  <cp:revision>309</cp:revision>
  <dc:subject/>
  <dc:title>Slide 1</dc:title>
</cp:coreProperties>
</file>