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01792C-FFAA-4A1B-AF08-528E4FAF4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02A63C3-EC28-40C7-A576-17B0FDE81D3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7E751D2-429B-4BBE-AB7C-77FF70E0AFB2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E4497B4-B5AC-42D2-A228-787876BF4F46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4318EC0-B333-4E0A-828F-2ADAC271957F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F139A23-440A-484A-9E27-809148F8D594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A97-FBAB-4A32-98F9-15EA24E42959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DB56349-B5BD-4E1C-9E49-829D3298306F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F82D-E12C-4B0E-A95A-E9E25474E090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8D7DDA7-7361-4B09-85CE-9D2DED157238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3059-27CA-4C5B-933A-27A2603D378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FC1E6F9-49F1-4A7F-A14F-696E79031A3A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E7E-FA71-4168-A73E-88961C6D3003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70C46A6-A16C-4BD8-B9DA-1681545E86EC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6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221-EBB0-49D4-B728-F655125E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738-DF22-494D-B47B-EF03369F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54E-F0AE-4F97-ADD1-36AFB84E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367-7581-4418-B21F-1D29DE81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BA4-7A7D-4D7A-909B-57F8C591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0205-4CDB-487E-8012-CEF8A476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835B-F116-4D5F-B9E2-14CC8108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D105-2173-44D2-B147-A70A8C17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5220-B14D-4382-B54F-83C10956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4E3-5F03-4083-8DE7-F4910AC4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B5B-96B1-4F9D-84DF-F08B17A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3B88-9712-491B-8F04-4CA3DC3C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B44-FA34-486E-A977-96F3EB0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0051-AE96-41EB-AD86-A44DF0F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9C5B-4415-4B1F-B3E3-6BC33E3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A77-E4AA-4B00-8D9A-4BE667E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FBFD-4A4E-4CA8-9BBA-31629252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512D-26D5-4B4F-A756-A6F9E351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2EB2-1B67-43AA-BE16-DAFD30A2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E667-1C18-403D-91CD-03165FE1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A3F9-0288-454A-9CD3-EE3388B6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E31-07A4-4FE0-B8EA-6ED5DF58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0F59-6C89-4E7A-9115-B0836A6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AA1E-E06E-4BAE-AAE4-BEF2778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DADC-79C0-4D77-AC0D-EF18F028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244A-0384-4335-AEF6-4662672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0B51-7614-47B5-8325-AF31133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C8DC-C95A-456F-A347-EC2DE23A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27F9-8CE3-4E2E-9CFA-6CEB9D09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4495-433B-42AF-AFCA-321C0D73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8C30-2D6F-4068-BF99-1EFE2B51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5EA-912F-4167-8CFC-C495E124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F35-CE16-46AB-953D-423FBA5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33F2-FA95-4A42-9F53-A09F0D6C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9706-6E30-46E2-9CEF-C6E987D7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DABD-4FFF-494C-BB05-2DB669D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C6CB-A3F0-45B1-AF31-06A9BD8F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CF778-35C7-4724-B5BD-2DD8F35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EC44-5540-45F1-A5B2-147C80C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155E-ACB5-42E5-BD55-64AD42FB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0B09-CC51-4AD4-9AB1-11E4735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2BBC-3F7F-47CA-A0A7-6FDCE6E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180-C649-4ED5-99C7-D29EC07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28D48-B1CC-43C9-A35E-1DC398C2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1386-CDAF-45DC-8D5A-621A77F0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8CAF-33BB-4654-993A-72392054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359-548D-49D3-BF45-5224D7EF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F0D-2280-44F9-9CC6-D3E077B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83F0-6F87-41D8-8CFC-2BBB3876E817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F0E-2386-4AD7-9DF9-D013D0618171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840C-9BB8-43BC-9761-167C6146F95F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75C1-7D2D-4866-9425-97B740FAA209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08-31T21:34:32Z</dcterms:modified>
  <cp:revision>488</cp:revision>
  <dc:subject/>
  <dc:title>PowerPoint Presentation</dc:title>
</cp:coreProperties>
</file>