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1DB5CE-576D-40A7-8E66-70604702E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781008A-9F74-485C-B2FF-8C424167C7F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B4D958-6525-47E3-858E-EA7FB3BA16A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E011143-7620-4222-B733-E79A567D24E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0283A4-CE07-44BC-B68D-DA4C3CDBD061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88144A0-B219-42B9-9327-183F022BB541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FB3-B0CD-4E91-901F-EF6B5A782D7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26548F4-9407-4F52-B4F4-91BACAA3045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DE91-59D2-4E99-9854-7548CECDC4F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A362E4D-D7FA-4CC5-B83A-763C3A33345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BBB-D903-4E69-8E07-BB0FA70DD8CC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7B83556-4470-4A25-81D5-81F14D33CF8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669-9F55-4EDA-902C-740E4FAED24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D317B4C-D96E-47F7-8171-03219FF6684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6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48A-73AD-4621-B187-03693346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447-7C36-4DDD-B1F8-5CE0F12E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A57-FAD5-4ACA-83B0-AC0B8817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EA3-0B3F-4ECF-B4D2-6FAD85A2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806-7F2F-4153-84DC-14AC4E91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8BFF-D228-48F5-9DD8-5A70BD4A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AC95-26F9-4B58-9F1A-99F1323D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4AB-F8E6-4647-951C-5D5448B6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190-628F-4AB8-A342-6CD75C71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3E87-C81A-4A99-8EFC-DE5B840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626-37E3-4937-8DBD-D0B2F2F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E43-97FC-48FD-B42C-3A6004AD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3E24-F400-414E-875D-CDF5350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6F0-71E4-4849-BE98-6BBF7075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95C-23BD-4CD4-A358-65005FF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AF0-A10E-42A1-AC40-D2ACF5A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0F91-9D0A-4F62-B123-81E61ADD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6F8-43A0-47C4-BF3E-0251130E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FC35-590F-4491-9846-BD09B48E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1419-971C-4818-A015-56AB79C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0C13-143C-4A2E-905D-F90410D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D83-3136-4BCD-8A2F-D4D9F1B1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0E32-E0FA-4E9B-A722-A1EC219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E407-2070-436A-8249-B799C648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B735-2216-4BCF-A044-3B97E7DF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0FEC-450D-41A9-A763-76B7D93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6AF9-5990-4B38-918C-540212E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D85F-8158-4622-949E-0BF78C5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8DB8-27F9-42E0-8833-3592A28F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0DAF-EE1F-4376-A370-2E24870B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3B91-7463-4A15-A705-9D20EFAD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6E5-E59A-4FEE-8896-E7421DEE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51E-7305-4814-A583-BF58DEB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AAD9-6B7C-4380-B733-D2DAA3FA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E7B4-A458-40F0-A88D-CA8597B2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9DA0-D8BE-44B5-9280-730BDAF0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FFB8-0FD6-4B6F-97F2-3295863A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B7CC-4ADC-4772-9E98-700702BF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BFB8-EA4E-416F-94BB-389F859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BF56-E062-4888-9F64-9F233BA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15F2-5AE3-4289-814B-4225AF9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A193-137A-484B-8848-E1BE71B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262-8A12-4764-AD1C-D29C424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985A-F912-4BE8-AD39-C49F34C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F898-5A56-4B65-A3FA-152150F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B161-AB66-443A-944E-D3AA976E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C82-E317-4FD4-A086-EC0899B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38E-2C07-4008-A718-5A6021E3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91B5-FD82-4E74-BA4A-CF8EF01EDDA6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8304-90AE-483B-8B6C-D4B7AF6CD918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3B14-17D8-444B-BCF0-1015CC18AB31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9DE3-3A9F-4965-AB24-D57131181DD4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July 19 – 21,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Monrovia, Liberia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08-31T21:34:32Z</dcterms:modified>
  <cp:revision>488</cp:revision>
  <dc:subject/>
  <dc:title>PowerPoint Presentation</dc:title>
</cp:coreProperties>
</file>