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jpeg" ContentType="image/jpeg"/>
  <Override PartName="/ppt/media/image14.jpeg" ContentType="image/jpe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dt" idx="10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ftr" idx="11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 type="sldNum" idx="12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20795453-7DBD-433E-B0A0-590A7794E9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C97E-3863-451B-B043-A186DA6750D6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DB1A-1486-4962-8CA7-42FDC11145BE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C4D2-DDAC-4AB3-B492-CF5C9D95D20F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03BA-1DE5-42B8-817A-B4E7F5161574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AC11-F255-47B3-A826-87A8A0422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AFA3-DE13-4D3F-8ACA-CC6DD68F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8E41-72CF-400F-ABF0-158A25BAF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ACBC-04D8-49FD-B795-F25A61A8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A84A-F4E4-481B-BFE0-9B76775C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86B5-0AF0-4718-8492-8D74D6405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1C42-DC49-438F-85AC-7010FE35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BC83-814D-41F9-8F3D-1603FC0C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3600-F921-45A9-ABEC-48482986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B131-DFED-468A-9008-2979D8D1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7B19-4F52-40B6-B0DA-AEF2DD32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35FE-69E1-4050-BD23-0E673239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CB97-A846-43BB-97D4-57DB9B60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654B-608C-4C94-8DB5-040BD5CC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9430-677F-43D0-B818-66CEE83D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E839-7153-4B86-BEAB-DB6ED494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B8E6-8E89-4D6F-A761-704AA66BD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573A-AECC-4D37-A5BB-BB5E7151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5FE30-4905-44DD-A065-02FE95CFF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4637C-450A-4DB7-A64A-83FF1066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BC895-CB1F-4018-8252-827DCB86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6BF8-E58D-4E2C-B8FC-97580250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A40F0-F1D1-4DD8-AFA1-D6324F10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7C0EC-9C98-474A-B178-580C65D1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44626-3266-471F-A8DE-FBF35B7E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ED20E-BDCB-414B-853F-F2A9FFF4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A7BCD-7130-4DE1-A68B-F233D92B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C394C-029E-4125-ABE2-6D84365B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FF0DB-E836-4F02-B28E-9317F065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EE3BE-3CA5-4FAC-9570-E594B0D64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34663-1E55-498E-AC8E-CF6DCD86E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9976-CBEF-4CD7-9F3A-8251F566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4348-38F0-4D2C-A404-AB840EE9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D9BC-5FC4-4235-8C74-1A9869BE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38AE-63C2-4A2D-886D-D7D835F8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014E-8EBD-4420-BC90-018D097B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0" r="0" b="9529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24332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424332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598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5A7B-906D-4C58-9E75-5C855899A547}" type="slidenum">
              <a:rPr b="0" lang="en-US" sz="900" spc="-1" strike="noStrike">
                <a:solidFill>
                  <a:srgbClr val="3598d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icture 10"/>
          <p:cNvSpPr/>
          <p:nvPr/>
        </p:nvSpPr>
        <p:spPr>
          <a:xfrm>
            <a:off x="6018120" y="131760"/>
            <a:ext cx="2895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1360440"/>
            <a:ext cx="9144000" cy="0"/>
          </a:xfrm>
          <a:prstGeom prst="line">
            <a:avLst/>
          </a:prstGeom>
          <a:ln w="25560">
            <a:solidFill>
              <a:srgbClr val="7f95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404352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404352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12" name="Picture 10" descr=""/>
          <p:cNvPicPr/>
          <p:nvPr/>
        </p:nvPicPr>
        <p:blipFill>
          <a:blip r:embed="rId3"/>
          <a:stretch/>
        </p:blipFill>
        <p:spPr>
          <a:xfrm>
            <a:off x="6019920" y="152280"/>
            <a:ext cx="2895480" cy="37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5"/>
          <p:cNvSpPr/>
          <p:nvPr/>
        </p:nvSpPr>
        <p:spPr>
          <a:xfrm>
            <a:off x="4043520" y="284328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50" name="Picture 40" descr=""/>
          <p:cNvPicPr/>
          <p:nvPr/>
        </p:nvPicPr>
        <p:blipFill>
          <a:blip r:embed="rId2"/>
          <a:stretch/>
        </p:blipFill>
        <p:spPr>
          <a:xfrm>
            <a:off x="533520" y="6161040"/>
            <a:ext cx="249120" cy="488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1" descr=""/>
          <p:cNvPicPr/>
          <p:nvPr/>
        </p:nvPicPr>
        <p:blipFill>
          <a:blip r:embed="rId3"/>
          <a:stretch/>
        </p:blipFill>
        <p:spPr>
          <a:xfrm>
            <a:off x="1227240" y="6181560"/>
            <a:ext cx="382320" cy="449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2" descr=""/>
          <p:cNvPicPr/>
          <p:nvPr/>
        </p:nvPicPr>
        <p:blipFill>
          <a:blip r:embed="rId4"/>
          <a:stretch/>
        </p:blipFill>
        <p:spPr>
          <a:xfrm>
            <a:off x="2055960" y="6205680"/>
            <a:ext cx="558720" cy="399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3" descr=""/>
          <p:cNvPicPr/>
          <p:nvPr/>
        </p:nvPicPr>
        <p:blipFill>
          <a:blip r:embed="rId5"/>
          <a:stretch/>
        </p:blipFill>
        <p:spPr>
          <a:xfrm>
            <a:off x="3062160" y="620244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4" descr=""/>
          <p:cNvPicPr/>
          <p:nvPr/>
        </p:nvPicPr>
        <p:blipFill>
          <a:blip r:embed="rId6"/>
          <a:stretch/>
        </p:blipFill>
        <p:spPr>
          <a:xfrm>
            <a:off x="5835600" y="6257880"/>
            <a:ext cx="293760" cy="295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5" descr=""/>
          <p:cNvPicPr/>
          <p:nvPr/>
        </p:nvPicPr>
        <p:blipFill>
          <a:blip r:embed="rId7"/>
          <a:stretch/>
        </p:blipFill>
        <p:spPr>
          <a:xfrm>
            <a:off x="3911760" y="6238800"/>
            <a:ext cx="606240" cy="333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6" descr=""/>
          <p:cNvPicPr/>
          <p:nvPr/>
        </p:nvPicPr>
        <p:blipFill>
          <a:blip r:embed="rId8"/>
          <a:stretch/>
        </p:blipFill>
        <p:spPr>
          <a:xfrm>
            <a:off x="8458200" y="6188040"/>
            <a:ext cx="285840" cy="434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7" descr=""/>
          <p:cNvPicPr/>
          <p:nvPr/>
        </p:nvPicPr>
        <p:blipFill>
          <a:blip r:embed="rId9"/>
          <a:stretch/>
        </p:blipFill>
        <p:spPr>
          <a:xfrm>
            <a:off x="6575400" y="6192720"/>
            <a:ext cx="331920" cy="425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8" descr=""/>
          <p:cNvPicPr/>
          <p:nvPr/>
        </p:nvPicPr>
        <p:blipFill>
          <a:blip r:embed="rId10"/>
          <a:stretch/>
        </p:blipFill>
        <p:spPr>
          <a:xfrm>
            <a:off x="4962600" y="6229440"/>
            <a:ext cx="426960" cy="352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9" descr=""/>
          <p:cNvPicPr/>
          <p:nvPr/>
        </p:nvPicPr>
        <p:blipFill>
          <a:blip r:embed="rId11"/>
          <a:stretch/>
        </p:blipFill>
        <p:spPr>
          <a:xfrm>
            <a:off x="7353360" y="6176880"/>
            <a:ext cx="658800" cy="457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1" descr=""/>
          <p:cNvPicPr/>
          <p:nvPr/>
        </p:nvPicPr>
        <p:blipFill>
          <a:blip r:embed="rId12"/>
          <a:stretch/>
        </p:blipFill>
        <p:spPr>
          <a:xfrm>
            <a:off x="3962520" y="304920"/>
            <a:ext cx="4862520" cy="623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343080" y="3940200"/>
            <a:ext cx="83199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62" name="Picture 20" descr="GEF-new_small.jpg"/>
          <p:cNvPicPr/>
          <p:nvPr/>
        </p:nvPicPr>
        <p:blipFill>
          <a:blip r:embed="rId13"/>
          <a:stretch/>
        </p:blipFill>
        <p:spPr>
          <a:xfrm>
            <a:off x="252360" y="119160"/>
            <a:ext cx="819360" cy="9525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1317600" y="3576240"/>
            <a:ext cx="868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-regional Workshop for GEF Focal Points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tern and Southern Africa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ndton, South Africa, 3-4 November 2010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64" name="Picture 16" descr="sunset east africa.jpg"/>
          <p:cNvPicPr/>
          <p:nvPr/>
        </p:nvPicPr>
        <p:blipFill>
          <a:blip r:embed="rId14"/>
          <a:stretch/>
        </p:blipFill>
        <p:spPr>
          <a:xfrm>
            <a:off x="0" y="107172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419040" y="357192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Sub-Regional Workshop for GEF Focal Points in 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Eastern and Southern Africa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Sandton, South Africa, 3-4 November 2010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571680" y="2428920"/>
            <a:ext cx="8153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Arial"/>
              </a:rPr>
              <a:t>Country Support Programme</a:t>
            </a:r>
            <a:endParaRPr b="0" lang="en-US" sz="36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4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5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6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598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780D-6AF4-4D99-BBA5-8DF66B253D65}" type="slidenum">
              <a:rPr b="0" lang="en-US" sz="900" spc="-1" strike="noStrike">
                <a:solidFill>
                  <a:srgbClr val="3598d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7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8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9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598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B61A-DE7C-4EEA-A1BB-D0933DDE4E32}" type="slidenum">
              <a:rPr b="0" lang="en-US" sz="900" spc="-1" strike="noStrike">
                <a:solidFill>
                  <a:srgbClr val="3598d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971280" y="1628280"/>
            <a:ext cx="7499160" cy="13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642d"/>
                </a:solidFill>
                <a:latin typeface="Calibri"/>
              </a:rPr>
              <a:t>Programme d’aide aux pays</a:t>
            </a:r>
            <a:br>
              <a:rPr sz="2000"/>
            </a:br>
            <a:endParaRPr b="0" lang="en-US" sz="41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29" name="Subtitle 4"/>
          <p:cNvSpPr/>
          <p:nvPr/>
        </p:nvSpPr>
        <p:spPr>
          <a:xfrm>
            <a:off x="1600200" y="3809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</a:rPr>
              <a:t>Atelier Élargi pour la Circonscription</a:t>
            </a: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</a:rPr>
              <a:t>19 au 21 juillet 2011</a:t>
            </a: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</a:rPr>
              <a:t>Monrovia, Liberia</a:t>
            </a: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642d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264" name="Rounded Rectangle 4"/>
          <p:cNvSpPr/>
          <p:nvPr/>
        </p:nvSpPr>
        <p:spPr>
          <a:xfrm>
            <a:off x="1908000" y="1844640"/>
            <a:ext cx="5040360" cy="2016000"/>
          </a:xfrm>
          <a:prstGeom prst="roundRect">
            <a:avLst>
              <a:gd name="adj" fmla="val 16667"/>
            </a:avLst>
          </a:prstGeom>
          <a:solidFill>
            <a:srgbClr val="ffc000">
              <a:alpha val="50000"/>
            </a:srgbClr>
          </a:solidFill>
          <a:ln w="9360">
            <a:solidFill>
              <a:srgbClr val="e4dc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42d"/>
                </a:solidFill>
                <a:latin typeface="Calibri"/>
              </a:rPr>
              <a:t>Pour plus d'informations contacter le Secrétariat du FEM</a:t>
            </a:r>
            <a:endParaRPr b="0" lang="en-US" sz="3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2000" fill="hold"/>
                                        <p:tgtEl>
                                          <p:spTgt spid="2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924680" cy="8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00642d"/>
                </a:solidFill>
                <a:latin typeface="Calibri"/>
              </a:rPr>
              <a:t>Programme d’aide aux pays </a:t>
            </a:r>
            <a:br>
              <a:rPr sz="3100"/>
            </a:br>
            <a:r>
              <a:rPr b="1" lang="fr-FR" sz="3100" spc="-1" strike="noStrike">
                <a:solidFill>
                  <a:srgbClr val="00642d"/>
                </a:solidFill>
                <a:latin typeface="Calibri"/>
              </a:rPr>
              <a:t>Questions générales</a:t>
            </a:r>
            <a:endParaRPr b="1" lang="en-US" sz="31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78920" y="1412640"/>
            <a:ext cx="8821800" cy="43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programme d’aide aux pays fournit un soutien flexible aux pays (en particulier les points focaux) afin qu'ils </a:t>
            </a:r>
            <a:r>
              <a:rPr b="0" lang="fr-FR" sz="2400" spc="-1" strike="noStrike">
                <a:solidFill>
                  <a:srgbClr val="c00000"/>
                </a:solidFill>
                <a:latin typeface="Calibri"/>
              </a:rPr>
              <a:t>renforcent leur capacité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à travailler avec le FEM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Programme d’aide aux pays (PAP) est </a:t>
            </a:r>
            <a:r>
              <a:rPr b="0" lang="fr-FR" sz="2400" spc="-1" strike="noStrike">
                <a:solidFill>
                  <a:srgbClr val="c00000"/>
                </a:solidFill>
                <a:latin typeface="Calibri"/>
              </a:rPr>
              <a:t>administré par le Secrétariat du FEM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composantes du PAP sont : 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200240" indent="-343080">
              <a:lnSpc>
                <a:spcPct val="6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Processus de constitution d’un portefeuille national (PCPN)</a:t>
            </a: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  <a:p>
            <a:pPr lvl="3" marL="1200240" indent="-343080">
              <a:lnSpc>
                <a:spcPct val="6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Atelier de dialogue multipartite</a:t>
            </a: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  <a:p>
            <a:pPr lvl="3" marL="1200240" indent="-343080">
              <a:lnSpc>
                <a:spcPct val="6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Atelier de coordination élargie (ECW)</a:t>
            </a: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  <a:p>
            <a:pPr lvl="3" marL="1200240" indent="-343080">
              <a:lnSpc>
                <a:spcPct val="6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Réunions de groupes de pays (Aide aux membres du Conseil)</a:t>
            </a: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  <a:p>
            <a:pPr lvl="3" marL="1200240" indent="-343080">
              <a:lnSpc>
                <a:spcPct val="6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Aide directe aux points focaux des opérations du FEM</a:t>
            </a: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  <a:p>
            <a:pPr lvl="3" marL="1200240" indent="-343080">
              <a:lnSpc>
                <a:spcPct val="6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Gestion des connaissances</a:t>
            </a: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  <a:p>
            <a:pPr lvl="3" marL="1200240" indent="-343080">
              <a:lnSpc>
                <a:spcPct val="6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Séminaires de familiarisation</a:t>
            </a: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6312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642d"/>
                </a:solidFill>
                <a:latin typeface="Calibri"/>
              </a:rPr>
              <a:t>Programme d’aide aux pays /</a:t>
            </a:r>
            <a:br>
              <a:rPr sz="2500"/>
            </a:br>
            <a:r>
              <a:rPr b="1" lang="fr-FR" sz="2500" spc="-1" strike="noStrike">
                <a:solidFill>
                  <a:srgbClr val="00642d"/>
                </a:solidFill>
                <a:latin typeface="Calibri"/>
              </a:rPr>
              <a:t>Processus de constitution d’un portefeuille national (1)</a:t>
            </a:r>
            <a:endParaRPr b="1" lang="en-US" sz="25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79280" y="1484280"/>
            <a:ext cx="88567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37" name="Rounded Rectangle 4"/>
          <p:cNvSpPr/>
          <p:nvPr/>
        </p:nvSpPr>
        <p:spPr>
          <a:xfrm>
            <a:off x="250920" y="1341360"/>
            <a:ext cx="7416720" cy="72072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  <a:ea typeface="Arial"/>
              </a:rPr>
              <a:t>Traditionnellement, la constitution d’un programme national est gérée par les agents d’exécution du FEM.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38" name="Rounded Rectangle 5"/>
          <p:cNvSpPr/>
          <p:nvPr/>
        </p:nvSpPr>
        <p:spPr>
          <a:xfrm>
            <a:off x="1187280" y="2205000"/>
            <a:ext cx="7777440" cy="105876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Pour</a:t>
            </a:r>
            <a:r>
              <a:rPr b="0" lang="fr-FR" sz="2000" spc="-1" strike="noStrike">
                <a:solidFill>
                  <a:srgbClr val="00446a"/>
                </a:solidFill>
                <a:latin typeface="Calibri"/>
                <a:ea typeface="MS PGothic"/>
              </a:rPr>
              <a:t> </a:t>
            </a:r>
            <a:r>
              <a:rPr b="0" lang="fr-FR" sz="2000" spc="-1" strike="noStrike">
                <a:solidFill>
                  <a:srgbClr val="c00000"/>
                </a:solidFill>
                <a:latin typeface="Calibri"/>
                <a:ea typeface="MS PGothic"/>
              </a:rPr>
              <a:t>renforcer encore la mobilisation stratégique du FEM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au niveau national, chaque pays peut engager, avec le soutien financier du FEM, un</a:t>
            </a:r>
            <a:r>
              <a:rPr b="0" lang="fr-FR" sz="2000" spc="-1" strike="noStrike">
                <a:solidFill>
                  <a:srgbClr val="00446a"/>
                </a:solidFill>
                <a:latin typeface="Calibri"/>
                <a:ea typeface="MS PGothic"/>
              </a:rPr>
              <a:t> </a:t>
            </a:r>
            <a:r>
              <a:rPr b="0" lang="fr-FR" sz="2000" spc="-1" strike="noStrike">
                <a:solidFill>
                  <a:srgbClr val="c00000"/>
                </a:solidFill>
                <a:latin typeface="Calibri"/>
                <a:ea typeface="MS PGothic"/>
              </a:rPr>
              <a:t>processus de constitution d’un portefeuille national</a:t>
            </a:r>
            <a:r>
              <a:rPr b="0" lang="fr-FR" sz="2000" spc="-1" strike="noStrike">
                <a:solidFill>
                  <a:srgbClr val="00446a"/>
                </a:solidFill>
                <a:latin typeface="Calibri"/>
                <a:ea typeface="MS PGothic"/>
              </a:rPr>
              <a:t>.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39" name="Rounded Rectangle 6"/>
          <p:cNvSpPr/>
          <p:nvPr/>
        </p:nvSpPr>
        <p:spPr>
          <a:xfrm>
            <a:off x="1187280" y="3429000"/>
            <a:ext cx="7812360" cy="1224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00000"/>
                </a:solidFill>
                <a:latin typeface="Calibri"/>
                <a:ea typeface="MS PGothic"/>
              </a:rPr>
              <a:t>Ce processus couvre tous les domaines d’intervention concernés </a:t>
            </a:r>
            <a:r>
              <a:rPr b="0" lang="fr-FR" sz="2000" spc="-1" strike="noStrike">
                <a:solidFill>
                  <a:srgbClr val="00446a"/>
                </a:solidFill>
                <a:latin typeface="Calibri"/>
                <a:ea typeface="MS PGothic"/>
              </a:rPr>
              <a:t>et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définit la programmation des allocations du FEM entre les projets / programmes rendant compte des priorités nationales et régionales, pour le bénéfice de l’environnement mondial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40" name="Rounded Rectangle 7"/>
          <p:cNvSpPr/>
          <p:nvPr/>
        </p:nvSpPr>
        <p:spPr>
          <a:xfrm>
            <a:off x="1187280" y="4797360"/>
            <a:ext cx="7777440" cy="105876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a préparation/soumission de ce processus </a:t>
            </a:r>
            <a:r>
              <a:rPr b="0" lang="fr-FR" sz="2000" spc="-1" strike="noStrike">
                <a:solidFill>
                  <a:srgbClr val="c00000"/>
                </a:solidFill>
                <a:latin typeface="Calibri"/>
                <a:ea typeface="MS PGothic"/>
              </a:rPr>
              <a:t>ne conditionne pas le financement du FEM.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53416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eadc8e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00642d"/>
                </a:solidFill>
                <a:latin typeface="Calibri"/>
              </a:rPr>
              <a:t>Programme d’aide aux pays/</a:t>
            </a:r>
            <a:br>
              <a:rPr sz="2800"/>
            </a:br>
            <a:r>
              <a:rPr b="1" lang="fr-FR" sz="2800" spc="-1" strike="noStrike">
                <a:solidFill>
                  <a:srgbClr val="00642d"/>
                </a:solidFill>
                <a:latin typeface="Calibri"/>
              </a:rPr>
              <a:t> Processus de constitution d’un portefeuille national (2) 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2" name="Rounded Rectangle 4"/>
          <p:cNvSpPr/>
          <p:nvPr/>
        </p:nvSpPr>
        <p:spPr>
          <a:xfrm>
            <a:off x="1476360" y="1268280"/>
            <a:ext cx="6335640" cy="136872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préparation des processus doit être </a:t>
            </a:r>
            <a:r>
              <a:rPr b="0" lang="fr-FR" sz="2400" spc="-1" strike="noStrike">
                <a:solidFill>
                  <a:srgbClr val="bf3611"/>
                </a:solidFill>
                <a:latin typeface="Calibri"/>
              </a:rPr>
              <a:t>participativ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se faire </a:t>
            </a:r>
            <a:r>
              <a:rPr b="0" lang="fr-FR" sz="2400" spc="-1" strike="noStrike">
                <a:solidFill>
                  <a:srgbClr val="bf3611"/>
                </a:solidFill>
                <a:latin typeface="Calibri"/>
              </a:rPr>
              <a:t>en consultation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et être </a:t>
            </a:r>
            <a:r>
              <a:rPr b="0" lang="fr-FR" sz="2400" spc="-1" strike="noStrike">
                <a:solidFill>
                  <a:srgbClr val="bf3611"/>
                </a:solidFill>
                <a:latin typeface="Calibri"/>
              </a:rPr>
              <a:t>coordonnée par les points focaux des opérations du FEM</a:t>
            </a: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43" name="Rounded Rectangle 6"/>
          <p:cNvSpPr/>
          <p:nvPr/>
        </p:nvSpPr>
        <p:spPr>
          <a:xfrm>
            <a:off x="179280" y="2708280"/>
            <a:ext cx="4033800" cy="1440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a3a3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pays choisit </a:t>
            </a:r>
            <a:r>
              <a:rPr b="0" lang="fr-FR" sz="2400" spc="-1" strike="noStrike">
                <a:solidFill>
                  <a:srgbClr val="bf3611"/>
                </a:solidFill>
                <a:latin typeface="Calibri"/>
              </a:rPr>
              <a:t>l’entité national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chargée de conduire le processu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44" name="Rounded Rectangle 7"/>
          <p:cNvSpPr/>
          <p:nvPr/>
        </p:nvSpPr>
        <p:spPr>
          <a:xfrm>
            <a:off x="250920" y="4292640"/>
            <a:ext cx="3816360" cy="129708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odalité de mise en œuvre par un accès direct</a:t>
            </a: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45" name="Rounded Rectangle 8"/>
          <p:cNvSpPr/>
          <p:nvPr/>
        </p:nvSpPr>
        <p:spPr>
          <a:xfrm>
            <a:off x="4427640" y="2708280"/>
            <a:ext cx="4535280" cy="1440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s pays qui décident de conduire ce processus reçoivent </a:t>
            </a:r>
            <a:r>
              <a:rPr b="0" lang="fr-FR" sz="2000" spc="-1" strike="noStrike">
                <a:solidFill>
                  <a:srgbClr val="bf3611"/>
                </a:solidFill>
                <a:latin typeface="Calibri"/>
              </a:rPr>
              <a:t>jusqu’à 30 000 dollar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à partir du budget des programmes institutionnels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46" name="Rounded Rectangle 9"/>
          <p:cNvSpPr/>
          <p:nvPr/>
        </p:nvSpPr>
        <p:spPr>
          <a:xfrm>
            <a:off x="4356000" y="4292640"/>
            <a:ext cx="4680000" cy="136836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s plans nationaux librement adoptés sont mis en commun avec les </a:t>
            </a:r>
            <a:r>
              <a:rPr b="0" lang="fr-FR" sz="2000" spc="-1" strike="noStrike">
                <a:solidFill>
                  <a:srgbClr val="bf3611"/>
                </a:solidFill>
                <a:latin typeface="Calibri"/>
              </a:rPr>
              <a:t>conventions respective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pour </a:t>
            </a:r>
            <a:r>
              <a:rPr b="0" lang="fr-FR" sz="2000" spc="-1" strike="noStrike">
                <a:solidFill>
                  <a:srgbClr val="bf3611"/>
                </a:solidFill>
                <a:latin typeface="Calibri"/>
              </a:rPr>
              <a:t>diffusion publique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t affichage sur le site web du FEM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189000"/>
            <a:ext cx="8686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642d"/>
                </a:solidFill>
                <a:latin typeface="Calibri"/>
              </a:rPr>
              <a:t>Programme d’aide aux pays / </a:t>
            </a:r>
            <a:br>
              <a:rPr sz="2500"/>
            </a:br>
            <a:r>
              <a:rPr b="1" lang="fr-FR" sz="2500" spc="-1" strike="noStrike">
                <a:solidFill>
                  <a:srgbClr val="00642d"/>
                </a:solidFill>
                <a:latin typeface="Calibri"/>
              </a:rPr>
              <a:t>Processus de constitution d’un portefeuille national – </a:t>
            </a:r>
            <a:br>
              <a:rPr sz="2500"/>
            </a:br>
            <a:r>
              <a:rPr b="1" lang="fr-FR" sz="2500" spc="-1" strike="noStrike">
                <a:solidFill>
                  <a:srgbClr val="00642d"/>
                </a:solidFill>
                <a:latin typeface="Calibri"/>
              </a:rPr>
              <a:t>Mise en œuvre (3)</a:t>
            </a:r>
            <a:endParaRPr b="1" lang="en-US" sz="25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0" y="1484280"/>
            <a:ext cx="9144000" cy="408204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e pays prépare la proposition (en fournissant le budget de l’activité) et la soumet au Secrétariat du FEM. 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Aft>
                <a:spcPts val="1199"/>
              </a:spcAft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00000"/>
                </a:solidFill>
                <a:latin typeface="Calibri"/>
                <a:ea typeface="Arial"/>
              </a:rPr>
              <a:t>L’entité nationale choisie doit compléter un rapport simplifié d’évaluation de la gestion financière.</a:t>
            </a:r>
            <a:endParaRPr b="0" lang="en-US" sz="1600" spc="-1" strike="noStrike">
              <a:solidFill>
                <a:srgbClr val="e4dcc4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e Secrétariat du FEM examine la proposition et le DG l’approuve.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e pays et le DG du FEM signent l’accord de financement.  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e pays lance le processus de constitution d’un portefeuille national.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orsque ce processus est terminé, un rapport de fin d’activité est soumis au Secrétariat 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Aft>
                <a:spcPts val="1199"/>
              </a:spcAft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00000"/>
                </a:solidFill>
                <a:latin typeface="Calibri"/>
                <a:ea typeface="Arial"/>
              </a:rPr>
              <a:t>Y compris conditions de décaissement et rapport d’audit</a:t>
            </a:r>
            <a:endParaRPr b="0" lang="en-US" sz="16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56760" y="260280"/>
            <a:ext cx="803124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42d"/>
                </a:solidFill>
                <a:latin typeface="Calibri"/>
              </a:rPr>
              <a:t>Programme d’aide aux pays /</a:t>
            </a:r>
            <a:br>
              <a:rPr sz="2800"/>
            </a:br>
            <a:r>
              <a:rPr b="1" lang="fr-FR" sz="2800" spc="-1" strike="noStrike">
                <a:solidFill>
                  <a:srgbClr val="00642d"/>
                </a:solidFill>
                <a:latin typeface="Calibri"/>
              </a:rPr>
              <a:t>Dialogue entre les multiples parties intéressées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324000" y="1557360"/>
            <a:ext cx="8280360" cy="4146480"/>
          </a:xfrm>
          <a:prstGeom prst="rect">
            <a:avLst/>
          </a:prstGeom>
          <a:solidFill>
            <a:srgbClr val="c3b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4dcc4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Ce dialogue suit </a:t>
            </a:r>
            <a:r>
              <a:rPr b="0" lang="fr-FR" sz="2200" spc="-1" strike="noStrike">
                <a:solidFill>
                  <a:srgbClr val="c00000"/>
                </a:solidFill>
                <a:latin typeface="Calibri"/>
              </a:rPr>
              <a:t>les directives de l’Initiative pour l’organisation d’ateliers de dialogue national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4dcc4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Il a pour objectif de </a:t>
            </a:r>
            <a:r>
              <a:rPr b="0" lang="fr-FR" sz="2200" spc="-1" strike="noStrike">
                <a:solidFill>
                  <a:srgbClr val="c00000"/>
                </a:solidFill>
                <a:latin typeface="Calibri"/>
              </a:rPr>
              <a:t>fournir une aide modulable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pour organiser des réunions nationales dans le but </a:t>
            </a:r>
            <a:r>
              <a:rPr b="0" lang="fr-FR" sz="2200" spc="-1" strike="noStrike">
                <a:solidFill>
                  <a:srgbClr val="c00000"/>
                </a:solidFill>
                <a:latin typeface="Calibri"/>
              </a:rPr>
              <a:t>de partager et d’étoffer les informations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et les expériences des diverses parties intéressées par des activités concernant le développement durable.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4dcc4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Ces réunions doivent se traduire par un renforcement des domaines relevant du FEM : </a:t>
            </a:r>
            <a:r>
              <a:rPr b="0" lang="fr-FR" sz="2200" spc="-1" strike="noStrike">
                <a:solidFill>
                  <a:srgbClr val="c00000"/>
                </a:solidFill>
                <a:latin typeface="Calibri"/>
              </a:rPr>
              <a:t>coordination des bailleurs de fonds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et clarification des politiques et procédures.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4dcc4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Elles se tiennent </a:t>
            </a:r>
            <a:r>
              <a:rPr b="0" lang="fr-FR" sz="2200" spc="-1" strike="noStrike">
                <a:solidFill>
                  <a:srgbClr val="c00000"/>
                </a:solidFill>
                <a:latin typeface="Calibri"/>
              </a:rPr>
              <a:t>à la demande du point focal des opérations.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4dcc4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26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4dcc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2818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42d"/>
                </a:solidFill>
                <a:latin typeface="Calibri"/>
              </a:rPr>
              <a:t>Programme d’aide aux pays / Ateliers FEM de coordination élargie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179280" y="1197000"/>
            <a:ext cx="8856720" cy="4500000"/>
          </a:xfrm>
          <a:prstGeom prst="rect">
            <a:avLst/>
          </a:prstGeom>
          <a:solidFill>
            <a:srgbClr val="ccd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ateliers se tiendront </a:t>
            </a:r>
            <a:r>
              <a:rPr b="0" lang="fr-FR" sz="2400" spc="-1" strike="noStrike">
                <a:solidFill>
                  <a:srgbClr val="c00000"/>
                </a:solidFill>
                <a:latin typeface="Calibri"/>
              </a:rPr>
              <a:t>une fois par an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fin de fournir des informations sur les stratégies, les politiques et les procédures du FEM et de faciliter la coordination.</a:t>
            </a: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utre les points focaux du FEM, les ateliers réuniront les points focaux pour la Convention et la société civile, </a:t>
            </a:r>
            <a:r>
              <a:rPr b="0" lang="fr-FR" sz="2400" spc="-1" strike="noStrike">
                <a:solidFill>
                  <a:srgbClr val="c00000"/>
                </a:solidFill>
                <a:latin typeface="Calibri"/>
              </a:rPr>
              <a:t>jusqu’à 6 participants par pays.</a:t>
            </a: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Calibri"/>
              </a:rPr>
              <a:t>Ces réunions seront organisées par le Secrétariat du FEM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 Un ordre du jour sera établi pour chaque réunion, en fonction des besoins des participants.</a:t>
            </a: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orsque le nombre de pays/participants le permet, </a:t>
            </a:r>
            <a:r>
              <a:rPr b="0" lang="fr-FR" sz="2400" spc="-1" strike="noStrike">
                <a:solidFill>
                  <a:srgbClr val="c00000"/>
                </a:solidFill>
                <a:latin typeface="Calibri"/>
              </a:rPr>
              <a:t>deux réunions de groupes peuvent se tenir en parallèle.</a:t>
            </a: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36280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42d"/>
                </a:solidFill>
                <a:latin typeface="Calibri"/>
              </a:rPr>
              <a:t>Programme d’aide aux pays (Réunions de groupes et aide directe pour les points focaux des opérations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24000" y="1341360"/>
            <a:ext cx="8280360" cy="43772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Calibri"/>
                <a:ea typeface="Arial"/>
              </a:rPr>
              <a:t>Une réunion de groupe par an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est financée par le Secrétariat et organisée par le membre du Conseil.</a:t>
            </a: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Le membre du Conseil reçoit </a:t>
            </a:r>
            <a:r>
              <a:rPr b="0" lang="fr-FR" sz="2400" spc="-1" strike="noStrike">
                <a:solidFill>
                  <a:srgbClr val="c00000"/>
                </a:solidFill>
                <a:latin typeface="Calibri"/>
                <a:ea typeface="Arial"/>
              </a:rPr>
              <a:t>3 000 dollars au titre du soutien logistiqu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. Le but de la réunion est d’examiner les documents de réunion du Conseil et d’arrêter une position commune sur les questions à débattre.  </a:t>
            </a: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L’aide directe apportée aux points focaux des opérations est de</a:t>
            </a:r>
            <a:r>
              <a:rPr b="0" lang="fr-FR" sz="2400" spc="-1" strike="noStrike">
                <a:solidFill>
                  <a:srgbClr val="c00000"/>
                </a:solidFill>
                <a:latin typeface="Calibri"/>
                <a:ea typeface="Arial"/>
              </a:rPr>
              <a:t> 9 000 dollars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par an.</a:t>
            </a: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L’objectif est de conduire des activités qui facilitent le travail des points focaux des opérations.</a:t>
            </a: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843588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642d"/>
                </a:solidFill>
                <a:latin typeface="Calibri"/>
              </a:rPr>
              <a:t>Programme d’aide aux pays</a:t>
            </a:r>
            <a:br>
              <a:rPr sz="2500"/>
            </a:br>
            <a:r>
              <a:rPr b="1" lang="fr-FR" sz="2500" spc="-1" strike="noStrike">
                <a:solidFill>
                  <a:srgbClr val="00642d"/>
                </a:solidFill>
                <a:latin typeface="Calibri"/>
              </a:rPr>
              <a:t>(Gestion des connaissances et séminaires de familiarisation)</a:t>
            </a:r>
            <a:endParaRPr b="1" lang="en-US" sz="25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250920" y="1413000"/>
            <a:ext cx="8642160" cy="4176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343080" indent="-343080">
              <a:lnSpc>
                <a:spcPct val="7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  <a:ea typeface="Arial"/>
              </a:rPr>
              <a:t>Gestion des connaissances : Cet élément </a:t>
            </a:r>
            <a:r>
              <a:rPr b="0" lang="fr-FR" sz="2200" spc="-1" strike="noStrike">
                <a:solidFill>
                  <a:srgbClr val="c00000"/>
                </a:solidFill>
                <a:latin typeface="Calibri"/>
                <a:ea typeface="Arial"/>
              </a:rPr>
              <a:t>évoluera en fonction des besoins des points focaux du FEM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  <a:ea typeface="Arial"/>
              </a:rPr>
              <a:t>ainsi que des besoins des autres groupes de parties prenantes, en particulier les points focaux pour la Convention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  <a:ea typeface="Arial"/>
              </a:rPr>
              <a:t>Cet élément </a:t>
            </a:r>
            <a:r>
              <a:rPr b="0" lang="fr-FR" sz="2200" spc="-1" strike="noStrike">
                <a:solidFill>
                  <a:srgbClr val="c00000"/>
                </a:solidFill>
                <a:latin typeface="Calibri"/>
                <a:ea typeface="Arial"/>
              </a:rPr>
              <a:t>comprendra également des informations sur les fonds d’adaptation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  <a:ea typeface="Arial"/>
              </a:rPr>
              <a:t>administrés par le FEM (Fonds pour les pays les moins avancés et Fonds spécial pour les changements climatiques).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  <a:ea typeface="Arial"/>
              </a:rPr>
              <a:t>Les séminaires de familiarisation du FEM organisés une fois par an à Washington permettront de former plusieurs (nouveaux) points focaux nationaux et le personnel des agents d’exécution du FEM aux stratégies, politiques et procédures du FEM.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1:56:14Z</dcterms:created>
  <dc:creator>Seemin Qayum</dc:creator>
  <dc:description/>
  <dc:language>en-US</dc:language>
  <cp:lastModifiedBy>wb350798</cp:lastModifiedBy>
  <dcterms:modified xsi:type="dcterms:W3CDTF">2011-08-31T21:34:52Z</dcterms:modified>
  <cp:revision>526</cp:revision>
  <dc:subject/>
  <dc:title>PowerPoint Presentation</dc:title>
</cp:coreProperties>
</file>