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D04F07E-EAB5-49A8-A5BB-87779CFA4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4D4-DDEA-4654-8D12-3C67772A8D6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3DA8-ACEB-4296-A3EC-AE090C7D9B3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1E0-C48E-4C3A-9851-1CC470A1397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C3B9-275E-412D-A56A-ED53C0CA5A8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67E-24AD-489D-AF3F-F13ED109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98B-F91D-4A31-9C5F-9E68CF2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F5C-422A-4DAE-B43E-319D7C0F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636-62F6-4854-A830-C35EDBA0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BDA-A741-4947-8DD6-EC6C54D1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4F06-9CFC-4ACA-BB2E-A057EE9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8EEC-990D-4A77-B911-E0BE547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D2CE-2004-48FA-A1D4-C7C7BFD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915-7143-44EC-9D74-E60CF4A9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F35-AE7A-4D99-9AB2-F7D1BF5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0F8-207F-4CD7-9E17-A2CAF97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E714-0B02-4F05-BCED-106792C4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297D-E91D-481F-A458-4B4B914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3DE-152A-4386-A70E-31A8223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64F7-3046-43DA-B7E3-09592BC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E73C-196B-4E7A-BB16-26FB5B6D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65C1-58E4-4AA5-8895-F380B539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53F3-B804-44E3-9200-609A337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1421-65A6-4A9C-9373-6DDEEC64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3319-EA9B-404C-8DE1-C1FBE672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5DD7-B576-4A25-9B19-3A9FD1B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E47-E787-409F-80E8-9544B922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12B9-B9DC-4A9B-BB36-8D295F07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D1EF-F827-4056-B003-B0AA18C5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5610-0AAB-4759-ADCA-EA4D68B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C294-9BC2-4387-8AC3-388447D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38BD-1869-4B73-82BC-8202D7B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FFB0-1E84-4428-9EE3-9914BB4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BE87-7410-4016-9F53-BC530509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6F87-D364-43DC-BE1B-270D0D84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1A1D-C7C6-4BA5-9B0C-08F9DA9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8DA-64F3-4457-9E9A-FBD01A7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893-A09E-447A-B27F-386352D4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31F-2A2A-4E1D-A44F-72A7205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0C6-87EC-44F7-8F2A-EB813F1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A60-3625-4EE1-A29E-929F5C6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135-3A3D-4A94-A35D-7F178FE75354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FE3-5785-41F3-829F-262683ACA15A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59BE-90D4-4BF8-88E3-57BADF73A4AE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71280" y="162828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100" spc="-1" strike="noStrike">
                <a:solidFill>
                  <a:srgbClr val="00642d"/>
                </a:solidFill>
                <a:latin typeface="Calibri"/>
              </a:rPr>
              <a:t>Programme d’aide aux pays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19 au 21 juillet 2011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64" name="Rounded Rectangle 4"/>
          <p:cNvSpPr/>
          <p:nvPr/>
        </p:nvSpPr>
        <p:spPr>
          <a:xfrm>
            <a:off x="190800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</a:rPr>
              <a:t>Pour plus d'informations contacter le Secrétariat du FEM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642d"/>
                </a:solidFill>
                <a:latin typeface="Calibri"/>
              </a:rPr>
              <a:t>Programme d’aide aux pays </a:t>
            </a:r>
            <a:br>
              <a:rPr sz="3100"/>
            </a:br>
            <a:r>
              <a:rPr b="1" lang="fr-FR" sz="3100" spc="-1" strike="noStrike">
                <a:solidFill>
                  <a:srgbClr val="00642d"/>
                </a:solidFill>
                <a:latin typeface="Calibri"/>
              </a:rPr>
              <a:t>Questions générales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8920" y="1412640"/>
            <a:ext cx="88218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’aide aux pays fournit un soutien flexible aux pays (en particulier les points focaux) afin qu'ils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renforcent leur capac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travailler avec le FEM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rogramme d’aide aux pays (PAP) es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administré par le Secrétariat du FEM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omposantes du PAP sont 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Processus de constitution d’un portefeuille national (PCPN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telier de dialogue multipartite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telier de coordination élargie (ECW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Réunions de groupes de pays (Aide aux membres du Conseil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Aide directe aux points focaux des opérations du FEM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Gestion des connaissances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3" marL="1200240" indent="-343080">
              <a:lnSpc>
                <a:spcPct val="6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Séminaires de familiarisation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631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 /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cessus de constitution d’un portefeuille national (1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484280"/>
            <a:ext cx="88567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7" name="Rounded Rectangle 4"/>
          <p:cNvSpPr/>
          <p:nvPr/>
        </p:nvSpPr>
        <p:spPr>
          <a:xfrm>
            <a:off x="250920" y="1341360"/>
            <a:ext cx="741672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Traditionnellement, la constitution d’un programme national est gérée par les agents d’exécution du FEM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ounded Rectangle 5"/>
          <p:cNvSpPr/>
          <p:nvPr/>
        </p:nvSpPr>
        <p:spPr>
          <a:xfrm>
            <a:off x="1187280" y="2205000"/>
            <a:ext cx="777744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renforcer encore la mobilisation stratégique du FEM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u niveau national, chaque pays peut engager, avec le soutien financier du FEM, un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processus de constitution d’un portefeuille national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.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187280" y="3429000"/>
            <a:ext cx="781236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Ce processus couvre tous les domaines d’intervention concernés </a:t>
            </a:r>
            <a:r>
              <a:rPr b="0" lang="fr-FR" sz="2000" spc="-1" strike="noStrike">
                <a:solidFill>
                  <a:srgbClr val="00446a"/>
                </a:solidFill>
                <a:latin typeface="Calibri"/>
                <a:ea typeface="MS PGothic"/>
              </a:rPr>
              <a:t>et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éfinit la programmation des allocations du FEM entre les projets / programmes rendant compte des priorités nationales et régionales, pour le bénéfice de l’environnement mondial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Rounded Rectangle 7"/>
          <p:cNvSpPr/>
          <p:nvPr/>
        </p:nvSpPr>
        <p:spPr>
          <a:xfrm>
            <a:off x="1187280" y="4797360"/>
            <a:ext cx="777744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réparation/soumission de ce processus </a:t>
            </a:r>
            <a:r>
              <a:rPr b="0" lang="fr-FR" sz="2000" spc="-1" strike="noStrike">
                <a:solidFill>
                  <a:srgbClr val="c00000"/>
                </a:solidFill>
                <a:latin typeface="Calibri"/>
                <a:ea typeface="MS PGothic"/>
              </a:rPr>
              <a:t>ne conditionne pas le financement du FEM.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adc8e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/</a:t>
            </a:r>
            <a:br>
              <a:rPr sz="2800"/>
            </a:b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 Processus de constitution d’un portefeuille national (2) 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2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réparation des processus doit êt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participa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e fai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en consult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être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coordonnée par les points focaux des opérations du FEM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ays choisit </a:t>
            </a:r>
            <a:r>
              <a:rPr b="0" lang="fr-FR" sz="2400" spc="-1" strike="noStrike">
                <a:solidFill>
                  <a:srgbClr val="bf3611"/>
                </a:solidFill>
                <a:latin typeface="Calibri"/>
              </a:rPr>
              <a:t>l’entité nation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hargée de conduire le proces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4" name="Rounded Rectangle 7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alité de mise en œuvre par un accès direct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5" name="Rounded Rectangle 8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ys qui décident de conduire ce processus reçoivent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jusqu’à 30 000 dollar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partir du budget des programmes institutionnel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6" name="Rounded Rectangle 9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lans nationaux librement adoptés sont mis en commun avec les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conventions respectiv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our </a:t>
            </a:r>
            <a:r>
              <a:rPr b="0" lang="fr-FR" sz="2000" spc="-1" strike="noStrike">
                <a:solidFill>
                  <a:srgbClr val="bf3611"/>
                </a:solidFill>
                <a:latin typeface="Calibri"/>
              </a:rPr>
              <a:t>diffusion publiqu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affichage sur le site web du FEM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686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 / 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cessus de constitution d’un portefeuille national – 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Mise en œuvre (3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1484280"/>
            <a:ext cx="9144000" cy="40820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prépare la proposition (en fournissant le budget de l’activité) et la soumet au Secrétariat du FEM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alibri"/>
                <a:ea typeface="Arial"/>
              </a:rPr>
              <a:t>L’entité nationale choisie doit compléter un rapport simplifié d’évaluation de la gestion financière.</a:t>
            </a:r>
            <a:endParaRPr b="0" lang="en-US" sz="16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Secrétariat du FEM examine la proposition et le DG l’approuve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et le DG du FEM signent l’accord de financement. 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ays lance le processus de constitution d’un portefeuille national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e ce processus est terminé, un rapport de fin d’activité est soumis au Secrétariat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alibri"/>
                <a:ea typeface="Arial"/>
              </a:rPr>
              <a:t>Y compris conditions de décaissement et rapport d’audit</a:t>
            </a:r>
            <a:endParaRPr b="0" lang="en-US" sz="16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6760" y="260280"/>
            <a:ext cx="80312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/</a:t>
            </a:r>
            <a:br>
              <a:rPr sz="2800"/>
            </a:b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Dialogue entre les multiples parties intéressé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557360"/>
            <a:ext cx="828036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 dialogue sui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les directives de l’Initiative pour l’organisation d’ateliers de dialogue national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Il a pour objectif de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fournir une aide modulabl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our organiser des réunions nationales dans le bu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de partager et d’étoffer les informatio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et les expériences des diverses parties intéressées par des activités concernant le développement durable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s réunions doivent se traduire par un renforcement des domaines relevant du FEM :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coordination des bailleurs de fond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t clarification des politiques et procédures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lles se tienn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à la demande du point focal des opérations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1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/ Ateliers FEM de coordination élargie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79280" y="1197000"/>
            <a:ext cx="8856720" cy="450000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ateliers se tiendron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une fois par a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fin de fournir des informations sur les stratégies, les politiques et les procédures du FEM et de faciliter la coordination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tre les points focaux du FEM, les ateliers réuniront les points focaux pour la Convention et la société civile,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jusqu’à 6 participants par pay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Ces réunions seront organisées par le Secrétariat du FEM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Un ordre du jour sera établi pour chaque réunion, en fonction des besoins des participant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orsque le nombre de pays/participants le permet,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deux réunions de groupes peuvent se tenir en parallèle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36280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</a:rPr>
              <a:t>Programme d’aide aux pays (Réunions de groupes et aide directe pour les points focaux des opérations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24000" y="1341360"/>
            <a:ext cx="8280360" cy="43772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Une réunion de groupe par a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est financée par le Secrétariat et organisée par le membre du Conseil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e membre du Conseil reçoit 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3 000 dollars au titre du soutien logis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. Le but de la réunion est d’examiner les documents de réunion du Conseil et d’arrêter une position commune sur les questions à débattre.  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’aide directe apportée aux points focaux des opérations est de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  <a:ea typeface="Arial"/>
              </a:rPr>
              <a:t> 9 000 dollar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par an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L’objectif est de conduire des activités qui facilitent le travail des points focaux des opérations.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43588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Programme d’aide aux pays</a:t>
            </a:r>
            <a:br>
              <a:rPr sz="2500"/>
            </a:br>
            <a:r>
              <a:rPr b="1" lang="fr-FR" sz="2500" spc="-1" strike="noStrike">
                <a:solidFill>
                  <a:srgbClr val="00642d"/>
                </a:solidFill>
                <a:latin typeface="Calibri"/>
              </a:rPr>
              <a:t>(Gestion des connaissances et séminaires de familiarisation)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50920" y="1413000"/>
            <a:ext cx="8642160" cy="4176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Gestion des connaissances : Cet élém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  <a:ea typeface="Arial"/>
              </a:rPr>
              <a:t>évoluera en fonction des besoins des points focaux du FEM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ainsi que des besoins des autres groupes de parties prenantes, en particulier les points focaux pour la Convention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Cet élément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  <a:ea typeface="Arial"/>
              </a:rPr>
              <a:t>comprendra également des informations sur les fonds d’adaptation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administrés par le FEM (Fonds pour les pays les moins avancés et Fonds spécial pour les changements climatiques)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Les séminaires de familiarisation du FEM organisés une fois par an à Washington permettront de former plusieurs (nouveaux) points focaux nationaux et le personnel des agents d’exécution du FEM aux stratégies, politiques et procédures du FEM.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08-31T21:34:52Z</dcterms:modified>
  <cp:revision>526</cp:revision>
  <dc:subject/>
  <dc:title>PowerPoint Presentation</dc:title>
</cp:coreProperties>
</file>