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06280" y="6951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827560"/>
            <a:ext cx="2973240" cy="4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82756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79E6C6-EF43-4ABD-A333-B12330CC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504E5D-0705-43D5-AEE1-3A2BBC35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Date Placeholder 4"/>
          <p:cNvSpPr/>
          <p:nvPr/>
        </p:nvSpPr>
        <p:spPr>
          <a:xfrm>
            <a:off x="388476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Footer Placeholder 5"/>
          <p:cNvSpPr/>
          <p:nvPr/>
        </p:nvSpPr>
        <p:spPr>
          <a:xfrm>
            <a:off x="0" y="8827920"/>
            <a:ext cx="297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Header Placeholder 6"/>
          <p:cNvSpPr/>
          <p:nvPr/>
        </p:nvSpPr>
        <p:spPr>
          <a:xfrm>
            <a:off x="0" y="0"/>
            <a:ext cx="297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Header Placeholder 3"/>
          <p:cNvSpPr/>
          <p:nvPr/>
        </p:nvSpPr>
        <p:spPr>
          <a:xfrm>
            <a:off x="0" y="0"/>
            <a:ext cx="297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Date Placeholder 4"/>
          <p:cNvSpPr/>
          <p:nvPr/>
        </p:nvSpPr>
        <p:spPr>
          <a:xfrm>
            <a:off x="388476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0" y="8827920"/>
            <a:ext cx="297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6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8CE893C-A77E-4F1E-8919-237AD14A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781-A4CE-4D68-8726-C52384D9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2B2-E96B-489D-BBEB-66E8AA3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D2B7-ACEB-49C1-AC30-3B11724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A90BF-1B80-43A8-9C74-6FD43F6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48B79-93DC-4E37-8865-D81C199C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E4D6E-294C-48C9-BA9F-71218AC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03805-2BB2-40F0-8D8B-6A04999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01B37-7221-41B3-97FA-C8B699E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90F1-50C9-4D26-997E-9B8E2E7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8BE20-7C80-4CE8-AE2E-E00C4AB4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44EC2-558B-4FD9-8EF2-99CD1A88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9F64-0782-44DA-81F6-18212938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194-1705-4326-864E-629ED702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11CE3-B37C-427E-B771-8262BDB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F7BDF-AA49-4043-8292-8F0745E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5FFB1-BC86-413C-8D33-90823DE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78668-6986-49E2-8776-3198A3C5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0C3F4-2D83-4183-8C2E-EC4E412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08EB-6FE7-4785-84B9-C29B472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C8013-9B3D-4E0D-A583-EACD5AE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1CFD2-1A81-45B1-A529-0BD7DA2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0C7C-C093-4349-ACC4-3CCAC86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DC82-FEF6-4A40-B0B5-26289C48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086-F6A1-4028-9A89-DF738BF1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794A6-E941-4F7B-A066-5F3463A6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5C6EC-C4A6-4246-B0EC-995D5B26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DD8C7-2F17-46E7-8833-35A63B6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001B3-8D10-47FB-B358-EF6B57A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D0976-CF91-47F2-8B77-DA7B6F3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18E0-9467-4A90-9323-7EEC26A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5498-504F-432C-AE76-302C04E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40690-68EE-45D3-B4F7-AC81554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1E9A9-EFCB-431F-851F-8ADAA04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2C81-8903-41FC-AFF4-179C5BA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9641-A2EA-44B5-91F7-D34DBC46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26122-18BC-4BEA-A92F-E0EA568B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301CA-7C9E-4712-909E-A5E4668D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E9CA9-296F-4301-AAF0-2F41167D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A647A-1482-4F5D-A959-D328DD86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768C2-B3E6-479E-A5C1-A7376FF4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E8F52-C4F5-4179-BE42-70E4E39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95110-7873-415A-BF11-B5CB353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D5D3-545B-43B1-8F69-70FA04C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D9B84-6D33-4AF5-874A-2EEA3B9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F331C-F57F-4A22-B250-DF55E26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8055-3655-428B-83DE-643BAADC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F580-70C8-4FE7-9EEA-5C72B89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19283-5131-4606-AFC6-595C514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1578B-9CCA-4E81-BE69-2C2CAF0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C896B-27C5-4F67-8842-223FC4B0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61C9D-1880-42EC-B969-C59094B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51DEB-AB0E-4C8D-8BEE-15C57BEB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61ABF-0099-4DE4-8B8E-6EDD284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38581-5D1E-4E2E-9B5F-DC2F455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F041F-49B3-4445-B09D-3B2682B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58BF2-76BE-4A37-9F73-767E259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9814-A618-47ED-A0B1-DAAA4FF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A80B6-1C9C-46F2-A2CB-737605B0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C1BFC-1427-491E-B3B0-51B7B8C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A164E-7361-46BC-8B53-6198E08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7F159-9F30-4F5F-A919-8819B48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BFA46-46AD-44E2-AFB0-AF0878A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5B95F-66A5-43C9-8F03-535573EB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31A1E-D29E-4EFD-97AA-560D0BE2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8AA-D716-4C4B-AA60-21B4C93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24A6-BB8F-4416-A7B7-C701DD6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C9A9-FB57-428F-B7F4-43E5B0C0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5B4-B5CB-4F79-9DB9-8DADCF9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BA8-1692-473B-8CE6-97737F3D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09B2-E830-455D-ADD7-A567980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138-D56B-4832-8FA6-16A6335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438-B4DD-40D1-8C8C-C055959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566C-B421-4064-8ED3-27C412E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17F1-925B-4530-B54D-1CA9A49D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8C06-3443-4F42-9B20-2A2565D1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F8B6-E753-4402-AFE4-4FB2FE35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7E01-EA93-4731-AC5E-E908B96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478F-A208-4763-BF2D-8DAE4EB9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3B3F-0359-48E7-A9FA-2CFF14BB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417-3481-4473-B556-16053AE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3255-E6B9-4347-A580-FEA211F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3F50-D8C8-4E91-9557-2057E06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9F48-2B61-407B-97D5-3F53E95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3523-6002-4187-86A3-CB2BE8C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2826-5CB4-4944-A2A5-3BD4CB91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22C6-2F46-4CA1-84FF-9825B171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38F2-0277-43A9-A5CE-EF35DC73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488E-5407-41F6-9116-2235878A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9C26-3943-485B-BDE7-589BBEC4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FC02-F736-425D-B15E-E8056CF9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035-5DE7-45EE-8B47-3F68B06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4C95-3BB4-4B00-AD75-7FFE785C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7A99-D41F-4534-82AF-62CDFA5D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5C3C-DD1E-4194-9FBF-4704DFA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D9BE-0010-43AD-81F5-EEC7035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9DD3-CE36-46B7-9372-095B5E9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1A43-CB41-48C3-BC19-5275DF5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5A3B6-C815-4234-B18D-BAF1F230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5AB0-7E10-4981-9F15-009AD510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2B54-7A23-43F0-94D9-21569354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0103-A17C-4D39-A0A9-6D4D739A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15F-354D-408D-A79C-F1502A7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9A7F-6D69-4E82-908D-E5CB674E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A141-8248-4D3A-A72F-43FB3B6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B753-FDEE-4292-9D3D-BDFD7D06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D466-CD9C-49BA-97DE-6E9FBF3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27B5-00A2-4297-8E1F-030AF8D8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EE611-2F47-4E99-97A6-53B53940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4C01-A214-4604-9FA4-731EF65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7B9F-0FAE-4F12-9002-5036FDE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45F4-4777-4DC0-984E-C714EE6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5881D-31DC-42C3-9E45-4DF6F5FD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4A7-A008-463E-8D4E-58B0B01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EB34-CED3-4DEB-B8D3-42ADEB78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569B-0152-40D9-8FB8-8A57067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A8CB-77BD-4EDA-AC56-1901A85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C3CE-B2AA-4B6C-B269-6D1B2C3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81FB-852B-4221-987A-905BFA0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AAAE-C9F4-4916-8B30-6D7FE07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A1E32-5A32-4D05-BFB8-D79B118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352B-E98B-4BB3-B72F-61B6082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6BE1-B653-4E9C-8B6C-F4B2097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4C2C-5A1B-4F24-BA25-0160E3CE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35D-4CA4-4DBA-9420-248E60B4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A44A-ED75-4406-B0B7-C36B6CB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F55C9-FCBA-40E9-983C-388162AD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DC44-6FD4-4CCA-8FDB-2907609C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D873-3D49-46E7-B440-505F0D1A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7A93-A676-4903-83E5-391D0FB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89A1-5977-4ACD-95DF-6BA521B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1ADF-234C-4840-A73B-9C68020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3F45-6068-4DA7-9BE7-F4F2369F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9014-A3A4-4452-AA3D-B12E5F3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1A0A3-FF12-4E60-9A88-A5F07010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DEE-9799-4D60-A80B-DD19750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8CA2-43AC-4053-9034-49F306B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D36B-2C59-45C0-825E-5F1557C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B82BD-E257-4F19-852E-8F0488F9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2E53-787B-46DF-8E47-10B60B48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21C2-3094-40C5-9DFA-0F1AA812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1C7D-C7CF-405B-A918-EE17490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90774-04CF-4602-8C34-14AD2F5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BE5D-151B-416E-BC70-1CA562B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F27E-3E3B-4BD9-A576-6C685AB0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BD76-E8F5-4AB9-9956-548CF811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942-F321-46E1-98D8-91BBE89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D99A-58FD-4AFB-A869-66073680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B3B1B-901F-4546-AEC0-797B613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AC330-7142-4B4F-9313-A3961E4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EB45-EDE8-4D26-A420-6331250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E6D6-B4E6-4266-8913-EDF4FD2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05C4-0003-4DAE-BB6F-58F1F0AA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B5E87-9186-44F8-A70E-D89F60A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E65A-14E9-4579-825E-6FD8679A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CB80-5B53-4633-8BCC-E84D25B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6A232-C74A-4C02-9D46-3153CEB4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FE4-AD5E-43D1-B2A4-A2C223836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78E-5525-4C7D-A4D8-DF3134632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9AE-EFD4-4EEC-ABFE-C3A805299F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7C0-E1FB-4E73-A065-DFD25D70D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326B-37BF-4430-A9A6-0EC6EDDD03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1F8D-5BFC-495A-BB0D-39CD81F55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A80-B786-4582-9FB4-48553D98E7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4B4-BECA-4514-88C0-C87F04430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51B-E588-4335-8FB8-747BDBD4302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59B-333F-4EFA-9361-E5B6B782A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3633-5398-4E8A-8C6A-7786400656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F91E-5C8B-4D5E-A947-C450829FF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2DB-6225-4297-83FD-B5D677F199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300-B798-4922-9801-8688F796E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59E-B21F-4ADB-BB2B-EF015A50C6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89C5-0064-4918-A002-86AAA7215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2DE-B395-4DD5-BCEF-0252B67AB8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2CA-E68C-46E9-BA91-D15855D22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587-5BD1-450D-9CDD-B9540A36738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AC8-130C-462E-AEF3-7165B9C9A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11DE-F8DA-4FBF-9CA1-37761E796C6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D13-60C0-4BBF-8DCC-85961F186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1AE-EED6-45DA-A6D8-2298E47EB0A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2C5-69FC-4D68-BEA2-099E37218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C67-36D1-449E-87A4-F7535A0EDC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52C-A87B-4C52-8400-A09BC75B6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10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11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1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4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1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1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2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3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2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2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9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3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2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3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3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36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3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3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41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4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4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4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4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5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5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60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69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7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57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57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57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58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585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87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588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589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592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594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595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17T16:24:42Z</dcterms:modified>
  <cp:revision>245</cp:revision>
  <dc:subject/>
  <dc:title>Slide 1</dc:title>
</cp:coreProperties>
</file>