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06280" y="695160"/>
            <a:ext cx="46465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4164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827560"/>
            <a:ext cx="2973240" cy="4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82756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2DCD155-08A0-4839-8515-A9DBFDE4F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06640" y="6951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4164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827920"/>
            <a:ext cx="2971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7B2CF7D-4745-4E49-8EEB-B1BDB1A4F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Date Placeholder 4"/>
          <p:cNvSpPr/>
          <p:nvPr/>
        </p:nvSpPr>
        <p:spPr>
          <a:xfrm>
            <a:off x="3884760" y="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Footer Placeholder 5"/>
          <p:cNvSpPr/>
          <p:nvPr/>
        </p:nvSpPr>
        <p:spPr>
          <a:xfrm>
            <a:off x="0" y="8827920"/>
            <a:ext cx="29732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Header Placeholder 6"/>
          <p:cNvSpPr/>
          <p:nvPr/>
        </p:nvSpPr>
        <p:spPr>
          <a:xfrm>
            <a:off x="0" y="0"/>
            <a:ext cx="297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06640" y="6951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4164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wo types of OFP endorsement letters on GEF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Header Placeholder 3"/>
          <p:cNvSpPr/>
          <p:nvPr/>
        </p:nvSpPr>
        <p:spPr>
          <a:xfrm>
            <a:off x="0" y="0"/>
            <a:ext cx="297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Date Placeholder 4"/>
          <p:cNvSpPr/>
          <p:nvPr/>
        </p:nvSpPr>
        <p:spPr>
          <a:xfrm>
            <a:off x="3884760" y="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Footer Placeholder 5"/>
          <p:cNvSpPr/>
          <p:nvPr/>
        </p:nvSpPr>
        <p:spPr>
          <a:xfrm>
            <a:off x="0" y="8827920"/>
            <a:ext cx="29732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Slide Number Placeholder 6"/>
          <p:cNvSpPr/>
          <p:nvPr/>
        </p:nvSpPr>
        <p:spPr>
          <a:xfrm>
            <a:off x="3884760" y="8827920"/>
            <a:ext cx="2971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90C8AB1-0DD8-49ED-821B-95CBA3836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D9D-53CD-4B2A-9BA3-EF58918C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A225-425B-4716-B6F7-75E715B4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AF995-BAE1-4BC9-BD88-4520323B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8902D-DFA2-45B2-BEEE-729E08CE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BC8BE-18AF-4646-B7A8-6409EB01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6422C-B93A-4628-BB2C-C9DC68D0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4901C-8047-4026-A478-7E100D8E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81D78-CB18-498B-9A38-64EF7FD5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82AE9-4D48-480C-899B-980A03C6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57465-DF13-48EB-A527-1C71683B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85D4B-56B7-4EB7-8888-896147D4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15967-8BB8-4261-B8F9-33554D0D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0CA8-2A65-4E88-8582-37CE5EF5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ED237-45C5-4290-9794-DFBA6CE8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B1D44-93E0-4DDF-8EE2-EDD1CE46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EAEA5-DEAA-4619-8AB2-C69B7207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F879D-FA35-44B2-BF7D-B9A10EBA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0431A-8FE2-45D6-B004-F44449B7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F83E5-AF4D-4D58-8856-06FE76A7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73A45-EEED-4523-96B3-0B6D01F1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33298-2165-4A32-92FB-9D4FB0AA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BD84D-8AAE-4685-863E-7BFC38F0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3A9B5-4E85-4FDB-AEC7-0144B0BD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3F9-2E45-4C39-8A62-029D7BDD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E122E-59F6-49D3-8144-93FFABC7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BCE84-0E2F-45CD-87A7-1D639910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83F6C-D710-41D9-8532-B9827849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E728D-ACAB-497C-BA58-9949E780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7EC74-AF5B-499E-8D9F-B32BCEAE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BC0F0-BD2B-4AF3-AB08-F775FE09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C2AD3-5D12-430C-8C10-DFCB8D4B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D16A4-475E-41DD-AA4F-6B4009B8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82911-72FA-47D4-B816-E7CEE009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34D56-46F2-4B1A-A01B-D358B33E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BDEC-2BE4-4CA7-95A5-2AC10F04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292BD-0791-4F7E-9021-B3E545E4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0DBEB-7D45-4233-826F-323F6CBF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F0006-0610-4B2B-9C9B-532182C3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3E52A-33FC-4256-9349-12614892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89E4E-7FFA-4B24-9DDE-58609852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DF062-CEFB-46F9-9F89-93749048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181A5-8228-44A3-8104-371CD01B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E4729-F384-4712-86BE-670E11B8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ACB92-3E79-4E3E-B0DD-98EAC079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E69CB-0D16-419F-AE34-CA4A5D5F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8AED-423E-4076-8211-A38775F6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4A5FC-CACD-4B4F-95CC-23F3945B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1BAE5-F941-440E-9E3A-5E49D83B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D8922-E85B-432A-9933-A50C8D7C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68CBA-7E8B-4FD3-BB18-91F9EDAF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8379A-04E1-4D4C-A017-FDF58E66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AB336-20CC-4E02-BDAF-23834DB3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032C0-7F22-4C43-91CD-E3232328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EB7FC-4932-4245-96D7-A3260FA5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D8AA8-E1FB-459D-BB54-1EBD8F20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E5E9D-6F2B-4DFD-A44C-CA212E7D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3DDD-C278-499D-A033-9DC2D4F7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00FA0-5B9D-446A-8C3B-5E75EC22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C26E3D-D56D-48B3-999E-6B2574F0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4162A-784C-4FE0-A053-72FD01BD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31B772-EBEA-4849-85DB-7F6D6789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68235-5D8B-450B-8A57-A5977B27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7C494-63EE-43B6-9FEE-2E3B7ED5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2C92C8-90A0-48D6-964F-E5047ED8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11A9-F2D4-475C-8869-AF766D00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F6D4-D178-49F1-8E9D-8270A9E1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DF0C-3732-437B-9828-B1B4E804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3B69-AFB2-48F0-ABF8-38B23ED3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6A97-EF28-431C-AEF6-2A4817BB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F6DE-F1A5-4C60-808F-E7BDCBF3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36ED-88AD-410C-90A3-895A4E4A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AA27-66BB-48AC-88AF-ADD29096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DAE1-9CED-4B35-BC58-46DD444A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1EFB-959D-479A-8C84-0E2E2237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94E30-8D98-497B-B0E1-2B39E789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4A96C-6421-46D0-9212-65BF5C59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1CB2D-A7F3-46A5-914D-F8B398B4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C0396-7F4C-491F-AA81-3CF5B3C1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7A3C4-7360-441E-B26A-EFDCE807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74C-0E50-4D09-B022-693B44C2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21FF3-146C-4219-82A3-B29B666F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8D474-F04C-42A7-B165-9444FC4F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A8601-9E99-482C-B75F-B23E3E9E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48A06-24CC-45D2-9EE9-51BD2E28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91535-1B60-4F9E-9664-9CAA16DA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5D994-1A56-4525-AC9F-B369283D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2BF42-6519-455F-A1F2-9C14E987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41514-7DDF-43DB-93F9-1E0DECA3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CAB3A-7FE1-4A27-BF89-ACC0BC98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9ABB0-49E8-4B60-9AD9-5B77761C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C2D-C270-4BC9-B7A8-33675AA9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142D6-C621-4412-9E4C-C3BDA034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27490-824D-4E63-B1C6-E05CB6D2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B412A-9BD2-47CF-A955-AA809511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D0290-4D7D-4374-99F3-3658F42F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F6B09-112A-45C1-8A7B-5A640AB8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24D87-5FB5-4305-A599-D0282BB5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F171F-4FC4-4050-AF88-D1E431D0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A8E51-C9AB-4F10-9D13-9F52AD4B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D7AAD-72F1-41D3-B3E0-7F26D3F3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F42BC-904B-4ACB-B191-E297B0E6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FB1-6350-42F6-AA21-F6A96629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3C82E-4A1A-409A-B343-CEABB53A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55E81-91DB-4839-82A7-D88EDD1D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A99AC-90E5-4AEB-A8D4-8D63A687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2DCF2-ED49-44BC-8EDA-8383855A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73431-2723-41A8-A262-839B2A8C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44D21-4E6E-4128-9BF1-4BA02A12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CB4DF-F62E-4C93-B05B-F9722263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5233C-8EC5-4DD9-BF88-04597739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06003-2542-4856-A00D-81C7ED79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C9CCA-62AD-4EBF-9EF3-A02EA465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540-07BE-4147-9F23-B772677E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78F6C-208E-4020-B9FD-45CA320A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078D6-63FE-4F88-9B70-1823C1E4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19086-6644-4EA2-8CFB-CD75A038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AEDB5-A2CA-472D-81DF-34C547A1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AA2E5-E065-4E2D-BD1D-1E9A3D71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62ED3-FC85-4946-9FB9-A988F14E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E1298-A250-4DB0-B874-649F27A3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EA4E6-6A9F-49C2-880B-2A018BC6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C03DD-80A4-4472-88F4-8FABE80F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E70A6-584B-4313-B70D-ADE7DA0C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FFEE-5708-4D28-845F-093C09E8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084EE-9F5F-4EE5-AD0F-AE783CF3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556BD-ED42-4608-A1F4-D62A4493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F96F4-4155-4221-BC85-975542C2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33D1D-3641-4CE9-A5BB-04807B81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2C248-3671-47F3-B966-CEB7A492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62712-DEE4-4390-8C42-84CF9C2D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65E66-E080-4128-94B8-42C49166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9E487-A257-4C51-BDFE-8B543535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1FA29-AB17-44CB-B0C4-B4A42E6D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10EE1-2967-473A-A94F-F3822823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55F-FDFD-4DA9-9BB9-5EEE32F2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4B9EA-9067-48D3-8CAD-7AF34D8A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FDA4F-65A0-429F-AE59-54CF176E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C74B3-B121-4AB4-9AB4-31DD3015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2226A-D48C-4D28-9CA9-10429AE2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103D1-AF2D-4949-95C8-50CE69A4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172B6-DFC3-4C2B-BCBE-75C7DE08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ACD3F-2703-46E5-B206-6917D876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E8774-85E5-4D5D-9008-2E559CA9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3CF55-D333-4EB2-A736-EFA22714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ECBC1-C4D4-4062-AF30-0CF0E547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4D2-C99B-408E-9931-ADD68E1E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346C3-BF3B-4E64-823A-9F241D23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3624D-9B7C-4C02-9C58-267F6E1F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9CA5D-6231-4029-8C1B-A7663130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CF377-E92D-4014-826F-1C5BF12B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69858-94D5-47EA-8AED-89AF9BAB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D5832-8AB6-40C0-BB1C-3BE4878E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1C9E8-FD1C-4E24-AFC7-C7724685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26D2C-4BA1-48D2-B359-73BDD323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00295-72D2-4DCD-9708-EA17C062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C0B50-7562-4AF9-AA9C-6255D4DB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2B2A-5E82-44F0-8803-9F079DB00B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5564-F1CC-4809-A409-EDD874109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718D-C2C5-4D0B-AF86-73E441227B2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4674-3904-49D4-98CE-AB713E9E8D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14B5-0FC2-4FFC-BD8E-56B7FEE1322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FB03-11DE-438B-A44C-FDAB4E58A3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5399-A1C4-409A-8551-963DB4E92C0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1FDA-0299-4299-A282-C45EE65B6E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CE5F-AA03-4E99-82A4-80F088C64F8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D97D-EB02-4582-A2C9-6F3DAAC2EB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5443-A68A-4E81-A226-F9173CE89AE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7E89-0539-4BFA-8FD5-959FD70790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5FFA-F827-402B-826E-E56991D0864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9385-5688-4D51-AE54-771A413DA1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82EA-04D3-4650-B366-7C9C5DC2FB7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2773-6ABE-414F-A6FD-74C5CEFD4C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4950-9322-4333-A35E-FBB08D4B7C5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ABF5-0BEF-4EB2-8E1A-CB9C096376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D3E6-87FB-4B37-B54D-E233D036DE1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A27F-2B09-4804-BA6B-45947DAF9A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3CCF-7C14-4B64-BADF-A3DEB4B0F1E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C2DF-4D4A-4F02-A91A-36C6E4CBAB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91D2-44E4-4F81-97CC-EECB80DBEA3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3267-518A-4ED0-A2CE-923E35E536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7D99-B38F-4066-95E1-59DCA711B45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EFAB-E13B-46B4-8DF3-680FE74D30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4.png"/><Relationship Id="rId10" Type="http://schemas.openxmlformats.org/officeDocument/2006/relationships/image" Target="../media/image22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25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26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</a:rPr>
              <a:t>GEF Project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ubtitle 4"/>
          <p:cNvSpPr/>
          <p:nvPr/>
        </p:nvSpPr>
        <p:spPr>
          <a:xfrm>
            <a:off x="129528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5 – 27 October 2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irobi, Keny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eview Criteria for FSP/MS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914040" y="20574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ntry eligibility and ownershi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bal Environmental Benef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F Focal area strate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’s Comparative advant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ource avail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consisten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desig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financing and co-financing (baselin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nitoring and evaluation;  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’s responses to comments and review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Country Endorsement</a:t>
            </a:r>
            <a:br>
              <a:rPr sz="3600"/>
            </a:br>
            <a:r>
              <a:rPr b="0" lang="en-US" sz="3200" spc="-1" strike="noStrike">
                <a:solidFill>
                  <a:srgbClr val="558ed5"/>
                </a:solidFill>
                <a:latin typeface="Calibri"/>
                <a:ea typeface="Arial"/>
              </a:rPr>
              <a:t>(by Country National Operational Focal  Poi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246816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PIFs should have OFP endorsement when submitting to GEF for clearance (in case of FSPs) or approval (in case of MSPs requesting a PP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s in biodiversity, climate change, and land degradation focal areas follow STAR ru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914040" y="20570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stand-alone projects, a 10% fee based on the GEF amount for the project (project grant + PPG)*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 fees for Programmatic Approaches vary depending on the type of Agency submitting the P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0033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 Board approving projects: 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033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out Board approving projects:  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case of project cancellation, all unused fees or a specific percentage should be returned to GEF Trust Fund.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Reference to Council paper, 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oles and Comparative Advantages of the GEF Agenci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”   (GEF/C.30/9) for 10% fee guidelines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Reference to Council paper, 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roposal for Revising the Fee Syste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” (GEF/C.23/8/Rev.1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r fee return guidelin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Agency F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Programmatic Approaches (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33160" y="2133720"/>
            <a:ext cx="79246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wo Types of programmatic approaches, depending on the type of GEF Agency submitting the program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 Board approving projects - those GEF Agencies meeting the criteria for delegated approval authorit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out Board approving projects - those GEF Agencies not meeting the criteria, such programs can be submitted by a Program Coordination Agency (P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610" name="Group 3" descr=""/>
          <p:cNvPicPr/>
          <p:nvPr/>
        </p:nvPicPr>
        <p:blipFill>
          <a:blip r:embed="rId2"/>
          <a:stretch/>
        </p:blipFill>
        <p:spPr>
          <a:xfrm>
            <a:off x="853920" y="950760"/>
            <a:ext cx="2475000" cy="646200"/>
          </a:xfrm>
          <a:prstGeom prst="rect">
            <a:avLst/>
          </a:prstGeom>
          <a:ln w="0">
            <a:noFill/>
          </a:ln>
        </p:spPr>
      </p:pic>
      <p:grpSp>
        <p:nvGrpSpPr>
          <p:cNvPr id="611" name="Rounded Rectangle 4"/>
          <p:cNvGrpSpPr/>
          <p:nvPr/>
        </p:nvGrpSpPr>
        <p:grpSpPr>
          <a:xfrm>
            <a:off x="927000" y="3255840"/>
            <a:ext cx="2444760" cy="669960"/>
            <a:chOff x="927000" y="3255840"/>
            <a:chExt cx="2444760" cy="669960"/>
          </a:xfrm>
        </p:grpSpPr>
        <p:pic>
          <p:nvPicPr>
            <p:cNvPr id="612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927000" y="3255840"/>
              <a:ext cx="24447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990720" y="32767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individual PIFs under the progr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14" name="Group 28" descr=""/>
          <p:cNvPicPr/>
          <p:nvPr/>
        </p:nvPicPr>
        <p:blipFill>
          <a:blip r:embed="rId4"/>
          <a:stretch/>
        </p:blipFill>
        <p:spPr>
          <a:xfrm>
            <a:off x="5048280" y="950760"/>
            <a:ext cx="2475000" cy="646200"/>
          </a:xfrm>
          <a:prstGeom prst="rect">
            <a:avLst/>
          </a:prstGeom>
          <a:ln w="0">
            <a:noFill/>
          </a:ln>
        </p:spPr>
      </p:pic>
      <p:pic>
        <p:nvPicPr>
          <p:cNvPr id="615" name="Group 48" descr=""/>
          <p:cNvPicPr/>
          <p:nvPr/>
        </p:nvPicPr>
        <p:blipFill>
          <a:blip r:embed="rId5"/>
          <a:stretch/>
        </p:blipFill>
        <p:spPr>
          <a:xfrm>
            <a:off x="1920960" y="3852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16" name="Group 51" descr=""/>
          <p:cNvPicPr/>
          <p:nvPr/>
        </p:nvPicPr>
        <p:blipFill>
          <a:blip r:embed="rId6"/>
          <a:stretch/>
        </p:blipFill>
        <p:spPr>
          <a:xfrm>
            <a:off x="1920960" y="1566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17" name="Group 58" descr=""/>
          <p:cNvPicPr/>
          <p:nvPr/>
        </p:nvPicPr>
        <p:blipFill>
          <a:blip r:embed="rId7"/>
          <a:stretch/>
        </p:blipFill>
        <p:spPr>
          <a:xfrm>
            <a:off x="1920960" y="47671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18" name="Group 64" descr=""/>
          <p:cNvPicPr/>
          <p:nvPr/>
        </p:nvPicPr>
        <p:blipFill>
          <a:blip r:embed="rId8"/>
          <a:stretch/>
        </p:blipFill>
        <p:spPr>
          <a:xfrm>
            <a:off x="6035760" y="157320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19" name="Group 48" descr=""/>
          <p:cNvPicPr/>
          <p:nvPr/>
        </p:nvPicPr>
        <p:blipFill>
          <a:blip r:embed="rId9"/>
          <a:stretch/>
        </p:blipFill>
        <p:spPr>
          <a:xfrm>
            <a:off x="1920960" y="29383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620" name="Rounded Rectangle 4"/>
          <p:cNvGrpSpPr/>
          <p:nvPr/>
        </p:nvGrpSpPr>
        <p:grpSpPr>
          <a:xfrm>
            <a:off x="927000" y="4170240"/>
            <a:ext cx="2444760" cy="669960"/>
            <a:chOff x="927000" y="4170240"/>
            <a:chExt cx="2444760" cy="669960"/>
          </a:xfrm>
        </p:grpSpPr>
        <p:pic>
          <p:nvPicPr>
            <p:cNvPr id="621" name="Rounded Rectangle 4" descr=""/>
            <p:cNvPicPr/>
            <p:nvPr/>
          </p:nvPicPr>
          <p:blipFill>
            <a:blip r:embed="rId10"/>
            <a:stretch/>
          </p:blipFill>
          <p:spPr>
            <a:xfrm>
              <a:off x="927000" y="4170240"/>
              <a:ext cx="24447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990720" y="41911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3" name="Rounded Rectangle 4"/>
          <p:cNvGrpSpPr/>
          <p:nvPr/>
        </p:nvGrpSpPr>
        <p:grpSpPr>
          <a:xfrm>
            <a:off x="914400" y="4998960"/>
            <a:ext cx="2517840" cy="779400"/>
            <a:chOff x="914400" y="4998960"/>
            <a:chExt cx="2517840" cy="779400"/>
          </a:xfrm>
        </p:grpSpPr>
        <p:pic>
          <p:nvPicPr>
            <p:cNvPr id="624" name="Rounded Rectangle 4" descr=""/>
            <p:cNvPicPr/>
            <p:nvPr/>
          </p:nvPicPr>
          <p:blipFill>
            <a:blip r:embed="rId11"/>
            <a:stretch/>
          </p:blipFill>
          <p:spPr>
            <a:xfrm>
              <a:off x="914400" y="4998960"/>
              <a:ext cx="25178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990720" y="51055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6" name="Rounded Rectangle 4"/>
          <p:cNvGrpSpPr/>
          <p:nvPr/>
        </p:nvGrpSpPr>
        <p:grpSpPr>
          <a:xfrm>
            <a:off x="927000" y="5986440"/>
            <a:ext cx="2444760" cy="779400"/>
            <a:chOff x="927000" y="5986440"/>
            <a:chExt cx="2444760" cy="779400"/>
          </a:xfrm>
        </p:grpSpPr>
        <p:pic>
          <p:nvPicPr>
            <p:cNvPr id="627" name="Rounded Rectangle 4" descr=""/>
            <p:cNvPicPr/>
            <p:nvPr/>
          </p:nvPicPr>
          <p:blipFill>
            <a:blip r:embed="rId12"/>
            <a:stretch/>
          </p:blipFill>
          <p:spPr>
            <a:xfrm>
              <a:off x="927000" y="5986440"/>
              <a:ext cx="24447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990720" y="609588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9" name="Rounded Rectangle 4"/>
          <p:cNvGrpSpPr/>
          <p:nvPr/>
        </p:nvGrpSpPr>
        <p:grpSpPr>
          <a:xfrm>
            <a:off x="3657600" y="2189160"/>
            <a:ext cx="2505240" cy="1352520"/>
            <a:chOff x="3657600" y="2189160"/>
            <a:chExt cx="2505240" cy="1352520"/>
          </a:xfrm>
        </p:grpSpPr>
        <p:pic>
          <p:nvPicPr>
            <p:cNvPr id="630" name="Rounded Rectangle 4" descr=""/>
            <p:cNvPicPr/>
            <p:nvPr/>
          </p:nvPicPr>
          <p:blipFill>
            <a:blip r:embed="rId13"/>
            <a:stretch/>
          </p:blipFill>
          <p:spPr>
            <a:xfrm>
              <a:off x="3657600" y="2189160"/>
              <a:ext cx="250524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3733920" y="2209680"/>
              <a:ext cx="2319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endors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 and approves PIFs submitted with PF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2" name="Rounded Rectangle 4"/>
          <p:cNvGrpSpPr/>
          <p:nvPr/>
        </p:nvGrpSpPr>
        <p:grpSpPr>
          <a:xfrm>
            <a:off x="927000" y="1884240"/>
            <a:ext cx="2449440" cy="1127160"/>
            <a:chOff x="927000" y="1884240"/>
            <a:chExt cx="2449440" cy="1127160"/>
          </a:xfrm>
        </p:grpSpPr>
        <p:pic>
          <p:nvPicPr>
            <p:cNvPr id="633" name="Rounded Rectangle 4" descr=""/>
            <p:cNvPicPr/>
            <p:nvPr/>
          </p:nvPicPr>
          <p:blipFill>
            <a:blip r:embed="rId14"/>
            <a:stretch/>
          </p:blipFill>
          <p:spPr>
            <a:xfrm>
              <a:off x="927000" y="1884240"/>
              <a:ext cx="24494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990720" y="1905120"/>
              <a:ext cx="23191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35" name="Group 58" descr=""/>
          <p:cNvPicPr/>
          <p:nvPr/>
        </p:nvPicPr>
        <p:blipFill>
          <a:blip r:embed="rId15"/>
          <a:stretch/>
        </p:blipFill>
        <p:spPr>
          <a:xfrm>
            <a:off x="1920960" y="56815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636" name="Rounded Rectangle 4"/>
          <p:cNvGrpSpPr/>
          <p:nvPr/>
        </p:nvGrpSpPr>
        <p:grpSpPr>
          <a:xfrm>
            <a:off x="6413400" y="2266920"/>
            <a:ext cx="2498760" cy="1281240"/>
            <a:chOff x="6413400" y="2266920"/>
            <a:chExt cx="2498760" cy="1281240"/>
          </a:xfrm>
        </p:grpSpPr>
        <p:pic>
          <p:nvPicPr>
            <p:cNvPr id="637" name="Rounded Rectangle 4" descr=""/>
            <p:cNvPicPr/>
            <p:nvPr/>
          </p:nvPicPr>
          <p:blipFill>
            <a:blip r:embed="rId16"/>
            <a:stretch/>
          </p:blipFill>
          <p:spPr>
            <a:xfrm>
              <a:off x="6413400" y="2266920"/>
              <a:ext cx="24987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6477120" y="2286000"/>
              <a:ext cx="2319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subsequent set of PIFs under the PFD submitted through W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39" name="Group 48" descr=""/>
          <p:cNvPicPr/>
          <p:nvPr/>
        </p:nvPicPr>
        <p:blipFill>
          <a:blip r:embed="rId17"/>
          <a:stretch/>
        </p:blipFill>
        <p:spPr>
          <a:xfrm>
            <a:off x="5353200" y="35542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40" name="Group 58" descr=""/>
          <p:cNvPicPr/>
          <p:nvPr/>
        </p:nvPicPr>
        <p:blipFill>
          <a:blip r:embed="rId18"/>
          <a:stretch/>
        </p:blipFill>
        <p:spPr>
          <a:xfrm>
            <a:off x="6035760" y="4621320"/>
            <a:ext cx="450720" cy="414360"/>
          </a:xfrm>
          <a:prstGeom prst="rect">
            <a:avLst/>
          </a:prstGeom>
          <a:ln w="0">
            <a:noFill/>
          </a:ln>
        </p:spPr>
      </p:pic>
      <p:grpSp>
        <p:nvGrpSpPr>
          <p:cNvPr id="641" name="Rounded Rectangle 4"/>
          <p:cNvGrpSpPr/>
          <p:nvPr/>
        </p:nvGrpSpPr>
        <p:grpSpPr>
          <a:xfrm>
            <a:off x="5041800" y="4095720"/>
            <a:ext cx="2444760" cy="665280"/>
            <a:chOff x="5041800" y="4095720"/>
            <a:chExt cx="2444760" cy="665280"/>
          </a:xfrm>
        </p:grpSpPr>
        <p:pic>
          <p:nvPicPr>
            <p:cNvPr id="642" name="Rounded Rectangle 4" descr=""/>
            <p:cNvPicPr/>
            <p:nvPr/>
          </p:nvPicPr>
          <p:blipFill>
            <a:blip r:embed="rId19"/>
            <a:stretch/>
          </p:blipFill>
          <p:spPr>
            <a:xfrm>
              <a:off x="5041800" y="4095720"/>
              <a:ext cx="24447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5105520" y="411480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 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4" name="Rounded Rectangle 4"/>
          <p:cNvGrpSpPr/>
          <p:nvPr/>
        </p:nvGrpSpPr>
        <p:grpSpPr>
          <a:xfrm>
            <a:off x="5029200" y="4919760"/>
            <a:ext cx="2517840" cy="779400"/>
            <a:chOff x="5029200" y="4919760"/>
            <a:chExt cx="2517840" cy="779400"/>
          </a:xfrm>
        </p:grpSpPr>
        <p:pic>
          <p:nvPicPr>
            <p:cNvPr id="645" name="Rounded Rectangle 4" descr=""/>
            <p:cNvPicPr/>
            <p:nvPr/>
          </p:nvPicPr>
          <p:blipFill>
            <a:blip r:embed="rId20"/>
            <a:stretch/>
          </p:blipFill>
          <p:spPr>
            <a:xfrm>
              <a:off x="5029200" y="4919760"/>
              <a:ext cx="25178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5105520" y="502920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7" name="Rounded Rectangle 4"/>
          <p:cNvGrpSpPr/>
          <p:nvPr/>
        </p:nvGrpSpPr>
        <p:grpSpPr>
          <a:xfrm>
            <a:off x="5041800" y="5950080"/>
            <a:ext cx="2444760" cy="798480"/>
            <a:chOff x="5041800" y="5950080"/>
            <a:chExt cx="2444760" cy="798480"/>
          </a:xfrm>
        </p:grpSpPr>
        <p:pic>
          <p:nvPicPr>
            <p:cNvPr id="648" name="Rounded Rectangle 4" descr=""/>
            <p:cNvPicPr/>
            <p:nvPr/>
          </p:nvPicPr>
          <p:blipFill>
            <a:blip r:embed="rId21"/>
            <a:stretch/>
          </p:blipFill>
          <p:spPr>
            <a:xfrm>
              <a:off x="5041800" y="5950080"/>
              <a:ext cx="2444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5105520" y="6019920"/>
              <a:ext cx="231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50" name="Group 58" descr=""/>
          <p:cNvPicPr/>
          <p:nvPr/>
        </p:nvPicPr>
        <p:blipFill>
          <a:blip r:embed="rId22"/>
          <a:stretch/>
        </p:blipFill>
        <p:spPr>
          <a:xfrm>
            <a:off x="6035760" y="5608800"/>
            <a:ext cx="450720" cy="414000"/>
          </a:xfrm>
          <a:prstGeom prst="rect">
            <a:avLst/>
          </a:prstGeom>
          <a:ln w="0">
            <a:noFill/>
          </a:ln>
        </p:spPr>
      </p:pic>
      <p:pic>
        <p:nvPicPr>
          <p:cNvPr id="651" name="Group 48" descr=""/>
          <p:cNvPicPr/>
          <p:nvPr/>
        </p:nvPicPr>
        <p:blipFill>
          <a:blip r:embed="rId23"/>
          <a:stretch/>
        </p:blipFill>
        <p:spPr>
          <a:xfrm>
            <a:off x="6797520" y="3554280"/>
            <a:ext cx="45108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85800" y="1523520"/>
            <a:ext cx="7848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44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GEF project cycle is a process involving many partners on the frontline: countries, GEF Agencies, GEF Secretariat, GEF Council, and partner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ther important partners perform behind the scene function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Truste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ets aside funds for projects, commits funds and transfer fund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TA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creens projects upstream and provides scientific guidance for the project or progra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valuation Offic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which evaluates completed projects and selected themes and undertakes annual performance review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nvention secretaria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so provides guidance and comments on projec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58ed5"/>
                </a:solidFill>
                <a:latin typeface="Calibri"/>
                <a:ea typeface="Arial"/>
              </a:rPr>
              <a:t>From the project idea to the endorsement/approval requ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dea – Countries – NPFE (option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Concept – Agencies – PIF &amp; PPG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PIF &amp; PPG review, work program inclusion and   Council appr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Preparation –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document – Agencies – FSP or MSP (EA)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 review, CEO endorsement/approval and Council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Features of the GEF-5 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762120" y="19807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IF submitted on a rolling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8 months preparation for F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begins from date of Council approval of the work program till CEO endorsement of the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2 months preparation for M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pplies only to those MSPs that requested PPG;  begins from date of PIF approval by CEO to approval of final project document by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Framework Document (PFD) for Programmatic Approaches (PA) can be submitted only for Council meetings, scheduled twice a year (May and Nove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1)</a:t>
            </a:r>
            <a:br>
              <a:rPr sz="3600"/>
            </a:br>
            <a:r>
              <a:rPr b="0" lang="en-US" sz="1100" spc="-1" strike="noStrike">
                <a:solidFill>
                  <a:srgbClr val="0066ff"/>
                </a:solidFill>
                <a:latin typeface="Calibri"/>
                <a:ea typeface="Arial"/>
              </a:rPr>
              <a:t>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Full-sized Projects (FSP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uncil/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cil approval of the work program, consisting of PIFs cleared by the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endorsement of the final project docu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F Agenc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of the project by the GEF Agency and implementation star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ion of implementation, terminal evaluation and financial clos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Medium-sized Projects (MSP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ingle-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MSP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wo-step 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PG requested, submit PIF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itle 1"/>
          <p:cNvSpPr/>
          <p:nvPr/>
        </p:nvSpPr>
        <p:spPr>
          <a:xfrm>
            <a:off x="2209680" y="83808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</a:rPr>
              <a:t>Medium-Sized Projec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9" name="Content Placeholder 3" descr=""/>
          <p:cNvPicPr/>
          <p:nvPr/>
        </p:nvPicPr>
        <p:blipFill>
          <a:blip r:embed="rId1"/>
          <a:stretch/>
        </p:blipFill>
        <p:spPr>
          <a:xfrm>
            <a:off x="1279440" y="1639800"/>
            <a:ext cx="2994120" cy="4529160"/>
          </a:xfrm>
          <a:prstGeom prst="rect">
            <a:avLst/>
          </a:prstGeom>
          <a:ln w="0">
            <a:noFill/>
          </a:ln>
        </p:spPr>
      </p:pic>
      <p:pic>
        <p:nvPicPr>
          <p:cNvPr id="560" name="Diagram 4" descr=""/>
          <p:cNvPicPr/>
          <p:nvPr/>
        </p:nvPicPr>
        <p:blipFill>
          <a:blip r:embed="rId2"/>
          <a:stretch/>
        </p:blipFill>
        <p:spPr>
          <a:xfrm>
            <a:off x="4511520" y="1646280"/>
            <a:ext cx="2584440" cy="4516560"/>
          </a:xfrm>
          <a:prstGeom prst="rect">
            <a:avLst/>
          </a:prstGeom>
          <a:ln w="0">
            <a:noFill/>
          </a:ln>
        </p:spPr>
      </p:pic>
      <p:sp>
        <p:nvSpPr>
          <p:cNvPr id="561" name="TextBox 5"/>
          <p:cNvSpPr/>
          <p:nvPr/>
        </p:nvSpPr>
        <p:spPr>
          <a:xfrm>
            <a:off x="1371600" y="6172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y approves MSP after CEO approval of the project and starts imple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2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r Enabling Activities (two paths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rect Acces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ollow direct access policy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nd country sign Grant Agreement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isting procedur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applying EA grant through Agenc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follows its own internal approval procedure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567" name="TextBox 6"/>
          <p:cNvSpPr/>
          <p:nvPr/>
        </p:nvSpPr>
        <p:spPr>
          <a:xfrm>
            <a:off x="1371600" y="76212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</a:rPr>
              <a:t>Expedited Enabling Ac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8" name="Group 3" descr=""/>
          <p:cNvPicPr/>
          <p:nvPr/>
        </p:nvPicPr>
        <p:blipFill>
          <a:blip r:embed="rId2"/>
          <a:stretch/>
        </p:blipFill>
        <p:spPr>
          <a:xfrm>
            <a:off x="1695600" y="1407960"/>
            <a:ext cx="2395440" cy="871560"/>
          </a:xfrm>
          <a:prstGeom prst="rect">
            <a:avLst/>
          </a:prstGeom>
          <a:ln w="0">
            <a:noFill/>
          </a:ln>
        </p:spPr>
      </p:pic>
      <p:grpSp>
        <p:nvGrpSpPr>
          <p:cNvPr id="569" name="Rounded Rectangle 4"/>
          <p:cNvGrpSpPr/>
          <p:nvPr/>
        </p:nvGrpSpPr>
        <p:grpSpPr>
          <a:xfrm>
            <a:off x="1762200" y="4170240"/>
            <a:ext cx="2401920" cy="749520"/>
            <a:chOff x="1762200" y="4170240"/>
            <a:chExt cx="2401920" cy="749520"/>
          </a:xfrm>
        </p:grpSpPr>
        <p:pic>
          <p:nvPicPr>
            <p:cNvPr id="570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762200" y="4170240"/>
              <a:ext cx="24019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1828800" y="4191120"/>
              <a:ext cx="2243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t Agreement signed between Government and GEF CEO*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2" name="Rounded Rectangle 4"/>
          <p:cNvGrpSpPr/>
          <p:nvPr/>
        </p:nvGrpSpPr>
        <p:grpSpPr>
          <a:xfrm>
            <a:off x="1689120" y="5315040"/>
            <a:ext cx="2370240" cy="853920"/>
            <a:chOff x="1689120" y="5315040"/>
            <a:chExt cx="2370240" cy="853920"/>
          </a:xfrm>
        </p:grpSpPr>
        <p:pic>
          <p:nvPicPr>
            <p:cNvPr id="573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1689120" y="5315040"/>
              <a:ext cx="23702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1752480" y="5334120"/>
              <a:ext cx="22431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completes implementation of EA and submits Report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5" name="Rounded Rectangle 4"/>
          <p:cNvGrpSpPr/>
          <p:nvPr/>
        </p:nvGrpSpPr>
        <p:grpSpPr>
          <a:xfrm>
            <a:off x="4505400" y="5315040"/>
            <a:ext cx="2475000" cy="896760"/>
            <a:chOff x="4505400" y="5315040"/>
            <a:chExt cx="2475000" cy="896760"/>
          </a:xfrm>
        </p:grpSpPr>
        <p:pic>
          <p:nvPicPr>
            <p:cNvPr id="576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5315040"/>
              <a:ext cx="24750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4572000" y="5334120"/>
              <a:ext cx="2319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completes implementation of EA and country submits Reports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" name="Rounded Rectangle 4"/>
          <p:cNvGrpSpPr/>
          <p:nvPr/>
        </p:nvGrpSpPr>
        <p:grpSpPr>
          <a:xfrm>
            <a:off x="4505400" y="4095720"/>
            <a:ext cx="2449440" cy="854280"/>
            <a:chOff x="4505400" y="4095720"/>
            <a:chExt cx="2449440" cy="854280"/>
          </a:xfrm>
        </p:grpSpPr>
        <p:pic>
          <p:nvPicPr>
            <p:cNvPr id="579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4095720"/>
              <a:ext cx="244944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4572000" y="411480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approves EA following CEO approval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1" name="Rounded Rectangle 4"/>
          <p:cNvGrpSpPr/>
          <p:nvPr/>
        </p:nvGrpSpPr>
        <p:grpSpPr>
          <a:xfrm>
            <a:off x="4505400" y="3181320"/>
            <a:ext cx="2455920" cy="622440"/>
            <a:chOff x="4505400" y="3181320"/>
            <a:chExt cx="2455920" cy="622440"/>
          </a:xfrm>
        </p:grpSpPr>
        <p:pic>
          <p:nvPicPr>
            <p:cNvPr id="582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505400" y="3181320"/>
              <a:ext cx="24559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4572000" y="320040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submits proposal for CEO approva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Rounded Rectangle 4"/>
          <p:cNvGrpSpPr/>
          <p:nvPr/>
        </p:nvGrpSpPr>
        <p:grpSpPr>
          <a:xfrm>
            <a:off x="4505400" y="2193840"/>
            <a:ext cx="2449440" cy="622440"/>
            <a:chOff x="4505400" y="2193840"/>
            <a:chExt cx="2449440" cy="622440"/>
          </a:xfrm>
        </p:grpSpPr>
        <p:pic>
          <p:nvPicPr>
            <p:cNvPr id="585" name="Rounded Rectangle 4" descr=""/>
            <p:cNvPicPr/>
            <p:nvPr/>
          </p:nvPicPr>
          <p:blipFill>
            <a:blip r:embed="rId8"/>
            <a:stretch/>
          </p:blipFill>
          <p:spPr>
            <a:xfrm>
              <a:off x="4505400" y="2193840"/>
              <a:ext cx="2449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4572000" y="220968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to GEF Agenc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87" name="Group 28" descr=""/>
          <p:cNvPicPr/>
          <p:nvPr/>
        </p:nvPicPr>
        <p:blipFill>
          <a:blip r:embed="rId9"/>
          <a:stretch/>
        </p:blipFill>
        <p:spPr>
          <a:xfrm>
            <a:off x="4511520" y="1407960"/>
            <a:ext cx="2401920" cy="798840"/>
          </a:xfrm>
          <a:prstGeom prst="rect">
            <a:avLst/>
          </a:prstGeom>
          <a:ln w="0">
            <a:noFill/>
          </a:ln>
        </p:spPr>
      </p:pic>
      <p:pic>
        <p:nvPicPr>
          <p:cNvPr id="588" name="Group 48" descr=""/>
          <p:cNvPicPr/>
          <p:nvPr/>
        </p:nvPicPr>
        <p:blipFill>
          <a:blip r:embed="rId10"/>
          <a:stretch/>
        </p:blipFill>
        <p:spPr>
          <a:xfrm>
            <a:off x="2682720" y="4925880"/>
            <a:ext cx="425520" cy="444600"/>
          </a:xfrm>
          <a:prstGeom prst="rect">
            <a:avLst/>
          </a:prstGeom>
          <a:ln w="0">
            <a:noFill/>
          </a:ln>
        </p:spPr>
      </p:pic>
      <p:pic>
        <p:nvPicPr>
          <p:cNvPr id="589" name="Group 51" descr=""/>
          <p:cNvPicPr/>
          <p:nvPr/>
        </p:nvPicPr>
        <p:blipFill>
          <a:blip r:embed="rId11"/>
          <a:stretch/>
        </p:blipFill>
        <p:spPr>
          <a:xfrm>
            <a:off x="2682720" y="3322800"/>
            <a:ext cx="505080" cy="596880"/>
          </a:xfrm>
          <a:prstGeom prst="rect">
            <a:avLst/>
          </a:prstGeom>
          <a:ln w="0">
            <a:noFill/>
          </a:ln>
        </p:spPr>
      </p:pic>
      <p:sp>
        <p:nvSpPr>
          <p:cNvPr id="590" name="TextBox 54"/>
          <p:cNvSpPr/>
          <p:nvPr/>
        </p:nvSpPr>
        <p:spPr>
          <a:xfrm>
            <a:off x="1219320" y="6172200"/>
            <a:ext cx="620064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F Secretariat will follow the World Bank procedures in approving the  proposal with final target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ending a Grant Agreement to the recipient country and to be signed between CEO and the country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1" name="Group 58" descr=""/>
          <p:cNvPicPr/>
          <p:nvPr/>
        </p:nvPicPr>
        <p:blipFill>
          <a:blip r:embed="rId12"/>
          <a:stretch/>
        </p:blipFill>
        <p:spPr>
          <a:xfrm>
            <a:off x="5505480" y="49258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592" name="Group 61" descr=""/>
          <p:cNvPicPr/>
          <p:nvPr/>
        </p:nvPicPr>
        <p:blipFill>
          <a:blip r:embed="rId13"/>
          <a:stretch/>
        </p:blipFill>
        <p:spPr>
          <a:xfrm>
            <a:off x="5425920" y="3706920"/>
            <a:ext cx="505080" cy="444240"/>
          </a:xfrm>
          <a:prstGeom prst="rect">
            <a:avLst/>
          </a:prstGeom>
          <a:ln w="0">
            <a:noFill/>
          </a:ln>
        </p:spPr>
      </p:pic>
      <p:pic>
        <p:nvPicPr>
          <p:cNvPr id="593" name="Group 64" descr=""/>
          <p:cNvPicPr/>
          <p:nvPr/>
        </p:nvPicPr>
        <p:blipFill>
          <a:blip r:embed="rId14"/>
          <a:stretch/>
        </p:blipFill>
        <p:spPr>
          <a:xfrm>
            <a:off x="5425920" y="2712960"/>
            <a:ext cx="505080" cy="523800"/>
          </a:xfrm>
          <a:prstGeom prst="rect">
            <a:avLst/>
          </a:prstGeom>
          <a:ln w="0">
            <a:noFill/>
          </a:ln>
        </p:spPr>
      </p:pic>
      <p:grpSp>
        <p:nvGrpSpPr>
          <p:cNvPr id="594" name="Rounded Rectangle 4"/>
          <p:cNvGrpSpPr/>
          <p:nvPr/>
        </p:nvGrpSpPr>
        <p:grpSpPr>
          <a:xfrm>
            <a:off x="1689120" y="2346480"/>
            <a:ext cx="2444760" cy="817560"/>
            <a:chOff x="1689120" y="2346480"/>
            <a:chExt cx="2444760" cy="817560"/>
          </a:xfrm>
        </p:grpSpPr>
        <p:pic>
          <p:nvPicPr>
            <p:cNvPr id="595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1689120" y="2346480"/>
              <a:ext cx="24447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1752480" y="236232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for CEO approval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wb350798</cp:lastModifiedBy>
  <cp:lastPrinted>2011-02-14T18:22:27Z</cp:lastPrinted>
  <dcterms:modified xsi:type="dcterms:W3CDTF">2011-11-17T16:24:42Z</dcterms:modified>
  <cp:revision>245</cp:revision>
  <dc:subject/>
  <dc:title>Slide 1</dc:title>
</cp:coreProperties>
</file>