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8FA-EEA0-4225-8FDA-2D1765921038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B19-AE7C-47BC-AE4B-F23E24EF98C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6E6-4BE5-478F-853E-09354FB0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C74-CBE0-40CD-9476-CC4EAEFC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562-7015-41CD-B00C-ED9C0679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EC7-B5E6-43D8-A900-F08DBB7C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BBE-7723-4E17-A201-48EABBB0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AE4-C9C3-458B-8AED-BCEEB1BE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67E4-4A24-4299-AD91-5CC1AC5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04E-D7DB-496F-91AC-2750AC3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E4E-A343-47C5-9BB7-B345133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794-CE70-421A-B36F-9BF3A254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6C2-5825-4862-AC29-3805762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1AE-8C3C-4538-A4A5-EFEBCA1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A22-D851-4CAF-8EEA-4D9AF636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8FDE-C87A-4EF3-8842-3AD90A8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CA4E-5B90-4A46-B741-0C4803B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F24D-4D22-4613-BA38-CFDBE1DF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E6D-F23F-4BF7-8684-BF7B4D12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8BD9-DAB0-45E8-8935-E9557A70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C04B-6AA8-458B-BAA7-BBC32AF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9E67-C2B9-4B95-B5A9-1D14DC7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AD67-EFFA-4107-8B7F-99F6F2C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FCD9-F658-4D86-93AC-671E294F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51B-A927-4A21-9717-C109387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030D-6F3C-4150-BCDD-027C611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99A6-A88E-469E-BCA7-A467503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37B5-32B5-4E38-AA1A-D8A5452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BE5C-0B37-4FEB-8238-041DA78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15BA-B822-4AC4-91D6-70916646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BFF8-B601-40EA-8F0B-0926E60A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B099-7AEB-4ADB-95FE-053FD6D4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4361-C20B-4220-8DD4-C53D403B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FA7E-311D-47F1-BD5F-852244AB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765A-EAA2-4E10-AA78-4A9677A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3DD-5F86-4ECB-95E9-AFC33C6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07A7-C6B5-4078-A15D-312E0A87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A52D-9B6A-4BBB-8C82-B5902FA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8327-3E56-4F3A-8929-AC6A2A8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D08B-24CD-487D-A232-0C945C3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A4C8-9812-41E0-BB3C-E974CE4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DA1C-780F-4254-B0D2-5C99663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B130-10AE-4B5C-AC12-C524F553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AE85-8873-4AD4-B011-0BA224C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19BC-6CF5-45EA-8797-76DE2206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595-CDFC-4B29-A57E-BC900230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5BC-3B56-4919-B507-3153D4FC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3FA-A5DB-401A-823F-5EE818E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A39-2BA3-40F5-9740-F64231F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F22-D80D-4C7E-BC24-CB3C5B6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E4D-CB48-4A2E-9618-3103B98A05E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92E-4BC0-4BC2-AB8E-366FFE0B27E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2F6-1ED5-4385-8F13-08FD499FCB6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98FB-23F6-48BF-B676-27DE8C4A5DE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تعبئة الموارد من خلال نُهج برامج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6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عايير النهج البرامجي ل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العمل بالنهج البرامجي للصندوق في حالة وجود مبررات ومسوغات قوية لذل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2400" spc="-1" strike="noStrike">
                <a:solidFill>
                  <a:srgbClr val="000000"/>
                </a:solidFill>
                <a:latin typeface="Calibri"/>
                <a:cs typeface="Arial"/>
              </a:rPr>
              <a:t>ــ </a:t>
            </a:r>
            <a:r>
              <a:rPr b="0" i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سبيل المثال،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غابات حوض الكونغو ــ جزر المحيط الهادئ ــ الطاقة في أفريق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ستند البرنامج إلى أولويات قط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سياسي واقتصادي رفيع المستو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زام بإبرام شراكات على المستوى الوطني عبر الوزارات التنفيذية والهيئ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شفافة وواضحة تعمل على تشجيع انخراط مختلف أصحاب المصال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ما طبيعة أي برنامج يتم في إطار صندوق البيئة العالمية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صندوق البيئة العالمية = هو إطار عمل لتسهيل تحقيق نتائج وفق أهداف وقواعد 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فرص لتحقيق تضافر الجهود عبر مجالات التركيز المختلفة للصندوق مع الشر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توافق أي نهج برامجي مع إستراتيجيات مجالات التركيز للصندوق لتعظيم المنافع البيئية العالمية وزيادة نطا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ناك برامج لدى الصندوق على مختلف المستويات ــ عالمية، وإقليمية، ووطنية، ونوعية، ومتعددة مجالات التركيز، وأحادية مجال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 algn="r" rtl="1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يز عن المشروع متعدد البلدان أو المشروع الإقلي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جميع مجالات تركيز الصندوق لها </a:t>
            </a:r>
            <a:r>
              <a:rPr b="1" lang="ar-EG" sz="2800" spc="-1" strike="noStrike">
                <a:solidFill>
                  <a:srgbClr val="558ed5"/>
                </a:solidFill>
                <a:latin typeface="Calibri"/>
                <a:cs typeface="Arial"/>
              </a:rPr>
              <a:t>تجارب</a:t>
            </a:r>
            <a:r>
              <a:rPr b="1" lang="ar-SA" sz="2800" spc="-1" strike="noStrike">
                <a:solidFill>
                  <a:srgbClr val="558ed5"/>
                </a:solidFill>
                <a:latin typeface="Calibri"/>
                <a:ea typeface="Arial"/>
              </a:rPr>
              <a:t> مع البرامج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ياه الدولية: شراكات إستراتيجية بشأن مصائد الأسماك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دهور الأراضي:  برنامج الشراكة القطري ،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غير المناخ: برنامج إستراتيجي بشأن الطاقة في غرب أفريق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 متعددة: مبادرة المثلث المرجاني (التنوع البيولوجي، والمياه الدولية، وتغير المناخ، والتكي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المستدامة للغابات: البرنامج الاستراتيجي لحوض الكونغ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م إطلاق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ن بي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3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في إطار العملية الرابعة لتجديد موارد الصندوق (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1.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؛ وتعبئ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7.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الشراكة الإستراتيجية للاستثم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P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 برنامج الشراكة القط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1120" indent="-359640" algn="r" rtl="1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 برنامج المنح الصغير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قيمة المضافة للنهج البرامج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18960" y="10663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ظيم المنافع البيئية العالمة من خلال زيادة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تضافر الجهود: عملية تتسم بكفاءة التكلف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عزيز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دور التحفيزي للصندوق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لتعبئة تمويل إضا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سهولة في الرصد والتقي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بلدا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صندوق؛ نحو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عملية مدفوعة باعتبارات البلد المع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جميع الموارد من مجالات تركيز متنوعة للصندوق البيئة العالم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فرص لتأمين تمويل وتعبئة جهود</a:t>
            </a:r>
            <a:r>
              <a:rPr b="0" lang="ar-E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ا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هيئ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تحسين إمكانات التنبؤ ــ خفض تكاليف المعاملات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زيد من التفاعلات الإستراتيجية</a:t>
            </a:r>
            <a:r>
              <a:rPr b="0" lang="ar-SA" sz="1700" spc="-1" strike="noStrike">
                <a:solidFill>
                  <a:srgbClr val="000000"/>
                </a:solidFill>
                <a:latin typeface="Calibri"/>
                <a:ea typeface="Arial"/>
              </a:rPr>
              <a:t> مع البلدان بناءً على الميزة النسبية للهيئة المعني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بالنسبة للشركاء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شراكات ــ تمويل إضافي ــ تضافر الجهو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تعريف المؤس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يسير دورة المشروع وتعديل النهج البرامجي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 المشروعات إلى البرامج: توضيح النهج البرامجي في حافظة الصندوق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EF/C.33/6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ــ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1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ارس/آذار </a:t>
            </a:r>
            <a:r>
              <a:rPr b="0" i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هدف العام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آثر مستدام وأوسع نطاقاً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على البيئة العالمية من خلال دمج الأهداف البيئية العالمية ض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إستراتيجي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الخطط الوطنية أو الإقليمية باستخدا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شراكا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صرف مبالغ من موارد صندوق البيئة العالمية على نطاق واسع على نحو يتسم بالفعالية والكفاءة للبلدان والمناطق التي تتمتع بمستوى معزز من المساءلة والرقا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58ed5"/>
                </a:solidFill>
                <a:latin typeface="Calibri"/>
                <a:cs typeface="Arial"/>
              </a:rPr>
              <a:t>تعديل النهج البرامج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ــ النهج البرامجي الحالي مع التعديل:  برنامج متعدد الهيئات مع هيئة تنسيق ل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المجلس على وثيقة إطار البرنامج (بالإضافة إلى نماذج تحديد المشروعات إن كانت جاهزة):  تجنيب الموا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م الموافقة على جميع نماذج تحديد المشروعات في موعد غايته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ور بعد الموافقة على وثيقة إطار البرنام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ورة المشروع المعتادة (نموذج تحديد المشروع ــ منحة إعداد المشروع ــ تصديق رئيس الصندو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نموذج تحديد المشروع وتصديق رئيس الصندوق:  لا تتجاوز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تعاب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% لكل هيئة 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تنسيق: تُحدد حسب كل حالة على حدة (مبلغ استرشادي: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ألف دولا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70c0"/>
                </a:solidFill>
                <a:latin typeface="Calibri"/>
                <a:cs typeface="Arial"/>
              </a:rPr>
              <a:t>الخيار 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r>
              <a:rPr b="1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ــ نهج جديد: برنامج لهيئة واحدة مع تأهيل الهيئ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موافقة رئيس الصندوق على وثيقة إطار البرنامج (تجنيب الموارد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تضمن وثيقة إطار البرنامج أفكار المشروع (صفحة واحدة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يتم إلغاء الخطوة الخاصة بنموذج تحديد البرنامج ــ تقوم كل هيئة مؤهلة بإتباع خطوات إعداد المشروع الخاصة ب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تُعرض وثائق المشروع على سكرتارية الصندوق للتصديق/الموافق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المدة الزمنية بين الموافقة على وثيقة إطار البرنامج وتصديق رئيس الصندوق:  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 شهر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أتعاب الهيئة: 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21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alibri"/>
                <a:cs typeface="Arial"/>
              </a:rPr>
              <a:t>من الممكن أن يوافق رئيس الصندوق على منحة إعداد بعد الموافقة على وثيقة إطار البرنامج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الوثائق الرئي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وثيقة إطار البرنام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تتضمن إطار النتائج، وخط الأساس، وقائمة بالمشروعات التي تساهم في تحقيق أهداف ومقاصد البرنامج، وأعمال الرصد، والمؤشرات ذات الصلة (بالإضافة إلى موازنة مالية لأعمال الرص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 algn="r" rtl="1">
              <a:spcBef>
                <a:spcPts val="601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قرير التنفيذ السنو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برنام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Lisa</cp:lastModifiedBy>
  <dcterms:modified xsi:type="dcterms:W3CDTF">2012-04-22T23:58:10Z</dcterms:modified>
  <cp:revision>131</cp:revision>
  <dc:subject/>
  <dc:title>Slide Title Here</dc:title>
</cp:coreProperties>
</file>