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DEC-7BA6-43B8-9D0C-67510A7DF409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C88-61E6-4E9B-A58E-FCE53374A19D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C56-6996-46E2-9246-2E9770AA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570-E3C5-4F87-82E9-82E4EE4F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3A7-BB5D-4196-A28F-EAAE027E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5A9-D344-474F-B1FD-A9BF96C8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6B6-77AD-4E02-B712-481C0F15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E06-49A2-4E77-B356-973AEB3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4D7-1941-4D64-827C-57F708ED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25E2-5FEE-44F0-9CC4-A628B76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2FE-4E06-4275-BFDA-83D7CD4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196C-160F-4022-A74B-366EA14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3F13-AA8C-4563-A92F-E2AE49E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EA1-D975-47CE-BB7D-7A87F61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5529-495F-498F-B40B-6D7D015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B02F-B1AC-4374-92A9-BDD1AFC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40D-854C-4A6F-8EE1-15252B0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427-20C3-438D-9218-B690FF35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511-518E-4E5C-8DBA-2E0B503C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45E6-B936-443B-B40D-526212D9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37A9-7970-4F22-A609-80EA7A1F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9A36-F0F3-4C20-AF75-56C9DC3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301F-9209-4C89-8B6B-3F57A917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4C45-B365-45D4-ACE5-52BD224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CEB-623A-428D-98E4-496CBC7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6EB7-A71C-4729-9FB5-4E49B6E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9C88-889A-4FF4-84C2-336AFE4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CC7C-D8AE-4895-A463-6FCFF57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1569-86F7-4477-8EAD-B1087E2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75E4-7AC6-445A-B5E5-55FE24A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1328-87D8-48D3-9F0F-53D63CA8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4D60-C28D-4F27-8E1C-5C5FB918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32BE-D6D7-44AA-8805-6D77FB31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A510-5F00-4642-8EC7-916C500B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9CB3-33F2-442D-8921-80404CD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535-37C3-4D4B-A034-225691F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CBFD-8F1B-4DB9-9457-EE2E4FF9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281C-8174-4205-B038-7005933A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267A-BCF4-4A76-A253-04E6DC19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C646-B0D2-405C-856C-193D01D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C952-B850-4315-A222-A3BCBBB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037E-5710-45B8-8EA4-0C257DC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BEB4-D7CB-41BB-8E60-2FBDF2D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6DB6A-801E-4D1A-88D2-CC229FB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9D86-5ABF-4ED4-ACC6-406699B0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2D4-6139-41C5-A87D-C5D214A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C77-4737-4E94-BFE9-5EE1389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017-122C-4FDB-B7DC-58180F4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300-A70E-457C-8406-2CF88D5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5AE-A5DF-421A-AF76-CCAA517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611-1F0D-4138-8D45-35C351E8307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EDF-F3B8-4A65-B86D-784517D0C10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B52-55E3-4A8E-95DC-EAFA744154C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B70-405D-4EE5-95A3-972C7CB4821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تعبئة الموارد من خلال نُهج برامج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عايير النهج البرامج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العمل بالنهج البرامجي للصندوق في حالة وجود مبررات ومسوغات قوية لذل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ــ 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سبيل المثال،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غابات حوض الكونغو ــ جزر المحيط الهادئ ــ الطاقة في أفريق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ستند البرنامج إلى أولويات قط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سياسي واقتصادي رفيع المستو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بإبرام شراكات على المستوى الوطني عبر الوزارات التنفيذية والهيئ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شفافة وواضحة تعمل على تشجيع انخراط مختلف أصحاب المصال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ا طبيعة أي برنامج يتم في إطار صندوق البيئة العالمية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صندوق البيئة العالمية = هو إطار عمل لتسهيل تحقيق نتائج وفق أهداف وقواعد 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فرص لتحقيق تضافر الجهود عبر مجالات التركيز المختلفة للصندوق مع الشر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توافق أي نهج برامجي مع إستراتيجيات مجالات التركيز للصندوق لتعظيم المنافع البيئية العالمية وزيادة نطا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ناك برامج لدى الصندوق على مختلف المستويات ــ عالمية، وإقليمية، ووطنية، ونوعية، ومتعددة مجالات التركيز، وأحادية مجال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يز عن المشروع متعدد البلدان أو المشروع الإقلي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جميع مجالات تركيز الصندوق لها </a:t>
            </a:r>
            <a:r>
              <a:rPr b="1" lang="ar-EG" sz="2800" spc="-1" strike="noStrike">
                <a:solidFill>
                  <a:srgbClr val="558ed5"/>
                </a:solidFill>
                <a:latin typeface="Calibri"/>
                <a:cs typeface="Arial"/>
              </a:rPr>
              <a:t>تجارب</a:t>
            </a:r>
            <a:r>
              <a:rPr b="1" lang="ar-SA" sz="2800" spc="-1" strike="noStrike">
                <a:solidFill>
                  <a:srgbClr val="558ed5"/>
                </a:solidFill>
                <a:latin typeface="Calibri"/>
                <a:ea typeface="Arial"/>
              </a:rPr>
              <a:t> مع البرامج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: شراكات إستراتيجية بشأن مصائد الأسماك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:  برنامج الشراكة القطري ،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: برنامج إستراتيجي بشأن الطاقة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متعددة: مبادرة المثلث المرجاني (التنوع البيولوجي، والمياه الدولية، وتغير المناخ، والتكي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: البرنامج الاستراتيجي لحوض الكونغ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م إطلاق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ن بي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3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في إطار العملية الرابعة لتجديد موارد الصندوق (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1.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؛ وتعبئ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7.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P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 برنامج الشراكة القط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برنامج المنح الصغير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قيمة المضافة للنهج البرامج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0663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ظيم المنافع البيئية العالمة من خلال زيادة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تضافر الجهود: عملية تتسم بكفاءة التكلف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زيز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دور التحفيزي للصندوق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لتعبئة تمويل إضا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سهولة في الرصد والتقي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بلدا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صندوق؛ نحو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عملية مدفوعة باعتبارات البلد المع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جميع الموارد من مجالات تركيز متنوعة ل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أمين تمويل وتعبئة جهود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هيئ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حسين إمكانات التنبؤ ــ خفض تكاليف المعامل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ات الإستراتيجية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بلدان بناءً على الميزة النسبية للهيئة المعن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شراكات ــ تمويل إضافي ــ تضافر الجهو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تعريف المؤس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يسير دورة المشروع وتعديل النهج البرامجي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المشروعات إلى البرامج: توضيح النهج البرامجي في حافظة الصندوق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3/6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1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ارس/آذار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هدف العا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آثر مستدام وأوسع نطاقاً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على البيئة العالمية من خلال دمج الأهداف البيئية العالمية ض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الخطط الوطنية أو الإقليمية باستخدا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صرف مبالغ من موارد صندوق البيئة العالمية على نطاق واسع على نحو يتسم بالفعالية والكفاءة للبلدان والمناطق التي تتمتع بمستوى معزز من المساءلة والرقا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58ed5"/>
                </a:solidFill>
                <a:latin typeface="Calibri"/>
                <a:cs typeface="Arial"/>
              </a:rPr>
              <a:t>تعديل النهج البرامج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ــ النهج البرامجي الحالي مع التعديل:  برنامج متعدد الهيئات مع هيئة تنسيق ل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المجلس على وثيقة إطار البرنامج (بالإضافة إلى نماذج تحديد المشروعات إن كانت جاهزة):  تجنيب المو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الموافقة على جميع نماذج تحديد المشروعات في موعد غايته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ور بعد الموافقة على وثيقة إطار ا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ورة المشروع المعتادة (نموذج تحديد المشروع ــ منحة إعداد المشروع ــ تصديق رئيس الصند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نموذج تحديد المشروع وتصديق رئيس الصندوق:  لا تتجاوز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تعاب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لكل هيئة 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تنسيق: تُحدد حسب كل حالة على حدة (مبلغ استرشادي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ألف دولا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ــ نهج جديد: برنامج لهيئة واحدة مع تأهيل الهيئ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موافقة رئيس الصندوق على وثيقة إطار البرنامج (تجنيب الموارد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تضمن وثيقة إطار البرنامج أفكار المشروع (صفحة واحدة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يتم إلغاء الخطوة الخاصة بنموذج تحديد البرنامج ــ تقوم كل هيئة مؤهلة بإتباع خطوات إعداد المشروع الخاصة ب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ُعرض وثائق المشروع على سكرتارية الصندوق للتصديق/الموافق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وثيقة إطار البرنامج وتصديق رئيس الصندوق:  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هيئة: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من الممكن أن يوافق رئيس الصندوق على منحة إعداد بعد الموافقة على وثيقة إطار البرنامج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وثائق الرئي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وثيقة إطار البرنام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تتضمن إطار النتائج، وخط الأساس، وقائمة بالمشروعات التي تساهم في تحقيق أهداف ومقاصد البرنامج، وأعمال الرصد، والمؤشرات ذات الصلة (بالإضافة إلى موازنة مالية لأعمال الرص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قرير التنفيذ السنو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برنام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Lisa</cp:lastModifiedBy>
  <dcterms:modified xsi:type="dcterms:W3CDTF">2012-04-22T23:58:10Z</dcterms:modified>
  <cp:revision>131</cp:revision>
  <dc:subject/>
  <dc:title>Slide Title Here</dc:title>
</cp:coreProperties>
</file>