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2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 type="sldNum" idx="2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E968-767D-4E80-A64A-B642C890B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62D4-949C-429F-B93D-7ECA8267637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922C-C77A-42E9-9F99-CD07754A015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70AD52B8-8583-4DF9-BF52-EB2B68FD276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Header Placeholder 7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AEC-89B1-4128-9DB2-380651B1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93E-3AA9-48CA-A7FA-A54CB9F0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375-A3E2-4C85-91C6-9D62DD8A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5F5-51AC-4A42-A571-6FA5053D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4F31-C301-4EC1-A984-06363323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136D-4C8D-4050-985E-1DAF1C77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07D6-83BA-4C4D-9B4A-CC253F9E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0083-8F5E-42CD-BD71-015F7CC6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F5B1-6877-40D8-8AE3-CB8B1965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7AC9-684B-4E8D-B254-C3E677D0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97B6-524C-4B32-8193-BD32904C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19F-F865-4EE7-98DD-1E81E3D9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D31B-6A87-40C6-84E8-9315D55A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947A-02E4-4AC8-A1C7-F615EE6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7707-C28A-4E54-82BA-6B1E51B1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E37D-039F-480D-8D19-B3E16E5C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44BE-0AC8-467B-8F2C-658DBD43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9135-56C0-48DD-A281-8D3CDD0B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61B7B-4455-434F-ACA4-8C02EAC5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AD86-5789-42DA-B6F6-D5767848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C5E8-EF37-49A1-BFFA-9C85788F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E47C-E6C2-494B-99A7-EB3ABB93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77E-2DFF-436F-B724-9857586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BA78-1C7E-4D7A-9596-1F0B7003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00DB-410E-4E13-B4F3-5D76C970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78D7-B700-4B36-BD92-88EECAEB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F0E2-BA89-413C-8133-9FA8F7BB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A33C-373D-45DA-B9F8-B41D82E7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17D6-3B8D-4D9E-87FD-E7BADA95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A0A9-946C-4783-9E49-59662F8C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B579-11AA-496A-B113-A7422021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FC22-15A7-4333-9542-7FDD3C85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973F9-74F0-407C-9CE2-56D7A456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7D3-A406-4E19-9E26-2C6E7AB7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EACD-7A1D-432C-859D-F7CBDB81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F7877-43CE-4B37-A72C-E719A7B1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1AA73-588B-42D0-9DB8-03A2941C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A3971-C834-42EC-A399-A00FDB2A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3E22-A510-44D3-A5DF-40B27FA8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1DB4-7526-48A6-A11D-B6927E54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4620-5646-4215-911C-0BD7F67E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CBF4-D829-48CD-B554-6DCAE727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2802-8E1D-4DF7-AF58-CC0A7F79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D28A-CF1C-40D8-BA59-BC6274DE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470-1A83-471A-AAF5-5EB5E2A0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7B348-0176-463B-8E65-AC010B48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AC431-5A2E-481F-99FE-35E04905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B3EB-E4CB-41BD-9F79-FC07EB54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E09C-EA62-4318-A25C-37C930D3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66474-BE4D-4EAF-862D-623EE915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0A4B2-5787-4235-8234-DF32F7BE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54EF0-8A46-4B09-B218-5BEE699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948AB-B875-4E8A-80E9-B731CF7A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394E4-4C06-46D0-95D8-FE5A9C27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D751-D6BF-4E20-AC07-6DD7030C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C80-B02C-49ED-AE9B-04157EFE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0FA17-76F1-4879-BAEB-460EC079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5F67A-A914-444E-8181-F130EBC2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8F9E0-D896-4CD1-9348-851135BA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7CE59-215D-4327-97AD-2239E4BD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5C900-1F89-4BFD-8C08-B41BFC41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A7A24-7A21-4AA3-A111-00F91006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90AF8-FE3C-4E20-AE4D-C8D4457F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849D9-9DE0-477B-ABB5-1A4D21C2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30821-E3DF-4216-A875-11056996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38543-2867-4B49-8F3A-03C936CC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226-8F0F-4B4D-A189-EC7BEA3B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BC91E-5476-41AF-A19E-0D39FA94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EF016-0854-48C7-B52E-DF55FFDB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5C5B4-FF18-4A98-A4AB-FC586B31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3FA08-7B5E-41DC-A423-D55D8BF8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E3506-6C62-4B49-850B-91FA3FB3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70B2E-549E-4961-8C88-14F6C6DF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D80A5-7B28-4634-B44A-554CFEC7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EA241-88D5-4134-AEC6-983E37F8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214BA-ECAE-4E1A-AE25-8B72E6B4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6684C-2E0C-47AC-ACD1-D096E58A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4A8-4477-4477-B341-003673DE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E04F6-F0AF-4B32-9A90-6DF7AD8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74ED-9F6F-4FEC-BDE9-E6F64F9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72B99-BF61-4F96-B579-9CECCD9C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B70A1-422C-4B09-B1E9-E897C6BE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8EA04-C993-4B9A-8954-9969AB07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AC466-FD3F-42A6-A8D8-CEF8C588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846B-E369-415E-BC37-B567D71A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AB36F-918B-4624-ACD3-B9DED9E7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ABB35-9B5A-4DED-8FFD-F03F3971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7FBFD-3870-43FF-AB26-A6C84FBF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AFE-C21E-42D8-BA88-B4362DF9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CDE37-7B80-4866-895B-66EDCD82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B5201-FAA3-40AB-BBDD-B4DC002D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6ED4D-8E41-4657-AF52-33A97002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1258C-33B7-4718-A931-4EEFB24E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8DE67-59EC-444F-B275-60CC18F7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6A4F7-DB5F-4A5C-BAD0-5684590B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9122D-1574-4F5E-BD8C-BE19090A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3E62-A235-4E00-B491-E15E736E45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3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A1FC-3C9A-478F-93A8-0E034FA62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7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9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52C0-773B-4DBA-8AED-8C3803C6AA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BDA7-625E-450D-AE68-67E6B318D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DDB4-0AD9-4FAD-83E4-48C288A45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13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FC90-1D58-4E87-AF14-76845304B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257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07D9-10D8-4F49-A4DB-A365423A2E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386C-FF94-4562-A671-4ED15BBE9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aoki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isow@thegef.org" TargetMode="External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ubtitle 4"/>
          <p:cNvSpPr/>
          <p:nvPr/>
        </p:nvSpPr>
        <p:spPr>
          <a:xfrm>
            <a:off x="1295280" y="441972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2" name="Picture 3" descr="C:\Users\wb368377\AppData\Local\Microsoft\Windows\Temporary Internet Files\Content.IE5\3I5325V1\MC910216337[1].png"/>
            <p:cNvPicPr/>
            <p:nvPr/>
          </p:nvPicPr>
          <p:blipFill>
            <a:blip r:embed="rId1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/>
              <a:ahLst/>
              <a:rect l="l" t="t" r="r" b="b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lnTo>
                    <a:pt x="0" y="29106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/>
            <a:ahLst/>
            <a:rect l="l" t="t" r="r" b="b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lnTo>
                  <a:pt x="0" y="29106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0666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040" y="12189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560" y="914400"/>
            <a:ext cx="5562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rcRect l="5789" t="9088" r="7412" b="0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3"/>
          <a:srcRect l="8828" t="0" r="0" b="0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838080"/>
            <a:ext cx="826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ounded Rectangle 6"/>
          <p:cNvSpPr/>
          <p:nvPr/>
        </p:nvSpPr>
        <p:spPr>
          <a:xfrm>
            <a:off x="457200" y="1676520"/>
            <a:ext cx="81532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ounded Rectangle 7"/>
          <p:cNvSpPr/>
          <p:nvPr/>
        </p:nvSpPr>
        <p:spPr>
          <a:xfrm>
            <a:off x="471600" y="480060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ounded Rectangle 8"/>
          <p:cNvSpPr/>
          <p:nvPr/>
        </p:nvSpPr>
        <p:spPr>
          <a:xfrm>
            <a:off x="471600" y="374184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ounded Rectangle 9"/>
          <p:cNvSpPr/>
          <p:nvPr/>
        </p:nvSpPr>
        <p:spPr>
          <a:xfrm>
            <a:off x="457200" y="2666880"/>
            <a:ext cx="815328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24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8400" indent="-258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240" y="114300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2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6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Lisa</cp:lastModifiedBy>
  <dcterms:modified xsi:type="dcterms:W3CDTF">2012-04-22T23:36:47Z</dcterms:modified>
  <cp:revision>798</cp:revision>
  <dc:subject/>
  <dc:title>Slide 1</dc:title>
</cp:coreProperties>
</file>