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2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 type="sldNum" idx="2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E639-B105-4668-95A3-BA08EFCAA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6BDA-66F6-4AD2-A112-6D8B094E847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0EAA-CE7C-4950-902C-FC99A74E8B7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028638D-84E9-42DB-8708-9A69632D842C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Header Placeholder 7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91F-BDF6-4143-8C5E-BDA1CD8D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79D-9F66-4AC7-99A1-BF492288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21D-F2F2-48CF-A523-60E858A5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6F3-FCC2-4ACC-911F-DB4E16BB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8394-DF86-484F-8AA7-9600D847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BB7C-760E-47EC-B263-0F8BBF6E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82B6-26BE-4815-A1CD-8298B5EA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EC8E-E510-400D-8262-519506AE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984C-6EE3-4D3A-B94D-86691725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039B-2BC8-44B9-A43C-213E57FC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1288-FA12-4D61-938F-685E5F53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AD8-E459-49E3-8DAA-5F9A23F0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66BE-CBD4-4322-8D89-AB52020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F6CE-F089-4838-B9FE-626D2CF4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A3E7-2C90-4CEB-9034-85A281C7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DE09-2C5C-40AC-8BC3-DD0DF761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B598-08F2-4B2C-A230-5E2675F6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E7DD-92E8-4500-BF7A-FB916359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0768-04D2-4BFB-B698-A2C3F0A7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51DC9-739E-4781-8CAF-43CFBF07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D66F-1259-40DE-8245-BE808A1D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2623-F5D8-4BA5-92E4-25FB4993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98D-87E4-495E-A98C-50AEDBD1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B275-DE48-4895-AC40-970798CB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2D1A-E529-4645-AB2A-8DAE8792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B324-955E-4359-AA55-3A189DBD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B779-CD48-42BF-B3BC-D64C48DF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8D287-3557-47F7-A575-6B28D6E9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486D-4F91-4BEF-9E3C-07B523CF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DEBD-2217-48AC-827B-6A935095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5E6D-54C2-4EF6-88DE-48F9689B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1780-BBEB-4F79-BF8E-A4E04A18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4DDB2-9A56-44EB-8817-B7498406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1BF-91A2-4116-9F20-A6FA4410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86B5-3872-44B8-8B82-B60FBAA7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1CA9-4406-421B-85FD-4118EB7E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333E9-393B-4DD3-A65F-50FC59EA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72C5-55D9-4F4F-9CEF-D9D1A13B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05F8-623A-4D2E-BA59-6244B8D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E783D-1612-46A7-B2B5-03CF2405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171A-8FD6-4F22-B5E7-CD43EE32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D3B9-0493-4D92-82A2-A5B3146C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69CF4-B476-4E0A-A0D6-BA6F48DA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8180E-D072-4C3C-ACD1-E1E6B936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882-F126-48EE-9B19-09900B6B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3DB82-C36C-4579-8B79-EB9BD9C2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CFBC-9683-41BD-A327-4839FEE5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EE4CB-1EBD-4C63-9D3E-A1FFEC24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A5CF2-3F5C-4B76-AE64-1DF03048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FD6AF-075B-432B-833D-F730D97E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C944A-FA51-403A-8E27-48FE0F67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3769F-1CD8-47CE-BDC4-8A92940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02EE-ED5E-4FD3-82C8-33270678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ABC8B-0555-41E0-825B-739793CC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A9578-56E9-4874-894B-7E55E656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B29-724D-450F-8D40-A95EAB88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B929E-04F5-4605-920A-B6E58B03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06F08-6E6F-4474-8325-BB5578BC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752B4-B120-44AA-944B-A586EFF8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78E62-260F-4EAA-B1B9-D0ED8FD8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8B1C7-8BBA-4153-A722-2BA4A10C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A1FAC-AA63-4859-BFC0-122325E8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1615-C5A4-4FB2-9CA5-BF57472E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F3B4F-D4A4-4A2D-9D41-AFEB7431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48A05-ED2D-4A15-82B1-FF9C6906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DCBC8-1A4C-4B71-9899-95BEA4FB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5DE-4629-434E-BB23-6C16405B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FF110-2E95-45B5-B791-3F6AD1BE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A7A69-F5B9-4CFF-A721-BCBAE92A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8D75A-A531-4D60-AB5F-873E065C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C09FE-E1C9-4514-95B8-D1C263A6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F4C87-5930-4F77-9E9B-5199AC2A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88159-0C96-4859-8EBD-57F8AD8C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B7D0A-688D-4599-BE48-B1D1AC41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EE970-D71F-4CED-923B-21F01E32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D6008-F9EB-4972-9503-A39E19B0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0A12B-9F60-486D-B731-77A029F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CD9-5CC4-4E14-A899-55824C7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B1F0B-9BF8-482D-B2F2-DF0EC297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9E217-24C9-4074-8238-574EAC6B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4F9BD-6208-40CB-BC02-2B0AA457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C24D-FEDB-4BB1-9C80-4F5CF93B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875E4-2A81-4C34-9848-1862332C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2BA13-D86D-4723-B959-1D41A6E3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9CEF8-AAA4-4CE6-8E76-DFD72BE0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C48DF-AEC3-4136-8E95-C4DB8B8A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39170-B060-45A5-83B5-8114B39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145A8-7A7C-4F90-AB44-EDEDEEC2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6D5-F5B4-46C9-8C4C-2D7F1B0B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0A678-F478-4D9B-B986-5E1097F4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92C19-4484-4A94-9191-644F7D6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BE836-80ED-4276-B596-5E68CB28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919BC-F6AD-4C27-A081-D9F07D7E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14455-8C57-41C3-BFD4-B01867E4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73350-D1B1-4C84-AD98-8239DF29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43B8F-26FA-4DA9-9FF1-D287AD3D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6F69-B64C-444C-9D85-4D1D26DCC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3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ACEA-8187-481B-90A4-32AF0C770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7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54F7-AAA5-4E09-8502-DE897DA63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39F6-F968-4987-808E-623842AB8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E106-797F-4E03-8B7B-0C526CB35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13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1FA3-4D45-4887-8500-08A0C6E4A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57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9967-A923-4230-B5DB-CD2CC347D8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31F5-8F74-454E-8436-3E2134A85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aoki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isow@thegef.org" TargetMode="External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ubtitle 4"/>
          <p:cNvSpPr/>
          <p:nvPr/>
        </p:nvSpPr>
        <p:spPr>
          <a:xfrm>
            <a:off x="1295280" y="441972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2" name="Picture 3" descr="C:\Users\wb368377\AppData\Local\Microsoft\Windows\Temporary Internet Files\Content.IE5\3I5325V1\MC910216337[1].png"/>
            <p:cNvPicPr/>
            <p:nvPr/>
          </p:nvPicPr>
          <p:blipFill>
            <a:blip r:embed="rId1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/>
            <a:ahLst/>
            <a:rect l="l" t="t" r="r" b="b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lnTo>
                  <a:pt x="0" y="29106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666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040" y="12189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560" y="914400"/>
            <a:ext cx="5562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rcRect l="5789" t="9088" r="7412" b="0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3"/>
          <a:srcRect l="8828" t="0" r="0" b="0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838080"/>
            <a:ext cx="826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ounded Rectangle 6"/>
          <p:cNvSpPr/>
          <p:nvPr/>
        </p:nvSpPr>
        <p:spPr>
          <a:xfrm>
            <a:off x="457200" y="1676520"/>
            <a:ext cx="81532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ounded Rectangle 7"/>
          <p:cNvSpPr/>
          <p:nvPr/>
        </p:nvSpPr>
        <p:spPr>
          <a:xfrm>
            <a:off x="471600" y="480060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ounded Rectangle 8"/>
          <p:cNvSpPr/>
          <p:nvPr/>
        </p:nvSpPr>
        <p:spPr>
          <a:xfrm>
            <a:off x="471600" y="374184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ounded Rectangle 9"/>
          <p:cNvSpPr/>
          <p:nvPr/>
        </p:nvSpPr>
        <p:spPr>
          <a:xfrm>
            <a:off x="457200" y="2666880"/>
            <a:ext cx="815328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24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240" y="114300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2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6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Lisa</cp:lastModifiedBy>
  <dcterms:modified xsi:type="dcterms:W3CDTF">2012-04-22T23:36:47Z</dcterms:modified>
  <cp:revision>798</cp:revision>
  <dc:subject/>
  <dc:title>Slide 1</dc:title>
</cp:coreProperties>
</file>