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2C5A-6D57-4BBA-8DA6-4F92C61332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7B91-B0A3-40CE-B04A-0772EC93C7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D751-646A-465C-B2D1-0BB9C354F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5730-00D2-4656-A6AB-3E8BBA4DB0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468C-7D92-4D20-8E17-48E6B29D0A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3B75-E8CC-48B0-8872-A9CC59AA0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026E-895B-4E20-8F7A-3259270701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4312-78E3-432E-A6C6-CFCDB442F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65E-A16E-42C9-9919-2351F8BF2B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C760-85DD-421F-9D68-784C4F7BAF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537F-1B6C-492F-AD7B-C315FA239B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E97A-4E49-446B-84B9-777AFCD527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56F6-B602-4522-BAC8-859931CF5C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617F-4D95-40E6-82E9-53D2057D80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D620-783A-4E0C-9F12-9B6AEFECFA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CDE2-B87A-4703-9E84-AB2BAEEDBD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12BB-1CE0-47AE-9D74-161CDE54A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A432-FCF0-4DF7-B360-C4B8832E8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oard is composed of 16 members and their alternate members representing Parties, formally elected at a session of the CMP as follows:</a:t>
            </a:r>
            <a:endParaRPr b="0" lang="en-US" sz="2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representatives from each of the five UN regional group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small island developing stat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e representative of the least developed country Parties;</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Annex I Parties; and</a:t>
            </a:r>
            <a:endParaRPr b="0" lang="en-US" sz="21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wo other representatives from non-Annex I parties.</a:t>
            </a:r>
            <a:endParaRPr b="0" lang="en-US" sz="2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years term, once renewable</a:t>
            </a:r>
            <a:endParaRPr b="0" lang="en-US" sz="26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8743-F442-4112-9D57-EEBA07B165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4F5B-774F-4A0F-9EEB-7EF8C5E60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CFD4-FCE1-44AD-A109-E2D14520E6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6C277-D313-4E4A-ABA7-2C66668A8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8645E-60AF-4960-A8E0-5F6BC83F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96B27-A5F0-40ED-9159-DADD36AAC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3001F-6672-4EBE-BC36-B7B4581DF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1BCD-0CA5-40F7-9DBF-E0CCB839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86631-6890-4631-81E6-5894FDEAA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47314-5495-44EE-8185-9EC6C63C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907E6-DA47-4029-869F-C90A8E72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F4153-23B0-46AA-BAD9-F80B6DB40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5E36-5507-48BF-AFC3-CB366C31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1859-7C7D-4B6A-B7BA-C7DC3000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63F0-A6FA-4BC7-81F6-82A09F4E4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E98B-1370-4A3A-BE9F-65A5AC04FD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ccessing Resources in the Adaptation Fund</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595959"/>
                </a:solidFill>
                <a:latin typeface="Calibri"/>
              </a:rPr>
              <a:t>Update to GEF Expanded Constituency Workshop in Dead Sea, Jordan</a:t>
            </a:r>
            <a:endParaRPr b="0" lang="en-US" sz="33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February 201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rcRect l="3280" t="6149" r="27871" b="37500"/>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rcRect l="2917" t="17778" r="25417" b="1111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37:28Z</dcterms:modified>
  <cp:revision>109</cp:revision>
  <dc:subject/>
  <dc:title>Slide 1</dc:title>
</cp:coreProperties>
</file>