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5.png" ContentType="image/png"/>
  <Override PartName="/ppt/media/image2.png" ContentType="image/png"/>
  <Override PartName="/ppt/media/image32.png" ContentType="image/png"/>
  <Override PartName="/ppt/media/image35.png" ContentType="image/png"/>
  <Override PartName="/ppt/media/image41.png" ContentType="image/png"/>
  <Override PartName="/ppt/media/image30.png" ContentType="image/png"/>
  <Override PartName="/ppt/media/image13.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4.png" ContentType="image/png"/>
  <Override PartName="/ppt/media/image39.png" ContentType="image/png"/>
  <Override PartName="/ppt/media/image9.png" ContentType="image/png"/>
  <Override PartName="/ppt/media/image46.png" ContentType="image/png"/>
  <Override PartName="/ppt/media/image36.png" ContentType="image/png"/>
  <Override PartName="/ppt/media/image48.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37.png" ContentType="image/png"/>
  <Override PartName="/ppt/media/image7.png" ContentType="image/png"/>
  <Override PartName="/ppt/media/image12.wmf" ContentType="image/x-wmf"/>
  <Override PartName="/ppt/media/image27.png" ContentType="image/png"/>
  <Override PartName="/ppt/media/image8.png" ContentType="image/png"/>
  <Override PartName="/ppt/media/image38.png" ContentType="image/png"/>
  <Override PartName="/ppt/media/image4.jpeg" ContentType="image/jpeg"/>
  <Override PartName="/ppt/media/image4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9"/>
          </p:nvPr>
        </p:nvSpPr>
        <p:spPr>
          <a:xfrm>
            <a:off x="3970440" y="0"/>
            <a:ext cx="303840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0"/>
          </p:nvPr>
        </p:nvSpPr>
        <p:spPr>
          <a:xfrm>
            <a:off x="0" y="8829720"/>
            <a:ext cx="303840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1"/>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B816-863B-4876-8BA5-9AF24B8C8C58}"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976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DHWA, Baljit</a:t>
            </a:r>
            <a:br>
              <a:rPr sz="1200"/>
            </a:br>
            <a:r>
              <a:rPr b="1" i="1" lang="fr-FR" sz="1200" spc="-1" strike="noStrike">
                <a:solidFill>
                  <a:srgbClr val="000000"/>
                </a:solidFill>
                <a:latin typeface="Calibri"/>
              </a:rPr>
              <a:t>Spécialiste senior de l’é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000000"/>
                </a:solidFill>
                <a:latin typeface="Calibri"/>
              </a:rPr>
              <a:t>février</a:t>
            </a:r>
            <a:endParaRPr b="0" lang="en-US" sz="96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9466-5AED-426A-9878-BBC6E8130C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976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0953-7758-4547-AB92-B612D8EC8C0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976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DD89-F339-4600-A7F5-8DD3D037FB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4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976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7380-9088-4408-80DC-2CF558A809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976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3BCE-2A94-46FB-8D76-104324FB0D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5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976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A2E2-9CBD-4338-B5AF-95B817DCD5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976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324E-85A8-49DA-A018-090CBE39CA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6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6D88-12CC-4D73-A3DB-291BC6A0D1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976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50A9-40A1-4ADC-A341-72AA6A89B2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9"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628D-C7FB-491F-AF47-EBC759624D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37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976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147E-8D18-4C3D-9A3F-C37E68A315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976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3BE3-1DD1-4C4F-BAB9-CD40F08648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8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976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ctive: projet nat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mpleted : projet nat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active : projet régional en cou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ompleted : projet régional achevé</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6D08-638D-4926-873A-45526B6F39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W = Eaux internation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 = dégradation des s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A = Projets transvers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4957-DBDA-4878-BE87-64AE54BD55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976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 = Activités habilitan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P = Projets de moyenn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P = Projet de grande enver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3534-2B75-4663-A4F2-E93FC32A25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976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B =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DB = BAf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BRD = B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DB = 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P = PN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 P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DO = ONU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B = Banque mondi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 agencies = Plusieurs entités d’exé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Header Placeholder 3"/>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lide Number Placeholder 5"/>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4A7E-1594-4973-AE8D-B46B7A67DD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976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7C3E-B0AE-40CB-8985-F366C5B265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4" name="Date Placeholder 4"/>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79F0-7697-4ABE-946C-EDA1322FDC25}"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25" name="Footer Placeholder 5"/>
          <p:cNvSpPr/>
          <p:nvPr/>
        </p:nvSpPr>
        <p:spPr>
          <a:xfrm>
            <a:off x="0" y="8829720"/>
            <a:ext cx="3038400" cy="465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akar, Senegal</a:t>
            </a:r>
            <a:endParaRPr b="0" lang="en-US" sz="1300" spc="-1" strike="noStrike">
              <a:solidFill>
                <a:srgbClr val="000000"/>
              </a:solidFill>
              <a:latin typeface="Arial"/>
            </a:endParaRPr>
          </a:p>
        </p:txBody>
      </p:sp>
      <p:sp>
        <p:nvSpPr>
          <p:cNvPr id="326"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976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7084-18DB-4A19-9DE2-E71F3DAC1D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0"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976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AC76-475F-4CDB-96D4-AF911E7DA2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5" name="Header Placeholder 6"/>
          <p:cNvSpPr/>
          <p:nvPr/>
        </p:nvSpPr>
        <p:spPr>
          <a:xfrm>
            <a:off x="0" y="0"/>
            <a:ext cx="3038400" cy="4651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Date Placeholder 7"/>
          <p:cNvSpPr/>
          <p:nvPr/>
        </p:nvSpPr>
        <p:spPr>
          <a:xfrm>
            <a:off x="3970440" y="0"/>
            <a:ext cx="3038400" cy="4651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F6097-1221-41B4-9ADE-DF5BF9F46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3A2F-17A8-442D-B829-91539951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47E15-B3B4-492F-B25B-D9141E6D4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25978-DBA1-4E15-8140-1D7EE4827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D9AB7-B8C6-433B-9036-66C5D006A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7CA2-DB8D-4F45-ABD4-53DFC4F89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35E29-BC2B-4388-BD45-82D97BEC3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FCDDF-A748-4331-A46A-D762CE45C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71331-F08D-4B35-8157-37D9551E4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94BCE-0FD8-43ED-90B2-3AA375AA8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7933F-840D-42C8-980A-0F396FE6F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F497F-D7C9-4ADE-A176-FB2449AB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51060-1AB0-4DFD-B26F-127A54E88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63750-9E65-4611-A857-E92F1FE60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030ED-BD7E-46C0-BDC3-D9C0B50DF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697B2-161D-4803-8896-C4C8F3664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5C00C-2EAD-4D8B-8B50-690073760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77F417-AE1C-477E-80EC-36A2133DB2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41DF72-4C63-4A52-8C6B-A9646A1A54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AA5283-65E2-437D-8B5A-9E5F3CBFE3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11FE3B-7F3F-4776-A6BB-1149C1EA1F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0F02C2-2F9B-4842-BAD9-8B8D9768B9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08D67-39FE-434E-8703-1E5A0E701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3D3D3B-284A-4F6F-8FCE-D9A085F8F1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F9E940-FEB3-4671-BE67-03C8DBA179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DA7682-0189-4FD6-87CF-2E53B9F0F8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750FDF-D010-4DD6-93A3-2F42E092F2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CC1EC3-A462-4817-B13D-D36879A799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CDA89A-0F5F-4F9D-95FA-4098CFCEBD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472661-678E-4B62-8C0B-7476C36ABD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378C9-EE43-4E5A-8932-1482BFE4C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2F8D-7F6D-4F90-83B7-54263F92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5F9A5-0A86-41F9-A8D5-AC3B52E53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9CE9-65D5-46C2-AE0E-103C260E6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AED6-F40D-4B2A-B20A-CDD8B5E40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6AB4-EE26-41E4-BCE6-64C1ADD43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CF66-C03B-4A1C-9B4C-EDB8230A937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88C7-44DB-4A7D-9424-09BACA48E0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1FB1-38BF-47BB-B65C-A052B23ABB0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9129-1A1D-4B42-8D23-B9E85F8730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0" y="0"/>
            <a:ext cx="16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2"/>
          <a:stretch/>
        </p:blipFill>
        <p:spPr>
          <a:xfrm>
            <a:off x="-6480" y="-6480"/>
            <a:ext cx="1231920" cy="6870960"/>
          </a:xfrm>
          <a:prstGeom prst="rect">
            <a:avLst/>
          </a:prstGeom>
          <a:ln w="0">
            <a:noFill/>
          </a:ln>
        </p:spPr>
      </p:pic>
      <p:pic>
        <p:nvPicPr>
          <p:cNvPr id="85" name="Picture 2" descr=""/>
          <p:cNvPicPr/>
          <p:nvPr/>
        </p:nvPicPr>
        <p:blipFill>
          <a:blip r:embed="rId3"/>
          <a:stretch/>
        </p:blipFill>
        <p:spPr>
          <a:xfrm>
            <a:off x="0" y="6321600"/>
            <a:ext cx="1219320" cy="536400"/>
          </a:xfrm>
          <a:prstGeom prst="rect">
            <a:avLst/>
          </a:prstGeom>
          <a:ln w="0">
            <a:noFill/>
          </a:ln>
        </p:spPr>
      </p:pic>
      <p:sp>
        <p:nvSpPr>
          <p:cNvPr id="86" name="Rectangle 9"/>
          <p:cNvSpPr/>
          <p:nvPr/>
        </p:nvSpPr>
        <p:spPr>
          <a:xfrm>
            <a:off x="0" y="0"/>
            <a:ext cx="1219320" cy="152280"/>
          </a:xfrm>
          <a:prstGeom prst="rect">
            <a:avLst/>
          </a:prstGeom>
          <a:solidFill>
            <a:srgbClr val="502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0" y="228600"/>
            <a:ext cx="1219320" cy="1440"/>
          </a:xfrm>
          <a:prstGeom prst="line">
            <a:avLst/>
          </a:prstGeom>
          <a:ln w="3168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Rectangle 11"/>
          <p:cNvSpPr/>
          <p:nvPr/>
        </p:nvSpPr>
        <p:spPr>
          <a:xfrm>
            <a:off x="1219320" y="0"/>
            <a:ext cx="7924680" cy="152280"/>
          </a:xfrm>
          <a:prstGeom prst="rect">
            <a:avLst/>
          </a:prstGeom>
          <a:solidFill>
            <a:srgbClr val="66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12"/>
          <p:cNvSpPr/>
          <p:nvPr/>
        </p:nvSpPr>
        <p:spPr>
          <a:xfrm>
            <a:off x="990720" y="228600"/>
            <a:ext cx="8153280" cy="1440"/>
          </a:xfrm>
          <a:prstGeom prst="line">
            <a:avLst/>
          </a:prstGeom>
          <a:ln w="28440">
            <a:solidFill>
              <a:srgbClr val="5028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sldNum" idx="8"/>
          </p:nvPr>
        </p:nvSpPr>
        <p:spPr>
          <a:xfrm>
            <a:off x="655272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5028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DB7B-0CCC-44DD-B497-27E29156AF08}" type="slidenum">
              <a:rPr b="1" lang="en-US" sz="2400" spc="-1" strike="noStrike">
                <a:solidFill>
                  <a:srgbClr val="5028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gefeo.or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47400" y="180468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5400" spc="-1" strike="noStrike">
                <a:solidFill>
                  <a:srgbClr val="376b4c"/>
                </a:solidFill>
                <a:latin typeface="Calibri"/>
              </a:rPr>
              <a:t>Le suivi et l’évaluation</a:t>
            </a:r>
            <a:br>
              <a:rPr sz="5400"/>
            </a:br>
            <a:r>
              <a:rPr b="1" lang="fr-FR" sz="5400" spc="-1" strike="noStrike">
                <a:solidFill>
                  <a:srgbClr val="376b4c"/>
                </a:solidFill>
                <a:latin typeface="Calibri"/>
              </a:rPr>
              <a:t>du FEM</a:t>
            </a:r>
            <a:r>
              <a:rPr b="1" lang="fr-FR" sz="4400" spc="-1" strike="noStrike">
                <a:solidFill>
                  <a:srgbClr val="c00000"/>
                </a:solidFill>
                <a:latin typeface="Calibri"/>
              </a:rPr>
              <a:t>	</a:t>
            </a:r>
            <a:br>
              <a:rPr sz="4000"/>
            </a:br>
            <a:br>
              <a:rPr sz="4000"/>
            </a:br>
            <a:endParaRPr b="0" lang="en-US" sz="4400" spc="-1" strike="noStrike">
              <a:solidFill>
                <a:srgbClr val="000000"/>
              </a:solidFill>
              <a:latin typeface="Calibri"/>
            </a:endParaRPr>
          </a:p>
        </p:txBody>
      </p:sp>
      <p:sp>
        <p:nvSpPr>
          <p:cNvPr id="138" name="PlaceHolder 2"/>
          <p:cNvSpPr>
            <a:spLocks noGrp="1"/>
          </p:cNvSpPr>
          <p:nvPr>
            <p:ph type="subTitle"/>
          </p:nvPr>
        </p:nvSpPr>
        <p:spPr>
          <a:xfrm>
            <a:off x="1980720" y="3352680"/>
            <a:ext cx="5867640" cy="2895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aljit Wadhwa</a:t>
            </a:r>
            <a:endParaRPr b="0" lang="en-US" sz="36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Spécialiste senior de l’évaluation</a:t>
            </a:r>
            <a:endParaRPr b="0" lang="en-US" sz="24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Atelier Elargie pour la Circonscription</a:t>
            </a:r>
            <a:endParaRPr b="0" lang="en-US" sz="3200" spc="-1" strike="noStrike">
              <a:solidFill>
                <a:srgbClr val="000000"/>
              </a:solidFill>
              <a:latin typeface="Calibri"/>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000000"/>
                </a:solidFill>
                <a:latin typeface="Calibri"/>
              </a:rPr>
              <a:t> </a:t>
            </a:r>
            <a:r>
              <a:rPr b="1" lang="fr-FR" sz="2800" spc="-1" strike="noStrike">
                <a:solidFill>
                  <a:srgbClr val="000000"/>
                </a:solidFill>
                <a:latin typeface="Calibri"/>
              </a:rPr>
              <a:t>Février 8 - 10, 2012</a:t>
            </a:r>
            <a:endParaRPr b="0" lang="en-US" sz="28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ujumbura, Burundi</a:t>
            </a:r>
            <a:endParaRPr b="0" lang="en-US" sz="2400" spc="-1" strike="noStrike">
              <a:solidFill>
                <a:srgbClr val="000000"/>
              </a:solidFill>
              <a:latin typeface="Calibri"/>
            </a:endParaRPr>
          </a:p>
        </p:txBody>
      </p:sp>
      <p:sp>
        <p:nvSpPr>
          <p:cNvPr id="139" name="TextBox 4"/>
          <p:cNvSpPr/>
          <p:nvPr/>
        </p:nvSpPr>
        <p:spPr>
          <a:xfrm>
            <a:off x="7696080" y="0"/>
            <a:ext cx="2590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M:\CSG\Project Co-ordination\LOGOS\GEF\GEF_NewLogos_LanguageVersionJPG\GEF_Brand_LongColor_TAG_FR.jpg"/>
          <p:cNvPicPr/>
          <p:nvPr/>
        </p:nvPicPr>
        <p:blipFill>
          <a:blip r:embed="rId2"/>
          <a:stretch/>
        </p:blipFill>
        <p:spPr>
          <a:xfrm>
            <a:off x="4038480" y="380880"/>
            <a:ext cx="4835520" cy="990720"/>
          </a:xfrm>
          <a:prstGeom prst="rect">
            <a:avLst/>
          </a:prstGeom>
          <a:ln w="0">
            <a:noFill/>
          </a:ln>
        </p:spPr>
      </p:pic>
      <p:pic>
        <p:nvPicPr>
          <p:cNvPr id="141" name="Picture 3" descr="M:\CSG\Project Co-ordination\LOGOS\GEF\GEF_20Years_Logos_FR\GEF_20Years_Seal_FR.jpg"/>
          <p:cNvPicPr/>
          <p:nvPr/>
        </p:nvPicPr>
        <p:blipFill>
          <a:blip r:embed="rId3"/>
          <a:stretch/>
        </p:blipFill>
        <p:spPr>
          <a:xfrm>
            <a:off x="304920" y="228600"/>
            <a:ext cx="1552320" cy="151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212840" y="244440"/>
            <a:ext cx="7937640" cy="828720"/>
          </a:xfrm>
          <a:prstGeom prst="rect">
            <a:avLst/>
          </a:prstGeom>
          <a:ln w="0">
            <a:noFill/>
          </a:ln>
        </p:spPr>
      </p:pic>
      <p:sp>
        <p:nvSpPr>
          <p:cNvPr id="228" name=""/>
          <p:cNvSpPr txBox="1"/>
          <p:nvPr/>
        </p:nvSpPr>
        <p:spPr>
          <a:xfrm>
            <a:off x="1294920" y="1219320"/>
            <a:ext cx="7620120" cy="5410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direction doit répondre à tous les rapports d’évaluation que le Bureau de l’évaluation du FEM présente au Conseil du FE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du FEM tient compte de l’évaluation et de la réponse de la direction pour prendre une décis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Bureau de l’évaluation du FEM présente un rapport annuel sur la suite donnée aux décisions (Relevé d'interventions de la dir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ans le cas des évaluations de portefeuille-pays, ceux-ci ont la possibilité d’exposer également leur point de vue au Conseil</a:t>
            </a:r>
            <a:endParaRPr b="0" lang="en-US" sz="2400" spc="-1" strike="noStrike">
              <a:solidFill>
                <a:srgbClr val="000000"/>
              </a:solidFill>
              <a:latin typeface="Calibri"/>
            </a:endParaRPr>
          </a:p>
        </p:txBody>
      </p:sp>
      <p:sp>
        <p:nvSpPr>
          <p:cNvPr id="22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235A-B224-409C-AD64-E9BCE98BFFDE}"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xes d’éléments d’évaluation</a:t>
            </a:r>
            <a:endParaRPr b="0" lang="en-US" sz="44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E062-4A26-4211-B3E0-57A10D68A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1212840" y="244440"/>
            <a:ext cx="7937640" cy="828720"/>
          </a:xfrm>
          <a:prstGeom prst="rect">
            <a:avLst/>
          </a:prstGeom>
          <a:ln w="0">
            <a:noFill/>
          </a:ln>
        </p:spPr>
      </p:pic>
      <p:sp>
        <p:nvSpPr>
          <p:cNvPr id="233" name=""/>
          <p:cNvSpPr txBox="1"/>
          <p:nvPr/>
        </p:nvSpPr>
        <p:spPr>
          <a:xfrm>
            <a:off x="1371240" y="914400"/>
            <a:ext cx="7620120" cy="54100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s évaluations de la performance évaluent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questions ayant trait aux institutions et aux procédures dans les différents domaines d’intervention du FEM</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xpérience acquise dans le cadre de la poursuite des stratégies et des politiques du FEM.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port annuel de la performance (RAP) évalue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résultats des proje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pérennité des résulta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u suivi et de l’évalua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mise en œuvre et de l’exécut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s rapports d’évaluation finale</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 RAP présente aussi des examens périodiques portant sur : </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à l’entrée dans le portefeuille</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a qualité de la supervision</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cofinancements</a:t>
            </a:r>
            <a:endParaRPr b="0" lang="en-US" sz="2000" spc="-1" strike="noStrike">
              <a:solidFill>
                <a:srgbClr val="000000"/>
              </a:solidFill>
              <a:latin typeface="Calibri"/>
            </a:endParaRPr>
          </a:p>
          <a:p>
            <a:pPr lvl="1" marL="735480" indent="-28296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autres aspects de la performance</a:t>
            </a:r>
            <a:endParaRPr b="0" lang="en-US" sz="2000" spc="-1" strike="noStrike">
              <a:solidFill>
                <a:srgbClr val="000000"/>
              </a:solidFill>
              <a:latin typeface="Calibri"/>
            </a:endParaRPr>
          </a:p>
          <a:p>
            <a:pPr marL="339480" indent="-3394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2494080" indent="-230760">
              <a:lnSpc>
                <a:spcPct val="80000"/>
              </a:lnSpc>
              <a:spcBef>
                <a:spcPts val="2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34"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BE5C-7761-4B68-A442-4BAEE9B1CB0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1212840" y="268200"/>
            <a:ext cx="7937640" cy="804960"/>
          </a:xfrm>
          <a:prstGeom prst="rect">
            <a:avLst/>
          </a:prstGeom>
          <a:ln w="0">
            <a:noFill/>
          </a:ln>
        </p:spPr>
      </p:pic>
      <p:sp>
        <p:nvSpPr>
          <p:cNvPr id="236" name=""/>
          <p:cNvSpPr txBox="1"/>
          <p:nvPr/>
        </p:nvSpPr>
        <p:spPr>
          <a:xfrm>
            <a:off x="1218960" y="1219320"/>
            <a:ext cx="7924680" cy="4983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récemment achevés et en cour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0 et 2011</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nds pour la planète</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amens prévus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AP 2012 -13</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u STAR</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à mi-parcours de l’accès direct</a:t>
            </a:r>
            <a:endParaRPr b="0" lang="en-US" sz="2400" spc="-1" strike="noStrike">
              <a:solidFill>
                <a:srgbClr val="000000"/>
              </a:solidFill>
              <a:latin typeface="Calibri"/>
            </a:endParaRPr>
          </a:p>
        </p:txBody>
      </p:sp>
      <p:sp>
        <p:nvSpPr>
          <p:cNvPr id="23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9224-F085-4FEE-B5B3-D6398FA80254}"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1212840" y="244440"/>
            <a:ext cx="7937640" cy="828720"/>
          </a:xfrm>
          <a:prstGeom prst="rect">
            <a:avLst/>
          </a:prstGeom>
          <a:ln w="0">
            <a:noFill/>
          </a:ln>
        </p:spPr>
      </p:pic>
      <p:sp>
        <p:nvSpPr>
          <p:cNvPr id="239" name=""/>
          <p:cNvSpPr txBox="1"/>
          <p:nvPr/>
        </p:nvSpPr>
        <p:spPr>
          <a:xfrm>
            <a:off x="1294920" y="1294920"/>
            <a:ext cx="7620120" cy="5410440"/>
          </a:xfrm>
          <a:prstGeom prst="rect">
            <a:avLst/>
          </a:prstGeom>
          <a:noFill/>
          <a:ln w="0">
            <a:noFill/>
          </a:ln>
        </p:spPr>
        <p:txBody>
          <a:bodyPr anchor="t">
            <a:normAutofit/>
          </a:bodyPr>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évaluation de l’impact établit les effets à long terme primaires et secondaires, positifs et négatifs, d’une intervention de développement, que ceux-ci soient directs ou indirects, voulus ou non.</a:t>
            </a: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hèmes examinés :</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odalités d’impact et facteurs influant sur les progrès  à accomplir pour obtenir l’impact désiré</a:t>
            </a:r>
            <a:endParaRPr b="0" lang="en-US" sz="2400" spc="-1" strike="noStrike">
              <a:solidFill>
                <a:srgbClr val="000000"/>
              </a:solidFill>
              <a:latin typeface="Calibri"/>
            </a:endParaRPr>
          </a:p>
          <a:p>
            <a:pPr marL="3240" indent="-3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tributions du FEM aux changements à opérer dans le stress environnemental, l’état de l’environnement et la situation socioéconomique</a:t>
            </a:r>
            <a:endParaRPr b="0" lang="en-US" sz="2400" spc="-1" strike="noStrike">
              <a:solidFill>
                <a:srgbClr val="000000"/>
              </a:solidFill>
              <a:latin typeface="Calibri"/>
            </a:endParaRPr>
          </a:p>
        </p:txBody>
      </p:sp>
      <p:sp>
        <p:nvSpPr>
          <p:cNvPr id="240"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7A53-B0A6-4F07-87B6-DA8863E18DD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212840" y="268200"/>
            <a:ext cx="7937640" cy="804960"/>
          </a:xfrm>
          <a:prstGeom prst="rect">
            <a:avLst/>
          </a:prstGeom>
          <a:ln w="0">
            <a:noFill/>
          </a:ln>
        </p:spPr>
      </p:pic>
      <p:sp>
        <p:nvSpPr>
          <p:cNvPr id="242" name=""/>
          <p:cNvSpPr txBox="1"/>
          <p:nvPr/>
        </p:nvSpPr>
        <p:spPr>
          <a:xfrm>
            <a:off x="1294920" y="1294920"/>
            <a:ext cx="7620120" cy="5410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valuations achevées et en cour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Évaluations d’impact sur la biodiversité </a:t>
            </a:r>
            <a:r>
              <a:rPr b="0" sz="2600" spc="-1" strike="noStrike">
                <a:solidFill>
                  <a:srgbClr val="006600"/>
                </a:solidFill>
                <a:latin typeface="Calibri"/>
              </a:rPr>
              <a:t>au Pérou</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00"/>
                </a:solidFill>
                <a:latin typeface="Calibri"/>
              </a:rPr>
              <a:t>Eaux internationales (</a:t>
            </a:r>
            <a:r>
              <a:rPr b="0" sz="2600" spc="-1" strike="noStrike">
                <a:solidFill>
                  <a:srgbClr val="006600"/>
                </a:solidFill>
                <a:latin typeface="Calibri"/>
              </a:rPr>
              <a:t>Mer de Chine méridionale) et changement climatique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Évaluations planifiées</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Domaine d’intervention « Diversité biologique » et autre domaine d’intervention non encore déterminé</a:t>
            </a:r>
            <a:endParaRPr b="0" lang="en-US" sz="2600" spc="-1" strike="noStrike">
              <a:solidFill>
                <a:srgbClr val="000000"/>
              </a:solidFill>
              <a:latin typeface="Calibri"/>
            </a:endParaRPr>
          </a:p>
          <a:p>
            <a:pPr lvl="1" marL="743040" indent="-285840">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6600"/>
                </a:solidFill>
                <a:latin typeface="Calibri"/>
              </a:rPr>
              <a:t>Analyse des résultats à l’impact (ROtI) des projets clos</a:t>
            </a:r>
            <a:endParaRPr b="0" lang="en-US" sz="2600" spc="-1" strike="noStrike">
              <a:solidFill>
                <a:srgbClr val="000000"/>
              </a:solidFill>
              <a:latin typeface="Calibri"/>
            </a:endParaRPr>
          </a:p>
        </p:txBody>
      </p:sp>
      <p:sp>
        <p:nvSpPr>
          <p:cNvPr id="243"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4F00-FE57-44B3-9CBC-437498BA4BC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1212840" y="244440"/>
            <a:ext cx="7937640" cy="828720"/>
          </a:xfrm>
          <a:prstGeom prst="rect">
            <a:avLst/>
          </a:prstGeom>
          <a:ln w="0">
            <a:noFill/>
          </a:ln>
        </p:spPr>
      </p:pic>
      <p:sp>
        <p:nvSpPr>
          <p:cNvPr id="245" name=""/>
          <p:cNvSpPr txBox="1"/>
          <p:nvPr/>
        </p:nvSpPr>
        <p:spPr>
          <a:xfrm>
            <a:off x="1371240" y="1294920"/>
            <a:ext cx="7543800" cy="54104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au niveau des pays déterminent l’appui fourni par le FEM à un pays dans tous les domaines d’intervention du Fonds, par le biais de toutes ses Entités d’exécution et au niveau de tous ses projets et programme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ays est pris pour unité d’analys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évaluations des portefeuilles-pays examinent la </a:t>
            </a:r>
            <a:r>
              <a:rPr b="1" lang="fr-FR" sz="2200" spc="-1" strike="noStrike">
                <a:solidFill>
                  <a:srgbClr val="c00000"/>
                </a:solidFill>
                <a:latin typeface="Calibri"/>
              </a:rPr>
              <a:t>pertinence</a:t>
            </a:r>
            <a:r>
              <a:rPr b="0" lang="fr-FR" sz="2200" spc="-1" strike="noStrike">
                <a:solidFill>
                  <a:srgbClr val="000000"/>
                </a:solidFill>
                <a:latin typeface="Calibri"/>
              </a:rPr>
              <a:t>, les </a:t>
            </a:r>
            <a:r>
              <a:rPr b="1" lang="fr-FR" sz="2200" spc="-1" strike="noStrike">
                <a:solidFill>
                  <a:srgbClr val="c00000"/>
                </a:solidFill>
                <a:latin typeface="Calibri"/>
              </a:rPr>
              <a:t>résultats</a:t>
            </a:r>
            <a:r>
              <a:rPr b="0" lang="fr-FR" sz="2200" spc="-1" strike="noStrike">
                <a:solidFill>
                  <a:srgbClr val="000000"/>
                </a:solidFill>
                <a:latin typeface="Calibri"/>
              </a:rPr>
              <a:t> et </a:t>
            </a:r>
            <a:r>
              <a:rPr b="1" lang="fr-FR" sz="2200" spc="-1" strike="noStrike">
                <a:solidFill>
                  <a:srgbClr val="c00000"/>
                </a:solidFill>
                <a:latin typeface="Calibri"/>
              </a:rPr>
              <a:t>l’efficacité </a:t>
            </a:r>
            <a:r>
              <a:rPr b="0" lang="fr-FR" sz="2200" spc="-1" strike="noStrike">
                <a:solidFill>
                  <a:srgbClr val="000000"/>
                </a:solidFill>
                <a:latin typeface="Calibri"/>
              </a:rPr>
              <a:t>des projets du FEM au niveau des pays pour déterminer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manière dont ces projets contribuent à l’obtention des résultats escomptés ;</a:t>
            </a:r>
            <a:endParaRPr b="0" lang="en-US" sz="2200" spc="-1" strike="noStrike">
              <a:solidFill>
                <a:srgbClr val="000000"/>
              </a:solidFill>
              <a:latin typeface="Calibri"/>
            </a:endParaRPr>
          </a:p>
          <a:p>
            <a:pPr lvl="1" marL="743040" indent="-285840">
              <a:lnSpc>
                <a:spcPct val="9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liens entre les résultats obtenus et les plans d’action nationaux en matière d’environnement et de développement durable, ainsi qu’avec la mission du FEM – avoir des effets positifs sur l’environnement mondial.</a:t>
            </a:r>
            <a:endParaRPr b="0" lang="en-US" sz="2200" spc="-1" strike="noStrike">
              <a:solidFill>
                <a:srgbClr val="000000"/>
              </a:solidFill>
              <a:latin typeface="Calibri"/>
            </a:endParaRPr>
          </a:p>
        </p:txBody>
      </p:sp>
      <p:sp>
        <p:nvSpPr>
          <p:cNvPr id="246"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CD9F-12E3-4CB9-870A-80A4DBAFBFF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212840" y="244440"/>
            <a:ext cx="7937640" cy="828720"/>
          </a:xfrm>
          <a:prstGeom prst="rect">
            <a:avLst/>
          </a:prstGeom>
          <a:ln w="0">
            <a:noFill/>
          </a:ln>
        </p:spPr>
      </p:pic>
      <p:sp>
        <p:nvSpPr>
          <p:cNvPr id="248" name=""/>
          <p:cNvSpPr txBox="1"/>
          <p:nvPr/>
        </p:nvSpPr>
        <p:spPr>
          <a:xfrm>
            <a:off x="1294920" y="1294920"/>
            <a:ext cx="7620120" cy="541044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modalités d’évaluations au niveau des pays :</a:t>
            </a:r>
            <a:endParaRPr b="0" lang="en-US" sz="22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amens de portefeuilles-pays (CPE)</a:t>
            </a:r>
            <a:r>
              <a:rPr b="0" lang="fr-FR" sz="2000" spc="-1" strike="noStrike">
                <a:solidFill>
                  <a:srgbClr val="000000"/>
                </a:solidFill>
                <a:latin typeface="Calibri"/>
              </a:rPr>
              <a:t> à part entière ; et</a:t>
            </a:r>
            <a:endParaRPr b="0" lang="en-US" sz="2000" spc="-1" strike="noStrike">
              <a:solidFill>
                <a:srgbClr val="000000"/>
              </a:solidFill>
              <a:latin typeface="Calibri"/>
            </a:endParaRPr>
          </a:p>
          <a:p>
            <a:pPr lvl="1" marL="743040" indent="-285840">
              <a:lnSpc>
                <a:spcPct val="8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Études de portefeuilles-pays (CPS) </a:t>
            </a:r>
            <a:r>
              <a:rPr b="0" lang="fr-FR" sz="2000" spc="-1" strike="noStrike">
                <a:solidFill>
                  <a:srgbClr val="000000"/>
                </a:solidFill>
                <a:latin typeface="Calibri"/>
              </a:rPr>
              <a:t>; ces études, qui ont un champ d’application plus limité, fournissent des éléments d’informations supplémentaires sur les portefeuilles-pays dans chaque région géographique du FEM.</a:t>
            </a:r>
            <a:endParaRPr b="0" lang="en-US" sz="20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CPS sont menées en parallèle et en collaboration avec l’évaluation-pays d’une Entité d’exécution du FEM, pour réduire la charge que représentent les évaluations pour les pays.</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valuations achevées, en cours et prévues au niveau des pays :</a:t>
            </a:r>
            <a:endParaRPr b="0" lang="en-US" sz="2200" spc="-1" strike="noStrike">
              <a:solidFill>
                <a:srgbClr val="000000"/>
              </a:solidFill>
              <a:latin typeface="Calibri"/>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écemment achevées ou en cours </a:t>
            </a:r>
            <a:r>
              <a:rPr b="0" lang="fr-FR" sz="2000" spc="-1" strike="noStrike">
                <a:solidFill>
                  <a:srgbClr val="000000"/>
                </a:solidFill>
                <a:latin typeface="Calibri"/>
              </a:rPr>
              <a:t>: Nicaragua, OEAO, Jamaïque, El Salvador (</a:t>
            </a:r>
            <a:r>
              <a:rPr b="0" i="1" lang="fr-FR" sz="2000" spc="-1" strike="noStrike">
                <a:solidFill>
                  <a:srgbClr val="000000"/>
                </a:solidFill>
                <a:latin typeface="Calibri"/>
              </a:rPr>
              <a:t>achevées</a:t>
            </a:r>
            <a:r>
              <a:rPr b="0" lang="fr-FR" sz="2000" spc="-1" strike="noStrike">
                <a:solidFill>
                  <a:srgbClr val="000000"/>
                </a:solidFill>
                <a:latin typeface="Calibri"/>
              </a:rPr>
              <a:t>), Cuba, Inde, Timor-Leste, Sri Lanka (</a:t>
            </a:r>
            <a:r>
              <a:rPr b="0" i="1" lang="fr-FR" sz="2000" spc="-1" strike="noStrike">
                <a:solidFill>
                  <a:srgbClr val="000000"/>
                </a:solidFill>
                <a:latin typeface="Calibri"/>
              </a:rPr>
              <a:t>en cours</a:t>
            </a:r>
            <a:r>
              <a:rPr b="0" lang="fr-FR"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évues pour les exercices 13-15</a:t>
            </a:r>
            <a:r>
              <a:rPr b="0" lang="fr-FR" sz="2000" spc="-1" strike="noStrike">
                <a:solidFill>
                  <a:srgbClr val="000000"/>
                </a:solidFill>
                <a:latin typeface="Calibri"/>
              </a:rPr>
              <a:t> : Asie, Afrique, MENA, ECA</a:t>
            </a:r>
            <a:endParaRPr b="0" lang="en-US" sz="20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249"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25A8-BE2B-45DA-A724-11BBA1EBD5A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1212840" y="244440"/>
            <a:ext cx="7937640" cy="828720"/>
          </a:xfrm>
          <a:prstGeom prst="rect">
            <a:avLst/>
          </a:prstGeom>
          <a:ln w="0">
            <a:noFill/>
          </a:ln>
        </p:spPr>
      </p:pic>
      <p:sp>
        <p:nvSpPr>
          <p:cNvPr id="251" name=""/>
          <p:cNvSpPr txBox="1"/>
          <p:nvPr/>
        </p:nvSpPr>
        <p:spPr>
          <a:xfrm>
            <a:off x="1294920" y="1066320"/>
            <a:ext cx="7696440" cy="5715000"/>
          </a:xfrm>
          <a:prstGeom prst="rect">
            <a:avLst/>
          </a:prstGeom>
          <a:noFill/>
          <a:ln w="0">
            <a:noFill/>
          </a:ln>
        </p:spPr>
        <p:txBody>
          <a:bodyPr anchor="t">
            <a:normAutofit/>
          </a:bodyPr>
          <a:p>
            <a:pPr marL="343080" indent="-34308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sz="2600" spc="-1" strike="noStrike">
                <a:solidFill>
                  <a:srgbClr val="000000"/>
                </a:solidFill>
                <a:latin typeface="Calibri"/>
              </a:rPr>
              <a:t>Évaluations portant sur des thèmes transsectoriel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ogrammes, processus, stratégies dans les domaines d’intervention, questions transsectorielles et autres thèmes, et examens spéciaux</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Évaluations récemment achevée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Priorité stratégique « adaptation » (SP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uto-évaluation nationale des capacités à renforcer (NCSA)</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Fonds spécial pour les changements climatiques (SCCF)</a:t>
            </a:r>
            <a:endParaRPr b="0" lang="en-US" sz="2300" spc="-1" strike="noStrike">
              <a:solidFill>
                <a:srgbClr val="000000"/>
              </a:solidFill>
              <a:latin typeface="Calibri"/>
            </a:endParaRPr>
          </a:p>
          <a:p>
            <a:pPr marL="343080" indent="-343080">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Calibri"/>
              </a:rPr>
              <a:t> </a:t>
            </a:r>
            <a:r>
              <a:rPr b="0" sz="2600" spc="-1" strike="noStrike">
                <a:solidFill>
                  <a:srgbClr val="000000"/>
                </a:solidFill>
                <a:latin typeface="Calibri"/>
              </a:rPr>
              <a:t>Examens prévus :</a:t>
            </a:r>
            <a:endParaRPr b="0" lang="en-US" sz="26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Activités habilitantes</a:t>
            </a:r>
            <a:endParaRPr b="0" lang="en-US" sz="2300" spc="-1" strike="noStrike">
              <a:solidFill>
                <a:srgbClr val="000000"/>
              </a:solidFill>
              <a:latin typeface="Calibri"/>
            </a:endParaRPr>
          </a:p>
          <a:p>
            <a:pPr lvl="1" marL="743040" indent="-285840">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000000"/>
                </a:solidFill>
                <a:latin typeface="Calibri"/>
              </a:rPr>
              <a:t>Stratégies dans les domaines d’intervention</a:t>
            </a:r>
            <a:endParaRPr b="0" lang="en-US" sz="2300" spc="-1" strike="noStrike">
              <a:solidFill>
                <a:srgbClr val="000000"/>
              </a:solidFill>
              <a:latin typeface="Calibri"/>
            </a:endParaRPr>
          </a:p>
        </p:txBody>
      </p:sp>
      <p:sp>
        <p:nvSpPr>
          <p:cNvPr id="252"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E30F-20EE-4F27-89C2-ACC89F58014C}"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nquième bilan global du FEM</a:t>
            </a:r>
            <a:endParaRPr b="0" lang="en-US" sz="4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0855-35A0-4883-98FF-50C6B2ACF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1212840" y="152280"/>
            <a:ext cx="7937640" cy="920880"/>
          </a:xfrm>
          <a:prstGeom prst="rect">
            <a:avLst/>
          </a:prstGeom>
          <a:ln w="0">
            <a:noFill/>
          </a:ln>
        </p:spPr>
      </p:pic>
      <p:sp>
        <p:nvSpPr>
          <p:cNvPr id="143" name=""/>
          <p:cNvSpPr txBox="1"/>
          <p:nvPr/>
        </p:nvSpPr>
        <p:spPr>
          <a:xfrm>
            <a:off x="1218960" y="1447920"/>
            <a:ext cx="7924680" cy="48765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La gestion à objectifs de résultats (GOR) et le suivi et l’évaluation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Le S&amp;E du FEM</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Niveaux de S&amp;E et entités responsables</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Politique de S&amp;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Exigences minimale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Participation des points focaux</a:t>
            </a:r>
            <a:endParaRPr b="0" lang="en-US" sz="19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900" spc="-1" strike="noStrike">
                <a:solidFill>
                  <a:srgbClr val="000000"/>
                </a:solidFill>
                <a:latin typeface="Calibri"/>
              </a:rPr>
              <a:t>Axes d’éléments d’évaluation</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e la performance</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d’impact</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s au niveau des pays</a:t>
            </a:r>
            <a:endParaRPr b="0" lang="en-US" sz="1900" spc="-1" strike="noStrike">
              <a:solidFill>
                <a:srgbClr val="000000"/>
              </a:solidFill>
              <a:latin typeface="Calibri"/>
            </a:endParaRPr>
          </a:p>
          <a:p>
            <a:pPr lvl="1" marL="743040" indent="-2858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6600"/>
                </a:solidFill>
                <a:latin typeface="Calibri"/>
              </a:rPr>
              <a:t>Évaluation thématique</a:t>
            </a:r>
            <a:endParaRPr b="0" lang="en-US" sz="19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Cinquième bilan glob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Échange de connaissan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Portefeuille du FEM – à l’échelon régiona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Calibri"/>
              </a:rPr>
              <a:t>Questions et réponses</a:t>
            </a:r>
            <a:endParaRPr b="0" lang="en-US" sz="1800" spc="-1" strike="noStrike">
              <a:solidFill>
                <a:srgbClr val="000000"/>
              </a:solidFill>
              <a:latin typeface="Calibri"/>
            </a:endParaRPr>
          </a:p>
        </p:txBody>
      </p:sp>
      <p:sp>
        <p:nvSpPr>
          <p:cNvPr id="144"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2923-5DB9-4473-AE49-49C2DC1F97D2}" type="slidenum">
              <a:rPr b="1" lang="fr-FR"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8001000" y="6230880"/>
            <a:ext cx="587520" cy="474840"/>
          </a:xfrm>
          <a:prstGeom prst="rect">
            <a:avLst/>
          </a:prstGeom>
          <a:noFill/>
          <a:ln w="0">
            <a:noFill/>
          </a:ln>
        </p:spPr>
        <p:style>
          <a:lnRef idx="0"/>
          <a:fillRef idx="0"/>
          <a:effectRef idx="0"/>
          <a:fontRef idx="minor"/>
        </p:style>
        <p:txBody>
          <a:bodyPr lIns="86400" rIns="86400" tIns="43200" bIns="43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C248-D498-4D12-9ACE-2007FCDF1F0A}"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256" name="Rectangle 2" descr=""/>
          <p:cNvPicPr/>
          <p:nvPr/>
        </p:nvPicPr>
        <p:blipFill>
          <a:blip r:embed="rId1"/>
          <a:stretch/>
        </p:blipFill>
        <p:spPr>
          <a:xfrm>
            <a:off x="1444680" y="201600"/>
            <a:ext cx="7705800" cy="749160"/>
          </a:xfrm>
          <a:prstGeom prst="rect">
            <a:avLst/>
          </a:prstGeom>
          <a:ln w="0">
            <a:noFill/>
          </a:ln>
        </p:spPr>
      </p:pic>
      <p:sp>
        <p:nvSpPr>
          <p:cNvPr id="257" name="PlaceHolder 1"/>
          <p:cNvSpPr>
            <a:spLocks noGrp="1"/>
          </p:cNvSpPr>
          <p:nvPr>
            <p:ph/>
          </p:nvPr>
        </p:nvSpPr>
        <p:spPr>
          <a:xfrm>
            <a:off x="1295280" y="1218960"/>
            <a:ext cx="784872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olidation et renforcement des quatre axes d’éléments d’évaluation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Examens de portefeuilles-pays </a:t>
            </a:r>
            <a:r>
              <a:rPr b="0" lang="fr-FR" sz="2600" spc="-1" strike="noStrike">
                <a:solidFill>
                  <a:srgbClr val="000000"/>
                </a:solidFill>
                <a:latin typeface="Calibri"/>
              </a:rPr>
              <a:t>: jusqu’à 15 pendant FEM-5</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impact : </a:t>
            </a:r>
            <a:r>
              <a:rPr b="0" lang="fr-FR" sz="2600" spc="-1" strike="noStrike">
                <a:solidFill>
                  <a:srgbClr val="000000"/>
                </a:solidFill>
                <a:latin typeface="Calibri"/>
              </a:rPr>
              <a:t>eaux internationales, changements climatiques et autres domaines d’intervention</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s résultats : </a:t>
            </a:r>
            <a:r>
              <a:rPr b="0" lang="fr-FR" sz="2600" spc="-1" strike="noStrike">
                <a:solidFill>
                  <a:srgbClr val="000000"/>
                </a:solidFill>
                <a:latin typeface="Calibri"/>
              </a:rPr>
              <a:t>poursuite et renforcement des RAP et examens indépendants des procédures</a:t>
            </a:r>
            <a:endParaRPr b="0" lang="en-US" sz="2600" spc="-1" strike="noStrike">
              <a:solidFill>
                <a:srgbClr val="000000"/>
              </a:solidFill>
              <a:latin typeface="Calibri"/>
            </a:endParaRPr>
          </a:p>
          <a:p>
            <a:pPr lvl="1" marL="743040" indent="-285840">
              <a:lnSpc>
                <a:spcPct val="9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thématiques : </a:t>
            </a:r>
            <a:r>
              <a:rPr b="0" lang="fr-FR" sz="2600" spc="-1" strike="noStrike">
                <a:solidFill>
                  <a:srgbClr val="000000"/>
                </a:solidFill>
                <a:latin typeface="Calibri"/>
              </a:rPr>
              <a:t>stratégies liées aux domaines d’intervention et adaptation</a:t>
            </a:r>
            <a:endParaRPr b="0" lang="en-US" sz="2600" spc="-1" strike="noStrike">
              <a:solidFill>
                <a:srgbClr val="000000"/>
              </a:solidFill>
              <a:latin typeface="Calibri"/>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1212840" y="268200"/>
            <a:ext cx="7937640" cy="804960"/>
          </a:xfrm>
          <a:prstGeom prst="rect">
            <a:avLst/>
          </a:prstGeom>
          <a:ln w="0">
            <a:noFill/>
          </a:ln>
        </p:spPr>
      </p:pic>
      <p:sp>
        <p:nvSpPr>
          <p:cNvPr id="259" name="Slide Number Placeholder 3"/>
          <p:cNvSpPr/>
          <p:nvPr/>
        </p:nvSpPr>
        <p:spPr>
          <a:xfrm>
            <a:off x="7238880" y="6248520"/>
            <a:ext cx="137160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47FF-DEF1-45B3-900F-D7162A228FA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60" name=""/>
          <p:cNvSpPr txBox="1"/>
          <p:nvPr/>
        </p:nvSpPr>
        <p:spPr>
          <a:xfrm>
            <a:off x="1219320" y="1143000"/>
            <a:ext cx="7772400" cy="4983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Vérification et notation des résultats et des progrès accomplis au regard des impacts escompté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uverture du processus de réforme : cycle et modalités des projets du FEM, accès direct, Système transparent d'allocation des ressources (STAR), Paragraphe 28</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ttention accrue portée au rôle catalyseur du F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 l’adhésion et du rôle moteur des p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Évolution des problèmes liés à l’environnement mondial et pertinence du FEM au regard des conven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amen plus approfondi des stratégies pour les domaines d’intervention, y compris la gestion durable des forê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eilleure compréhension de l’impact du FEM à long terme</a:t>
            </a:r>
            <a:br>
              <a:rPr sz="2400"/>
            </a:b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1170000" y="268200"/>
            <a:ext cx="8010360" cy="804960"/>
          </a:xfrm>
          <a:prstGeom prst="rect">
            <a:avLst/>
          </a:prstGeom>
          <a:ln w="0">
            <a:noFill/>
          </a:ln>
        </p:spPr>
      </p:pic>
      <p:sp>
        <p:nvSpPr>
          <p:cNvPr id="262" name=""/>
          <p:cNvSpPr txBox="1"/>
          <p:nvPr/>
        </p:nvSpPr>
        <p:spPr>
          <a:xfrm>
            <a:off x="1218960" y="1143000"/>
            <a:ext cx="7924680" cy="4983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Questions liées au cycle des projets : Efficacité de la prise de décisions au sein du FE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sultations des parties prenantes : les ateliers de coordination élargie sont-ils en train de devenir un processus de consultation permanente ? </a:t>
            </a:r>
            <a:endParaRPr b="0" lang="en-US" sz="28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Que faudrait-il envisager de plus ?</a:t>
            </a:r>
            <a:endParaRPr b="0" lang="en-US" sz="2400" spc="-1" strike="noStrike">
              <a:solidFill>
                <a:srgbClr val="000000"/>
              </a:solidFill>
              <a:latin typeface="Calibri"/>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rPr>
              <a:t>Une enquête par voie électronique suffit-elle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ojets mondiaux et régionaux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particulières pour les sous-régions ? </a:t>
            </a:r>
            <a:endParaRPr b="0" lang="en-US" sz="2800" spc="-1" strike="noStrike">
              <a:solidFill>
                <a:srgbClr val="000000"/>
              </a:solidFill>
              <a:latin typeface="Calibri"/>
            </a:endParaRPr>
          </a:p>
        </p:txBody>
      </p:sp>
      <p:sp>
        <p:nvSpPr>
          <p:cNvPr id="26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6C90-12F5-47C5-A771-DA6231D97DA6}"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1212840" y="268200"/>
            <a:ext cx="7937640" cy="804960"/>
          </a:xfrm>
          <a:prstGeom prst="rect">
            <a:avLst/>
          </a:prstGeom>
          <a:ln w="0">
            <a:noFill/>
          </a:ln>
        </p:spPr>
      </p:pic>
      <p:sp>
        <p:nvSpPr>
          <p:cNvPr id="265" name=""/>
          <p:cNvSpPr txBox="1"/>
          <p:nvPr/>
        </p:nvSpPr>
        <p:spPr>
          <a:xfrm>
            <a:off x="1295280" y="1066680"/>
            <a:ext cx="784872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a:t>
            </a:r>
            <a:r>
              <a:rPr b="0" sz="2600" spc="-1" strike="noStrike">
                <a:solidFill>
                  <a:srgbClr val="000000"/>
                </a:solidFill>
                <a:latin typeface="Calibri"/>
              </a:rPr>
              <a:t>S&amp;E contribue </a:t>
            </a:r>
            <a:r>
              <a:rPr b="0" lang="fr-FR" sz="2600" spc="-1" strike="noStrike">
                <a:solidFill>
                  <a:srgbClr val="000000"/>
                </a:solidFill>
                <a:latin typeface="Calibri"/>
              </a:rPr>
              <a:t>à l’acquisition de connaissances et à l’amélioration de l’organisation:</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accès des publics ciblés aux conclusions et enseignements devrait être convivial</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Les rapports d’évaluation devraient faire l’objet d’une stratégie de diffusion dynamique</a:t>
            </a: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 </a:t>
            </a:r>
            <a:r>
              <a:rPr b="0" lang="fr-FR" sz="2600" spc="-1" strike="noStrike">
                <a:solidFill>
                  <a:srgbClr val="000000"/>
                </a:solidFill>
                <a:latin typeface="Calibri"/>
              </a:rPr>
              <a:t>L’échange de connaissances permet aux partenaires de tirer parti des leçons de l’expérien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Buts de l’échange de connaissances au sein du FEM :</a:t>
            </a:r>
            <a:endParaRPr b="0" lang="en-US" sz="26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Promouvoir une culture d’apprentissag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Mettre en pratique les enseignements tirés</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6600"/>
                </a:solidFill>
                <a:latin typeface="Calibri"/>
              </a:rPr>
              <a:t>Rétroagir dans le cadre de nouvelles activité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6B3E-7D68-4C57-A839-EA02B6CBDA38}"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ortefeuille</a:t>
            </a:r>
            <a:r>
              <a:rPr b="0" lang="en-US" sz="4400" spc="-1" strike="noStrike">
                <a:solidFill>
                  <a:srgbClr val="000000"/>
                </a:solidFill>
                <a:latin typeface="Calibri"/>
              </a:rPr>
              <a:t> du FEM – </a:t>
            </a:r>
            <a:br>
              <a:rPr sz="4400"/>
            </a:br>
            <a:r>
              <a:rPr b="0" lang="en-US" sz="4400" spc="-1" strike="noStrike">
                <a:solidFill>
                  <a:srgbClr val="000000"/>
                </a:solidFill>
                <a:latin typeface="Calibri"/>
              </a:rPr>
              <a:t>Afrique centrale</a:t>
            </a:r>
            <a:endParaRPr b="0" lang="en-US" sz="4400" spc="-1" strike="noStrike">
              <a:solidFill>
                <a:srgbClr val="000000"/>
              </a:solidFill>
              <a:latin typeface="Calibri"/>
            </a:endParaRPr>
          </a:p>
        </p:txBody>
      </p:sp>
      <p:sp>
        <p:nvSpPr>
          <p:cNvPr id="268" name="PlaceHolder 2"/>
          <p:cNvSpPr>
            <a:spLocks noGrp="1"/>
          </p:cNvSpPr>
          <p:nvPr>
            <p:ph type="subTitle"/>
          </p:nvPr>
        </p:nvSpPr>
        <p:spPr>
          <a:xfrm>
            <a:off x="1447560" y="1981080"/>
            <a:ext cx="6645240" cy="85896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98989"/>
                </a:solidFill>
                <a:latin typeface="Calibri"/>
                <a:ea typeface="Times New Roman"/>
              </a:rPr>
              <a:t>Burundi, Cameroun, Congo, Gabon, Guinée équatoriale, République centrafricaine, République démocratique du Congo, Sao Tomé-et-Principe</a:t>
            </a:r>
            <a:endParaRPr b="0" lang="en-US" sz="1900" spc="-1" strike="noStrike">
              <a:solidFill>
                <a:srgbClr val="000000"/>
              </a:solidFill>
              <a:latin typeface="Calibri"/>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1432080" y="73080"/>
            <a:ext cx="7510320" cy="1152360"/>
          </a:xfrm>
          <a:prstGeom prst="rect">
            <a:avLst/>
          </a:prstGeom>
          <a:ln w="0">
            <a:noFill/>
          </a:ln>
        </p:spPr>
      </p:pic>
      <p:sp>
        <p:nvSpPr>
          <p:cNvPr id="270" name="TextBox 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graphicFrame>
        <p:nvGraphicFramePr>
          <p:cNvPr id="271" name=""/>
          <p:cNvGraphicFramePr/>
          <p:nvPr/>
        </p:nvGraphicFramePr>
        <p:xfrm>
          <a:off x="1600200" y="1523880"/>
          <a:ext cx="4317840" cy="1657440"/>
        </p:xfrm>
        <a:graphic>
          <a:graphicData uri="http://schemas.openxmlformats.org/drawingml/2006/table">
            <a:tbl>
              <a:tblPr/>
              <a:tblGrid>
                <a:gridCol w="685800"/>
                <a:gridCol w="736560"/>
                <a:gridCol w="939960"/>
                <a:gridCol w="914400"/>
                <a:gridCol w="104112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BD </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9</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16 439 036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883 188 </a:t>
                      </a:r>
                      <a:endParaRPr b="0" lang="en-US" sz="900" spc="-1" strike="noStrike">
                        <a:solidFill>
                          <a:srgbClr val="000000"/>
                        </a:solidFill>
                        <a:latin typeface="Arial"/>
                      </a:endParaRPr>
                    </a:p>
                  </a:txBody>
                  <a:tcPr anchor="ctr">
                    <a:lnL>
                      <a:noFill/>
                    </a:lnL>
                    <a:lnR>
                      <a:noFill/>
                    </a:lnR>
                    <a:lnT w="5760">
                      <a:solidFill>
                        <a:srgbClr val="000000"/>
                      </a:solid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462 521 581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C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7</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4 671 498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37 87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86 874 526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IW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0</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9 618 78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381 68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25 816 311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LD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4 159 764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275 0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73 019 50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OPs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1</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1 591 699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500 26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3 985 943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FA </a:t>
                      </a:r>
                      <a:endParaRPr b="0" lang="en-US" sz="900" spc="-1" strike="noStrike">
                        <a:solidFill>
                          <a:srgbClr val="000000"/>
                        </a:solidFill>
                        <a:latin typeface="Arial"/>
                      </a:endParaRPr>
                    </a:p>
                  </a:txBody>
                  <a:tcPr anchor="ctr">
                    <a:lnL w="5760">
                      <a:solidFill>
                        <a:srgbClr val="000000"/>
                      </a:solid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14</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7 655 681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948 500 </a:t>
                      </a:r>
                      <a:endParaRPr b="0" lang="en-US" sz="9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35 231 750 </a:t>
                      </a:r>
                      <a:endParaRPr b="0" lang="en-US" sz="900" spc="-1" strike="noStrike">
                        <a:solidFill>
                          <a:srgbClr val="000000"/>
                        </a:solidFill>
                        <a:latin typeface="Arial"/>
                      </a:endParaRPr>
                    </a:p>
                  </a:txBody>
                  <a:tcPr anchor="ctr">
                    <a:lnL>
                      <a:noFill/>
                    </a:lnL>
                    <a:lnR w="5760">
                      <a:solidFill>
                        <a:srgbClr val="000000"/>
                      </a:solidFill>
                    </a:lnR>
                    <a:lnT>
                      <a:noFill/>
                    </a:lnT>
                    <a:lnB>
                      <a:noFill/>
                    </a:lnB>
                    <a:noFill/>
                  </a:tcPr>
                </a:tc>
              </a:tr>
              <a:tr h="2001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TOTAL </a:t>
                      </a:r>
                      <a:endParaRPr b="0" lang="en-US" sz="900" spc="-1" strike="noStrike">
                        <a:solidFill>
                          <a:srgbClr val="000000"/>
                        </a:solidFill>
                        <a:latin typeface="Arial"/>
                      </a:endParaRPr>
                    </a:p>
                  </a:txBody>
                  <a:tcPr anchor="ctr">
                    <a:lnL w="5760">
                      <a:solidFill>
                        <a:srgbClr val="000000"/>
                      </a:solid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109</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324 136 462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3 226 499 </a:t>
                      </a:r>
                      <a:endParaRPr b="0" lang="en-US" sz="900" spc="-1" strike="noStrike">
                        <a:solidFill>
                          <a:srgbClr val="000000"/>
                        </a:solidFill>
                        <a:latin typeface="Arial"/>
                      </a:endParaRPr>
                    </a:p>
                  </a:txBody>
                  <a:tcPr anchor="ctr">
                    <a:lnL>
                      <a:noFill/>
                    </a:lnL>
                    <a:lnR>
                      <a:no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        </a:t>
                      </a:r>
                      <a:r>
                        <a:rPr b="1" i="1" lang="fr-FR" sz="900" spc="-1" strike="noStrike">
                          <a:solidFill>
                            <a:srgbClr val="000000"/>
                          </a:solidFill>
                          <a:latin typeface="Arial"/>
                        </a:rPr>
                        <a:t>1 307 449 611 </a:t>
                      </a:r>
                      <a:endParaRPr b="0" lang="en-US" sz="9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r>
            </a:tbl>
          </a:graphicData>
        </a:graphic>
      </p:graphicFrame>
      <p:graphicFrame>
        <p:nvGraphicFramePr>
          <p:cNvPr id="272" name=""/>
          <p:cNvGraphicFramePr/>
          <p:nvPr/>
        </p:nvGraphicFramePr>
        <p:xfrm>
          <a:off x="3352680" y="1143000"/>
          <a:ext cx="3505320" cy="365040"/>
        </p:xfrm>
        <a:graphic>
          <a:graphicData uri="http://schemas.openxmlformats.org/drawingml/2006/table">
            <a:tbl>
              <a:tblPr/>
              <a:tblGrid>
                <a:gridCol w="350532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9 projets (7 en cours, 102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ea typeface="Times New Roman"/>
                        </a:rPr>
                        <a:t>s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273" name="Chart 15" descr=""/>
          <p:cNvPicPr/>
          <p:nvPr/>
        </p:nvPicPr>
        <p:blipFill>
          <a:blip r:embed="rId2"/>
          <a:stretch/>
        </p:blipFill>
        <p:spPr>
          <a:xfrm>
            <a:off x="1365120" y="3803760"/>
            <a:ext cx="3975120" cy="3060720"/>
          </a:xfrm>
          <a:prstGeom prst="rect">
            <a:avLst/>
          </a:prstGeom>
          <a:ln w="0">
            <a:noFill/>
          </a:ln>
        </p:spPr>
      </p:pic>
      <p:pic>
        <p:nvPicPr>
          <p:cNvPr id="274" name="Chart 16" descr=""/>
          <p:cNvPicPr/>
          <p:nvPr/>
        </p:nvPicPr>
        <p:blipFill>
          <a:blip r:embed="rId3"/>
          <a:stretch/>
        </p:blipFill>
        <p:spPr>
          <a:xfrm>
            <a:off x="5407200" y="3882960"/>
            <a:ext cx="3504960" cy="2524320"/>
          </a:xfrm>
          <a:prstGeom prst="rect">
            <a:avLst/>
          </a:prstGeom>
          <a:ln w="0">
            <a:noFill/>
          </a:ln>
        </p:spPr>
      </p:pic>
      <p:pic>
        <p:nvPicPr>
          <p:cNvPr id="275" name="Chart 18" descr=""/>
          <p:cNvPicPr/>
          <p:nvPr/>
        </p:nvPicPr>
        <p:blipFill>
          <a:blip r:embed="rId4"/>
          <a:stretch/>
        </p:blipFill>
        <p:spPr>
          <a:xfrm>
            <a:off x="6016680" y="1974960"/>
            <a:ext cx="2895480" cy="1914480"/>
          </a:xfrm>
          <a:prstGeom prst="rect">
            <a:avLst/>
          </a:prstGeom>
          <a:ln w="0">
            <a:noFill/>
          </a:ln>
        </p:spPr>
      </p:pic>
      <p:sp>
        <p:nvSpPr>
          <p:cNvPr id="276" name="TextBox 19"/>
          <p:cNvSpPr/>
          <p:nvPr/>
        </p:nvSpPr>
        <p:spPr>
          <a:xfrm>
            <a:off x="5867280" y="1523880"/>
            <a:ext cx="3124440" cy="5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rtefeuille total (1,65 milliard US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cours (31 millions) et achevés (1,61 milliard)</a:t>
            </a:r>
            <a:endParaRPr b="0" lang="en-US" sz="11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1432080" y="73080"/>
            <a:ext cx="7510320" cy="1152360"/>
          </a:xfrm>
          <a:prstGeom prst="rect">
            <a:avLst/>
          </a:prstGeom>
          <a:ln w="0">
            <a:noFill/>
          </a:ln>
        </p:spPr>
      </p:pic>
      <p:sp>
        <p:nvSpPr>
          <p:cNvPr id="278" name="TextBox 4"/>
          <p:cNvSpPr/>
          <p:nvPr/>
        </p:nvSpPr>
        <p:spPr>
          <a:xfrm>
            <a:off x="3124080" y="9144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Portefeuille de projets nationaux (606,5 millions US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Times New Roman"/>
              </a:rPr>
              <a:t>68 projets (6 en cours, 62 achevés)</a:t>
            </a:r>
            <a:endParaRPr b="0" lang="en-US" sz="1200" spc="-1" strike="noStrike">
              <a:solidFill>
                <a:srgbClr val="000000"/>
              </a:solidFill>
              <a:latin typeface="Arial"/>
            </a:endParaRPr>
          </a:p>
        </p:txBody>
      </p:sp>
      <p:graphicFrame>
        <p:nvGraphicFramePr>
          <p:cNvPr id="279" name=""/>
          <p:cNvGraphicFramePr/>
          <p:nvPr/>
        </p:nvGraphicFramePr>
        <p:xfrm>
          <a:off x="3733920" y="1828800"/>
          <a:ext cx="2819160" cy="396720"/>
        </p:xfrm>
        <a:graphic>
          <a:graphicData uri="http://schemas.openxmlformats.org/drawingml/2006/table">
            <a:tbl>
              <a:tblPr/>
              <a:tblGrid>
                <a:gridCol w="1162080"/>
                <a:gridCol w="1657080"/>
              </a:tblGrid>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ns du FEM</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financements</a:t>
                      </a:r>
                      <a:endParaRPr b="0" lang="en-US" sz="1200" spc="-1" strike="noStrike">
                        <a:solidFill>
                          <a:srgbClr val="000000"/>
                        </a:solidFill>
                        <a:latin typeface="Arial"/>
                      </a:endParaRPr>
                    </a:p>
                  </a:txBody>
                  <a:tcPr anchor="ctr">
                    <a:lnL>
                      <a:noFill/>
                    </a:lnL>
                    <a:lnR>
                      <a:noFill/>
                    </a:lnR>
                    <a:lnT>
                      <a:noFill/>
                    </a:lnT>
                    <a:lnB>
                      <a:noFill/>
                    </a:lnB>
                    <a:noFill/>
                  </a:tcPr>
                </a:tc>
              </a:tr>
              <a:tr h="198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3 104 04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0 423 331 </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80" name="Rectangle 9"/>
          <p:cNvSpPr/>
          <p:nvPr/>
        </p:nvSpPr>
        <p:spPr>
          <a:xfrm>
            <a:off x="1272960" y="2362320"/>
            <a:ext cx="253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 cours (6 projets – 1,8 million)</a:t>
            </a:r>
            <a:endParaRPr b="0" lang="en-US" sz="1200" spc="-1" strike="noStrike">
              <a:solidFill>
                <a:srgbClr val="000000"/>
              </a:solidFill>
              <a:latin typeface="Arial"/>
            </a:endParaRPr>
          </a:p>
        </p:txBody>
      </p:sp>
      <p:sp>
        <p:nvSpPr>
          <p:cNvPr id="281" name="Rectangle 10"/>
          <p:cNvSpPr/>
          <p:nvPr/>
        </p:nvSpPr>
        <p:spPr>
          <a:xfrm>
            <a:off x="5943600" y="2286000"/>
            <a:ext cx="312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hevés (62 projets – 604,6  millions)</a:t>
            </a:r>
            <a:endParaRPr b="0" lang="en-US" sz="1200" spc="-1" strike="noStrike">
              <a:solidFill>
                <a:srgbClr val="000000"/>
              </a:solidFill>
              <a:latin typeface="Arial"/>
            </a:endParaRPr>
          </a:p>
        </p:txBody>
      </p:sp>
      <p:pic>
        <p:nvPicPr>
          <p:cNvPr id="282" name="Chart 12" descr=""/>
          <p:cNvPicPr/>
          <p:nvPr/>
        </p:nvPicPr>
        <p:blipFill>
          <a:blip r:embed="rId2"/>
          <a:stretch/>
        </p:blipFill>
        <p:spPr>
          <a:xfrm>
            <a:off x="5022720" y="2736720"/>
            <a:ext cx="4432320" cy="3743280"/>
          </a:xfrm>
          <a:prstGeom prst="rect">
            <a:avLst/>
          </a:prstGeom>
          <a:ln w="0">
            <a:noFill/>
          </a:ln>
        </p:spPr>
      </p:pic>
      <p:pic>
        <p:nvPicPr>
          <p:cNvPr id="283" name="Chart 13" descr=""/>
          <p:cNvPicPr/>
          <p:nvPr/>
        </p:nvPicPr>
        <p:blipFill>
          <a:blip r:embed="rId3"/>
          <a:stretch/>
        </p:blipFill>
        <p:spPr>
          <a:xfrm>
            <a:off x="1139760" y="2736720"/>
            <a:ext cx="3816360" cy="3743280"/>
          </a:xfrm>
          <a:prstGeom prst="rect">
            <a:avLst/>
          </a:prstGeom>
          <a:ln w="0">
            <a:noFill/>
          </a:ln>
        </p:spPr>
      </p:pic>
      <p:sp>
        <p:nvSpPr>
          <p:cNvPr id="284" name="TextBox 11"/>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1432080" y="73080"/>
            <a:ext cx="7510320" cy="1152360"/>
          </a:xfrm>
          <a:prstGeom prst="rect">
            <a:avLst/>
          </a:prstGeom>
          <a:ln w="0">
            <a:noFill/>
          </a:ln>
        </p:spPr>
      </p:pic>
      <p:graphicFrame>
        <p:nvGraphicFramePr>
          <p:cNvPr id="286" name=""/>
          <p:cNvGraphicFramePr/>
          <p:nvPr/>
        </p:nvGraphicFramePr>
        <p:xfrm>
          <a:off x="2666880" y="1523880"/>
          <a:ext cx="4572000" cy="1667160"/>
        </p:xfrm>
        <a:graphic>
          <a:graphicData uri="http://schemas.openxmlformats.org/drawingml/2006/table">
            <a:tbl>
              <a:tblPr/>
              <a:tblGrid>
                <a:gridCol w="839880"/>
                <a:gridCol w="836640"/>
                <a:gridCol w="998640"/>
                <a:gridCol w="796680"/>
                <a:gridCol w="1100160"/>
              </a:tblGrid>
              <a:tr h="314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Domaine d’intervention</a:t>
                      </a:r>
                      <a:endParaRPr b="0" lang="en-US" sz="9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Nombre de projets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Montant des dons</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PPG </a:t>
                      </a:r>
                      <a:endParaRPr b="0" lang="en-US" sz="9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ofinancement </a:t>
                      </a:r>
                      <a:endParaRPr b="0" lang="en-US" sz="9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D</a:t>
                      </a:r>
                      <a:endParaRPr b="0" lang="en-US" sz="9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 293 746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788 338 </a:t>
                      </a:r>
                      <a:endParaRPr b="0" lang="en-US" sz="9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4 336 050 </a:t>
                      </a:r>
                      <a:endParaRPr b="0" lang="en-US" sz="9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 284 968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237 87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4 024 526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W</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 800 60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381 68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25 816 311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D</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 159 764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575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4 019 50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Ps</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 419 479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00 26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3 872 143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19044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FA</a:t>
                      </a:r>
                      <a:endParaRPr b="0" lang="en-US" sz="900" spc="-1" strike="noStrike">
                        <a:solidFill>
                          <a:srgbClr val="000000"/>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 255 681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49 000 </a:t>
                      </a:r>
                      <a:endParaRPr b="0" lang="en-US" sz="9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 957 750 </a:t>
                      </a:r>
                      <a:endParaRPr b="0" lang="en-US" sz="900" spc="-1" strike="noStrike">
                        <a:solidFill>
                          <a:srgbClr val="000000"/>
                        </a:solidFill>
                        <a:latin typeface="Arial"/>
                      </a:endParaRPr>
                    </a:p>
                  </a:txBody>
                  <a:tcPr anchor="b">
                    <a:lnL>
                      <a:noFill/>
                    </a:lnL>
                    <a:lnR w="5760">
                      <a:solidFill>
                        <a:srgbClr val="000000"/>
                      </a:solidFill>
                    </a:lnR>
                    <a:lnT>
                      <a:noFill/>
                    </a:lnT>
                    <a:lnB>
                      <a:noFill/>
                    </a:lnB>
                    <a:noFill/>
                  </a:tcPr>
                </a:tc>
              </a:tr>
              <a:tr h="200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OTAL</a:t>
                      </a:r>
                      <a:endParaRPr b="0" lang="en-US" sz="900" spc="-1" strike="noStrike">
                        <a:solidFill>
                          <a:srgbClr val="000000"/>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41</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219 214 242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10 332 149 </a:t>
                      </a:r>
                      <a:endParaRPr b="0" lang="en-US" sz="900" spc="-1" strike="noStrike">
                        <a:solidFill>
                          <a:srgbClr val="000000"/>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807 026,280 </a:t>
                      </a:r>
                      <a:endParaRPr b="0" lang="en-US" sz="900" spc="-1" strike="noStrike">
                        <a:solidFill>
                          <a:srgbClr val="000000"/>
                        </a:solidFill>
                        <a:latin typeface="Arial"/>
                      </a:endParaRPr>
                    </a:p>
                  </a:txBody>
                  <a:tcPr anchor="b">
                    <a:lnL>
                      <a:noFill/>
                    </a:lnL>
                    <a:lnR w="5760">
                      <a:solidFill>
                        <a:srgbClr val="000000"/>
                      </a:solidFill>
                    </a:lnR>
                    <a:lnT>
                      <a:noFill/>
                    </a:lnT>
                    <a:lnB w="5760">
                      <a:solidFill>
                        <a:srgbClr val="000000"/>
                      </a:solidFill>
                    </a:lnB>
                    <a:noFill/>
                  </a:tcPr>
                </a:tc>
              </a:tr>
            </a:tbl>
          </a:graphicData>
        </a:graphic>
      </p:graphicFrame>
      <p:pic>
        <p:nvPicPr>
          <p:cNvPr id="287" name="Chart 8" descr=""/>
          <p:cNvPicPr/>
          <p:nvPr/>
        </p:nvPicPr>
        <p:blipFill>
          <a:blip r:embed="rId2"/>
          <a:stretch/>
        </p:blipFill>
        <p:spPr>
          <a:xfrm>
            <a:off x="5479920" y="3498840"/>
            <a:ext cx="4280040" cy="3133800"/>
          </a:xfrm>
          <a:prstGeom prst="rect">
            <a:avLst/>
          </a:prstGeom>
          <a:ln w="0">
            <a:noFill/>
          </a:ln>
        </p:spPr>
      </p:pic>
      <p:pic>
        <p:nvPicPr>
          <p:cNvPr id="288" name="Chart 9" descr=""/>
          <p:cNvPicPr/>
          <p:nvPr/>
        </p:nvPicPr>
        <p:blipFill>
          <a:blip r:embed="rId3"/>
          <a:stretch/>
        </p:blipFill>
        <p:spPr>
          <a:xfrm>
            <a:off x="1365120" y="3578400"/>
            <a:ext cx="4127760" cy="3054240"/>
          </a:xfrm>
          <a:prstGeom prst="rect">
            <a:avLst/>
          </a:prstGeom>
          <a:ln w="0">
            <a:noFill/>
          </a:ln>
        </p:spPr>
      </p:pic>
      <p:sp>
        <p:nvSpPr>
          <p:cNvPr id="289" name="TextBox 10"/>
          <p:cNvSpPr/>
          <p:nvPr/>
        </p:nvSpPr>
        <p:spPr>
          <a:xfrm>
            <a:off x="1981080" y="33526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sp>
        <p:nvSpPr>
          <p:cNvPr id="290" name="TextBox 11"/>
          <p:cNvSpPr/>
          <p:nvPr/>
        </p:nvSpPr>
        <p:spPr>
          <a:xfrm>
            <a:off x="6248520" y="3352680"/>
            <a:ext cx="2743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ments par domaine d’intervention</a:t>
            </a:r>
            <a:endParaRPr b="0" lang="en-US" sz="1200" spc="-1" strike="noStrike">
              <a:solidFill>
                <a:srgbClr val="000000"/>
              </a:solidFill>
              <a:latin typeface="Arial"/>
            </a:endParaRPr>
          </a:p>
        </p:txBody>
      </p:sp>
      <p:graphicFrame>
        <p:nvGraphicFramePr>
          <p:cNvPr id="291" name=""/>
          <p:cNvGraphicFramePr/>
          <p:nvPr/>
        </p:nvGraphicFramePr>
        <p:xfrm>
          <a:off x="3200400" y="914400"/>
          <a:ext cx="3886200" cy="365040"/>
        </p:xfrm>
        <a:graphic>
          <a:graphicData uri="http://schemas.openxmlformats.org/drawingml/2006/table">
            <a:tbl>
              <a:tblPr/>
              <a:tblGrid>
                <a:gridCol w="3886200"/>
              </a:tblGrid>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1 (1 en cours, 40 achevés)</a:t>
                      </a:r>
                      <a:endParaRPr b="0" lang="en-US" sz="1200" spc="-1" strike="noStrike">
                        <a:solidFill>
                          <a:srgbClr val="000000"/>
                        </a:solidFill>
                        <a:latin typeface="Arial"/>
                      </a:endParaRPr>
                    </a:p>
                  </a:txBody>
                  <a:tcPr anchor="ctr">
                    <a:lnL>
                      <a:noFill/>
                    </a:lnL>
                    <a:lnR>
                      <a:noFill/>
                    </a:lnR>
                    <a:lnT>
                      <a:noFill/>
                    </a:lnT>
                    <a:lnB>
                      <a:noFill/>
                    </a:lnB>
                    <a:noFill/>
                  </a:tcPr>
                </a:tc>
              </a:tr>
              <a:tr h="182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t>
                      </a:r>
                      <a:r>
                        <a:rPr b="1" lang="fr-FR" sz="1200" spc="-1" strike="noStrike">
                          <a:solidFill>
                            <a:srgbClr val="000000"/>
                          </a:solidFill>
                          <a:latin typeface="Calibri"/>
                          <a:ea typeface="Times New Roman"/>
                        </a:rPr>
                        <a:t>auf projets abandonnés, annulés, refusés)</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92" name="TextBox 13"/>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1432080" y="73080"/>
            <a:ext cx="7510320" cy="1152360"/>
          </a:xfrm>
          <a:prstGeom prst="rect">
            <a:avLst/>
          </a:prstGeom>
          <a:ln w="0">
            <a:noFill/>
          </a:ln>
        </p:spPr>
      </p:pic>
      <p:pic>
        <p:nvPicPr>
          <p:cNvPr id="294" name="Chart 3" descr=""/>
          <p:cNvPicPr/>
          <p:nvPr/>
        </p:nvPicPr>
        <p:blipFill>
          <a:blip r:embed="rId2"/>
          <a:stretch/>
        </p:blipFill>
        <p:spPr>
          <a:xfrm>
            <a:off x="1212840" y="4260960"/>
            <a:ext cx="3517920" cy="2603520"/>
          </a:xfrm>
          <a:prstGeom prst="rect">
            <a:avLst/>
          </a:prstGeom>
          <a:ln w="0">
            <a:noFill/>
          </a:ln>
        </p:spPr>
      </p:pic>
      <p:pic>
        <p:nvPicPr>
          <p:cNvPr id="295" name="Chart 6" descr=""/>
          <p:cNvPicPr/>
          <p:nvPr/>
        </p:nvPicPr>
        <p:blipFill>
          <a:blip r:embed="rId3"/>
          <a:stretch/>
        </p:blipFill>
        <p:spPr>
          <a:xfrm>
            <a:off x="1139760" y="1444680"/>
            <a:ext cx="4273560" cy="2425680"/>
          </a:xfrm>
          <a:prstGeom prst="rect">
            <a:avLst/>
          </a:prstGeom>
          <a:ln w="0">
            <a:noFill/>
          </a:ln>
        </p:spPr>
      </p:pic>
      <p:sp>
        <p:nvSpPr>
          <p:cNvPr id="296" name="TextBox 7"/>
          <p:cNvSpPr/>
          <p:nvPr/>
        </p:nvSpPr>
        <p:spPr>
          <a:xfrm>
            <a:off x="1295280" y="12193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taille de projet</a:t>
            </a:r>
            <a:endParaRPr b="0" lang="en-US" sz="1200" spc="-1" strike="noStrike">
              <a:solidFill>
                <a:srgbClr val="000000"/>
              </a:solidFill>
              <a:latin typeface="Arial"/>
            </a:endParaRPr>
          </a:p>
        </p:txBody>
      </p:sp>
      <p:sp>
        <p:nvSpPr>
          <p:cNvPr id="297" name="TextBox 8"/>
          <p:cNvSpPr/>
          <p:nvPr/>
        </p:nvSpPr>
        <p:spPr>
          <a:xfrm>
            <a:off x="1371600" y="4038480"/>
            <a:ext cx="3352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domaine d’intervention</a:t>
            </a:r>
            <a:endParaRPr b="0" lang="en-US" sz="1200" spc="-1" strike="noStrike">
              <a:solidFill>
                <a:srgbClr val="000000"/>
              </a:solidFill>
              <a:latin typeface="Arial"/>
            </a:endParaRPr>
          </a:p>
        </p:txBody>
      </p:sp>
      <p:pic>
        <p:nvPicPr>
          <p:cNvPr id="298" name="Chart 10" descr=""/>
          <p:cNvPicPr/>
          <p:nvPr/>
        </p:nvPicPr>
        <p:blipFill>
          <a:blip r:embed="rId4"/>
          <a:stretch/>
        </p:blipFill>
        <p:spPr>
          <a:xfrm>
            <a:off x="4950000" y="4260960"/>
            <a:ext cx="4047840" cy="2603520"/>
          </a:xfrm>
          <a:prstGeom prst="rect">
            <a:avLst/>
          </a:prstGeom>
          <a:ln w="0">
            <a:noFill/>
          </a:ln>
        </p:spPr>
      </p:pic>
      <p:pic>
        <p:nvPicPr>
          <p:cNvPr id="299" name="Chart 11" descr=""/>
          <p:cNvPicPr/>
          <p:nvPr/>
        </p:nvPicPr>
        <p:blipFill>
          <a:blip r:embed="rId5"/>
          <a:stretch/>
        </p:blipFill>
        <p:spPr>
          <a:xfrm>
            <a:off x="5102280" y="1517760"/>
            <a:ext cx="4048200" cy="2328840"/>
          </a:xfrm>
          <a:prstGeom prst="rect">
            <a:avLst/>
          </a:prstGeom>
          <a:ln w="0">
            <a:noFill/>
          </a:ln>
        </p:spPr>
      </p:pic>
      <p:sp>
        <p:nvSpPr>
          <p:cNvPr id="300" name="TextBox 12"/>
          <p:cNvSpPr/>
          <p:nvPr/>
        </p:nvSpPr>
        <p:spPr>
          <a:xfrm>
            <a:off x="5715000" y="121932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taille de projet</a:t>
            </a:r>
            <a:endParaRPr b="0" lang="en-US" sz="1200" spc="-1" strike="noStrike">
              <a:solidFill>
                <a:srgbClr val="000000"/>
              </a:solidFill>
              <a:latin typeface="Arial"/>
            </a:endParaRPr>
          </a:p>
        </p:txBody>
      </p:sp>
      <p:sp>
        <p:nvSpPr>
          <p:cNvPr id="301" name="TextBox 13"/>
          <p:cNvSpPr/>
          <p:nvPr/>
        </p:nvSpPr>
        <p:spPr>
          <a:xfrm>
            <a:off x="5943600" y="396252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domaine d’intervention</a:t>
            </a:r>
            <a:endParaRPr b="0" lang="en-US" sz="1200" spc="-1" strike="noStrike">
              <a:solidFill>
                <a:srgbClr val="000000"/>
              </a:solidFill>
              <a:latin typeface="Arial"/>
            </a:endParaRPr>
          </a:p>
        </p:txBody>
      </p:sp>
      <p:sp>
        <p:nvSpPr>
          <p:cNvPr id="302" name="TextBox 14"/>
          <p:cNvSpPr/>
          <p:nvPr/>
        </p:nvSpPr>
        <p:spPr>
          <a:xfrm>
            <a:off x="76320" y="228600"/>
            <a:ext cx="106668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Chart 3" descr=""/>
          <p:cNvPicPr/>
          <p:nvPr/>
        </p:nvPicPr>
        <p:blipFill>
          <a:blip r:embed="rId1"/>
          <a:stretch/>
        </p:blipFill>
        <p:spPr>
          <a:xfrm>
            <a:off x="1212840" y="1596960"/>
            <a:ext cx="7785000" cy="2139840"/>
          </a:xfrm>
          <a:prstGeom prst="rect">
            <a:avLst/>
          </a:prstGeom>
          <a:ln w="0">
            <a:noFill/>
          </a:ln>
        </p:spPr>
      </p:pic>
      <p:sp>
        <p:nvSpPr>
          <p:cNvPr id="304" name="TextBox 4"/>
          <p:cNvSpPr/>
          <p:nvPr/>
        </p:nvSpPr>
        <p:spPr>
          <a:xfrm>
            <a:off x="3429000" y="144792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mbre de projets par Entité d’exécution</a:t>
            </a:r>
            <a:endParaRPr b="0" lang="en-US" sz="1200" spc="-1" strike="noStrike">
              <a:solidFill>
                <a:srgbClr val="000000"/>
              </a:solidFill>
              <a:latin typeface="Arial"/>
            </a:endParaRPr>
          </a:p>
        </p:txBody>
      </p:sp>
      <p:pic>
        <p:nvPicPr>
          <p:cNvPr id="305" name="Chart 5" descr=""/>
          <p:cNvPicPr/>
          <p:nvPr/>
        </p:nvPicPr>
        <p:blipFill>
          <a:blip r:embed="rId2"/>
          <a:stretch/>
        </p:blipFill>
        <p:spPr>
          <a:xfrm>
            <a:off x="1139760" y="3956040"/>
            <a:ext cx="8163000" cy="2908440"/>
          </a:xfrm>
          <a:prstGeom prst="rect">
            <a:avLst/>
          </a:prstGeom>
          <a:ln w="0">
            <a:noFill/>
          </a:ln>
        </p:spPr>
      </p:pic>
      <p:sp>
        <p:nvSpPr>
          <p:cNvPr id="306" name="TextBox 6"/>
          <p:cNvSpPr/>
          <p:nvPr/>
        </p:nvSpPr>
        <p:spPr>
          <a:xfrm>
            <a:off x="3124080" y="3733920"/>
            <a:ext cx="396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tant des financements par Entité d’exécution</a:t>
            </a:r>
            <a:endParaRPr b="0" lang="en-US" sz="1200" spc="-1" strike="noStrike">
              <a:solidFill>
                <a:srgbClr val="000000"/>
              </a:solidFill>
              <a:latin typeface="Arial"/>
            </a:endParaRPr>
          </a:p>
        </p:txBody>
      </p:sp>
      <p:pic>
        <p:nvPicPr>
          <p:cNvPr id="307" name="Title 1" descr=""/>
          <p:cNvPicPr/>
          <p:nvPr/>
        </p:nvPicPr>
        <p:blipFill>
          <a:blip r:embed="rId3"/>
          <a:stretch/>
        </p:blipFill>
        <p:spPr>
          <a:xfrm>
            <a:off x="1432080" y="73080"/>
            <a:ext cx="7510320" cy="1152360"/>
          </a:xfrm>
          <a:prstGeom prst="rect">
            <a:avLst/>
          </a:prstGeom>
          <a:ln w="0">
            <a:noFill/>
          </a:ln>
        </p:spPr>
      </p:pic>
      <p:sp>
        <p:nvSpPr>
          <p:cNvPr id="308" name="TextBox 8"/>
          <p:cNvSpPr/>
          <p:nvPr/>
        </p:nvSpPr>
        <p:spPr>
          <a:xfrm>
            <a:off x="76320" y="228600"/>
            <a:ext cx="990360" cy="34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Burund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amerou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ab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Guinée équatorial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centrafricain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République démocratique du Cong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Sao Tomé-et- Principe</a:t>
            </a:r>
            <a:endParaRPr b="0" lang="en-US" sz="11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93CB-EF85-436F-BCDA-8E7D25E78869}"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pic>
        <p:nvPicPr>
          <p:cNvPr id="146" name="Picture 2" descr=""/>
          <p:cNvPicPr/>
          <p:nvPr/>
        </p:nvPicPr>
        <p:blipFill>
          <a:blip r:embed="rId1"/>
          <a:stretch/>
        </p:blipFill>
        <p:spPr>
          <a:xfrm>
            <a:off x="0" y="6321600"/>
            <a:ext cx="1219320" cy="536400"/>
          </a:xfrm>
          <a:prstGeom prst="rect">
            <a:avLst/>
          </a:prstGeom>
          <a:ln w="0">
            <a:noFill/>
          </a:ln>
        </p:spPr>
      </p:pic>
      <p:pic>
        <p:nvPicPr>
          <p:cNvPr id="147" name="Title 1" descr=""/>
          <p:cNvPicPr/>
          <p:nvPr/>
        </p:nvPicPr>
        <p:blipFill>
          <a:blip r:embed="rId2"/>
          <a:stretch/>
        </p:blipFill>
        <p:spPr>
          <a:xfrm>
            <a:off x="1517760" y="171360"/>
            <a:ext cx="7480080" cy="1157400"/>
          </a:xfrm>
          <a:prstGeom prst="rect">
            <a:avLst/>
          </a:prstGeom>
          <a:ln w="0">
            <a:noFill/>
          </a:ln>
        </p:spPr>
      </p:pic>
      <p:sp>
        <p:nvSpPr>
          <p:cNvPr id="148" name="Content Placeholder 2"/>
          <p:cNvSpPr/>
          <p:nvPr/>
        </p:nvSpPr>
        <p:spPr>
          <a:xfrm>
            <a:off x="1295280" y="1600200"/>
            <a:ext cx="7620120" cy="487692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estion à objectifs de résultats(GOR) – Définition des buts et objectifs, suivi, apprentissage et prise de décisions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est destinée à vérifier la « réalité » de la GOR</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a GOR, et en particulier le suivi, indiquent si l’organisation est </a:t>
            </a:r>
            <a:r>
              <a:rPr b="1" sz="2800" spc="-1" strike="noStrike">
                <a:solidFill>
                  <a:srgbClr val="006600"/>
                </a:solidFill>
                <a:latin typeface="Calibri"/>
                <a:ea typeface="Verdana"/>
              </a:rPr>
              <a:t>“bien engagée”.</a:t>
            </a:r>
            <a:r>
              <a:rPr b="0" sz="2800" spc="-1" strike="noStrike">
                <a:solidFill>
                  <a:srgbClr val="000000"/>
                </a:solidFill>
                <a:latin typeface="Calibri"/>
                <a:ea typeface="Verdana"/>
              </a:rPr>
              <a:t> </a:t>
            </a:r>
            <a:endParaRPr b="0" lang="en-US" sz="2800" spc="-1" strike="noStrike">
              <a:solidFill>
                <a:srgbClr val="000000"/>
              </a:solidFill>
              <a:latin typeface="Arial"/>
            </a:endParaRPr>
          </a:p>
          <a:p>
            <a:pPr marL="568440" indent="-56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Calibri"/>
                <a:ea typeface="Verdana"/>
              </a:rPr>
              <a:t>L’évaluation peut indiquer si l’organisation est </a:t>
            </a:r>
            <a:r>
              <a:rPr b="0" sz="2800" spc="-1" strike="noStrike">
                <a:solidFill>
                  <a:srgbClr val="c00000"/>
                </a:solidFill>
                <a:latin typeface="Calibri"/>
                <a:ea typeface="Verdana"/>
              </a:rPr>
              <a:t>« sur la </a:t>
            </a:r>
            <a:r>
              <a:rPr b="1" sz="2800" spc="-1" strike="noStrike">
                <a:solidFill>
                  <a:srgbClr val="c00000"/>
                </a:solidFill>
                <a:latin typeface="Calibri"/>
                <a:ea typeface="Verdana"/>
              </a:rPr>
              <a:t>bonne</a:t>
            </a:r>
            <a:r>
              <a:rPr b="0" sz="2800" spc="-1" strike="noStrike">
                <a:solidFill>
                  <a:srgbClr val="c00000"/>
                </a:solidFill>
                <a:latin typeface="Calibri"/>
                <a:ea typeface="Verdana"/>
              </a:rPr>
              <a:t> voie ».</a:t>
            </a:r>
            <a:endParaRPr b="0" lang="en-US" sz="28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828800" y="1142640"/>
            <a:ext cx="6934320" cy="2514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a50021"/>
                </a:solidFill>
                <a:latin typeface="Calibri"/>
              </a:rPr>
              <a:t>Merci de votre attention </a:t>
            </a:r>
            <a:r>
              <a:rPr b="0" i="1" lang="en-US" sz="3600" spc="-1" strike="noStrike">
                <a:solidFill>
                  <a:srgbClr val="a50021"/>
                </a:solidFill>
                <a:latin typeface="Calibri"/>
              </a:rPr>
              <a:t>!</a:t>
            </a:r>
            <a:endParaRPr b="0" lang="en-US" sz="3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gefeo.org</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Slide Number Placeholder 5"/>
          <p:cNvSpPr/>
          <p:nvPr/>
        </p:nvSpPr>
        <p:spPr>
          <a:xfrm>
            <a:off x="84240" y="6357960"/>
            <a:ext cx="587160" cy="474480"/>
          </a:xfrm>
          <a:prstGeom prst="rect">
            <a:avLst/>
          </a:prstGeom>
          <a:noFill/>
          <a:ln w="0">
            <a:noFill/>
          </a:ln>
        </p:spPr>
        <p:style>
          <a:lnRef idx="0"/>
          <a:fillRef idx="0"/>
          <a:effectRef idx="0"/>
          <a:fontRef idx="minor"/>
        </p:style>
        <p:txBody>
          <a:bodyPr lIns="86400" rIns="864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19B5-3EF0-4085-BC07-2FAE0B2F4A4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1212840" y="244440"/>
            <a:ext cx="7937640" cy="828720"/>
          </a:xfrm>
          <a:prstGeom prst="rect">
            <a:avLst/>
          </a:prstGeom>
          <a:ln w="0">
            <a:noFill/>
          </a:ln>
        </p:spPr>
      </p:pic>
      <p:sp>
        <p:nvSpPr>
          <p:cNvPr id="150" name=""/>
          <p:cNvSpPr txBox="1"/>
          <p:nvPr/>
        </p:nvSpPr>
        <p:spPr>
          <a:xfrm>
            <a:off x="1294920" y="1294920"/>
            <a:ext cx="76201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eux objectifs primordiaux </a:t>
            </a:r>
            <a:r>
              <a:rPr b="0" lang="fr-FR" sz="2800" spc="-1" strike="noStrike">
                <a:solidFill>
                  <a:srgbClr val="c00000"/>
                </a:solidFill>
                <a:latin typeface="Calibri"/>
              </a:rPr>
              <a:t>:</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la </a:t>
            </a:r>
            <a:r>
              <a:rPr b="1" lang="fr-FR" sz="2400" spc="-1" strike="noStrike">
                <a:solidFill>
                  <a:srgbClr val="000000"/>
                </a:solidFill>
                <a:latin typeface="Calibri"/>
              </a:rPr>
              <a:t>responsabilisation</a:t>
            </a:r>
            <a:r>
              <a:rPr b="0" lang="fr-FR" sz="2400" spc="-1" strike="noStrike">
                <a:solidFill>
                  <a:srgbClr val="000000"/>
                </a:solidFill>
                <a:latin typeface="Calibri"/>
              </a:rPr>
              <a:t> en vue d’atteindre les objectifs du FEM grâce à la détermination des </a:t>
            </a:r>
            <a:r>
              <a:rPr b="0" lang="fr-FR" sz="2400" spc="-1" strike="noStrike">
                <a:solidFill>
                  <a:srgbClr val="006600"/>
                </a:solidFill>
                <a:latin typeface="Calibri"/>
              </a:rPr>
              <a:t>résultats</a:t>
            </a:r>
            <a:r>
              <a:rPr b="0" lang="fr-FR" sz="2400" spc="-1" strike="noStrike">
                <a:solidFill>
                  <a:srgbClr val="000000"/>
                </a:solidFill>
                <a:latin typeface="Calibri"/>
              </a:rPr>
              <a:t>, de </a:t>
            </a:r>
            <a:r>
              <a:rPr b="0" lang="fr-FR" sz="2400" spc="-1" strike="noStrike">
                <a:solidFill>
                  <a:srgbClr val="006600"/>
                </a:solidFill>
                <a:latin typeface="Calibri"/>
              </a:rPr>
              <a:t>l’efficacité</a:t>
            </a:r>
            <a:r>
              <a:rPr b="0" lang="fr-FR" sz="2400" spc="-1" strike="noStrike">
                <a:solidFill>
                  <a:srgbClr val="000000"/>
                </a:solidFill>
                <a:latin typeface="Calibri"/>
              </a:rPr>
              <a:t>, des </a:t>
            </a:r>
            <a:r>
              <a:rPr b="0" lang="fr-FR" sz="2400" spc="-1" strike="noStrike">
                <a:solidFill>
                  <a:srgbClr val="006600"/>
                </a:solidFill>
                <a:latin typeface="Calibri"/>
              </a:rPr>
              <a:t>processus</a:t>
            </a:r>
            <a:r>
              <a:rPr b="0" lang="fr-FR" sz="2400" spc="-1" strike="noStrike">
                <a:solidFill>
                  <a:srgbClr val="000000"/>
                </a:solidFill>
                <a:latin typeface="Calibri"/>
              </a:rPr>
              <a:t> et de la </a:t>
            </a:r>
            <a:r>
              <a:rPr b="0" lang="fr-FR" sz="2400" spc="-1" strike="noStrike">
                <a:solidFill>
                  <a:srgbClr val="006600"/>
                </a:solidFill>
                <a:latin typeface="Calibri"/>
              </a:rPr>
              <a:t>performance</a:t>
            </a:r>
            <a:r>
              <a:rPr b="0" lang="fr-FR" sz="2400" spc="-1" strike="noStrike">
                <a:solidFill>
                  <a:srgbClr val="000000"/>
                </a:solidFill>
                <a:latin typeface="Calibri"/>
              </a:rPr>
              <a:t> des partenaires qui s’occupent des activités du Fon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mouvoir </a:t>
            </a:r>
            <a:r>
              <a:rPr b="1" lang="fr-FR" sz="2400" spc="-1" strike="noStrike">
                <a:solidFill>
                  <a:srgbClr val="000000"/>
                </a:solidFill>
                <a:latin typeface="Calibri"/>
              </a:rPr>
              <a:t>l’apprentissage</a:t>
            </a:r>
            <a:r>
              <a:rPr b="0" lang="fr-FR" sz="2400" spc="-1" strike="noStrike">
                <a:solidFill>
                  <a:srgbClr val="000000"/>
                </a:solidFill>
                <a:latin typeface="Calibri"/>
              </a:rPr>
              <a:t>, la </a:t>
            </a:r>
            <a:r>
              <a:rPr b="1" lang="fr-FR" sz="2400" spc="-1" strike="noStrike">
                <a:solidFill>
                  <a:srgbClr val="000000"/>
                </a:solidFill>
                <a:latin typeface="Calibri"/>
              </a:rPr>
              <a:t>rétroaction</a:t>
            </a:r>
            <a:r>
              <a:rPr b="0" lang="fr-FR" sz="2400" spc="-1" strike="noStrike">
                <a:solidFill>
                  <a:srgbClr val="000000"/>
                </a:solidFill>
                <a:latin typeface="Calibri"/>
              </a:rPr>
              <a:t> et </a:t>
            </a:r>
            <a:r>
              <a:rPr b="1" lang="fr-FR" sz="2400" spc="-1" strike="noStrike">
                <a:solidFill>
                  <a:srgbClr val="000000"/>
                </a:solidFill>
                <a:latin typeface="Calibri"/>
              </a:rPr>
              <a:t>l’échange</a:t>
            </a:r>
            <a:r>
              <a:rPr b="0" lang="fr-FR" sz="2400" spc="-1" strike="noStrike">
                <a:solidFill>
                  <a:srgbClr val="000000"/>
                </a:solidFill>
                <a:latin typeface="Calibri"/>
              </a:rPr>
              <a:t> </a:t>
            </a:r>
            <a:r>
              <a:rPr b="1" lang="fr-FR" sz="2400" spc="-1" strike="noStrike">
                <a:solidFill>
                  <a:srgbClr val="000000"/>
                </a:solidFill>
                <a:latin typeface="Calibri"/>
              </a:rPr>
              <a:t>de</a:t>
            </a:r>
            <a:r>
              <a:rPr b="0" lang="fr-FR" sz="2400" spc="-1" strike="noStrike">
                <a:solidFill>
                  <a:srgbClr val="000000"/>
                </a:solidFill>
                <a:latin typeface="Calibri"/>
              </a:rPr>
              <a:t> </a:t>
            </a:r>
            <a:r>
              <a:rPr b="1" lang="fr-FR" sz="2400" spc="-1" strike="noStrike">
                <a:solidFill>
                  <a:srgbClr val="000000"/>
                </a:solidFill>
                <a:latin typeface="Calibri"/>
              </a:rPr>
              <a:t>connaissances</a:t>
            </a:r>
            <a:r>
              <a:rPr b="0" lang="fr-FR" sz="2400" spc="-1" strike="noStrike">
                <a:solidFill>
                  <a:srgbClr val="000000"/>
                </a:solidFill>
                <a:latin typeface="Calibri"/>
              </a:rPr>
              <a:t> sur les résultats et les enseignements tirés entre le FEM et ses partenaires, comme fondement de la prise de décisions sur les politiques, les stratégies, la gestion des programmes et les projets, et pour améliorer les </a:t>
            </a:r>
            <a:r>
              <a:rPr b="1" lang="fr-FR" sz="2400" spc="-1" strike="noStrike">
                <a:solidFill>
                  <a:srgbClr val="000000"/>
                </a:solidFill>
                <a:latin typeface="Calibri"/>
              </a:rPr>
              <a:t>connaissances</a:t>
            </a:r>
            <a:r>
              <a:rPr b="0" lang="fr-FR" sz="2400" spc="-1" strike="noStrike">
                <a:solidFill>
                  <a:srgbClr val="000000"/>
                </a:solidFill>
                <a:latin typeface="Calibri"/>
              </a:rPr>
              <a:t> et la </a:t>
            </a:r>
            <a:r>
              <a:rPr b="1" lang="fr-FR" sz="2400" spc="-1" strike="noStrike">
                <a:solidFill>
                  <a:srgbClr val="000000"/>
                </a:solidFill>
                <a:latin typeface="Calibri"/>
              </a:rPr>
              <a:t>perform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Slide Number Placeholder 4"/>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359F-EB26-45C4-831F-B840407B8672}"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1249200" y="165240"/>
            <a:ext cx="7937640" cy="804600"/>
          </a:xfrm>
          <a:prstGeom prst="rect">
            <a:avLst/>
          </a:prstGeom>
          <a:ln w="0">
            <a:noFill/>
          </a:ln>
        </p:spPr>
      </p:pic>
      <p:sp>
        <p:nvSpPr>
          <p:cNvPr id="153"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2100-88A6-48F9-A381-BF3EDEBAF01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grpSp>
        <p:nvGrpSpPr>
          <p:cNvPr id="154" name="Group 5"/>
          <p:cNvGrpSpPr/>
          <p:nvPr/>
        </p:nvGrpSpPr>
        <p:grpSpPr>
          <a:xfrm>
            <a:off x="1693800" y="965160"/>
            <a:ext cx="6051600" cy="4683240"/>
            <a:chOff x="1693800" y="965160"/>
            <a:chExt cx="6051600" cy="4683240"/>
          </a:xfrm>
        </p:grpSpPr>
        <p:sp>
          <p:nvSpPr>
            <p:cNvPr id="155" name="AutoShape 120"/>
            <p:cNvSpPr/>
            <p:nvPr/>
          </p:nvSpPr>
          <p:spPr>
            <a:xfrm>
              <a:off x="1693800" y="965160"/>
              <a:ext cx="6051600" cy="468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19"/>
            <p:cNvSpPr/>
            <p:nvPr/>
          </p:nvSpPr>
          <p:spPr>
            <a:xfrm>
              <a:off x="4946040" y="130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57" name="Rectangle 118"/>
            <p:cNvSpPr/>
            <p:nvPr/>
          </p:nvSpPr>
          <p:spPr>
            <a:xfrm>
              <a:off x="7657920" y="5439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158" name="Picture 117" descr=""/>
            <p:cNvPicPr/>
            <p:nvPr/>
          </p:nvPicPr>
          <p:blipFill>
            <a:blip r:embed="rId2"/>
            <a:stretch/>
          </p:blipFill>
          <p:spPr>
            <a:xfrm>
              <a:off x="2157840" y="1545480"/>
              <a:ext cx="5506920" cy="3836520"/>
            </a:xfrm>
            <a:prstGeom prst="rect">
              <a:avLst/>
            </a:prstGeom>
            <a:ln w="0">
              <a:noFill/>
            </a:ln>
          </p:spPr>
        </p:pic>
        <p:pic>
          <p:nvPicPr>
            <p:cNvPr id="159" name="Picture 116" descr=""/>
            <p:cNvPicPr/>
            <p:nvPr/>
          </p:nvPicPr>
          <p:blipFill>
            <a:blip r:embed="rId3"/>
            <a:stretch/>
          </p:blipFill>
          <p:spPr>
            <a:xfrm>
              <a:off x="2627640" y="1917000"/>
              <a:ext cx="5056560" cy="3522960"/>
            </a:xfrm>
            <a:prstGeom prst="rect">
              <a:avLst/>
            </a:prstGeom>
            <a:ln w="0">
              <a:noFill/>
            </a:ln>
          </p:spPr>
        </p:pic>
        <p:grpSp>
          <p:nvGrpSpPr>
            <p:cNvPr id="160" name="Group 113"/>
            <p:cNvGrpSpPr/>
            <p:nvPr/>
          </p:nvGrpSpPr>
          <p:grpSpPr>
            <a:xfrm>
              <a:off x="6205680" y="2838960"/>
              <a:ext cx="501480" cy="206280"/>
              <a:chOff x="6205680" y="2838960"/>
              <a:chExt cx="501480" cy="206280"/>
            </a:xfrm>
          </p:grpSpPr>
          <p:sp>
            <p:nvSpPr>
              <p:cNvPr id="161" name="Rectangle 115"/>
              <p:cNvSpPr/>
              <p:nvPr/>
            </p:nvSpPr>
            <p:spPr>
              <a:xfrm>
                <a:off x="6205680" y="2838960"/>
                <a:ext cx="501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4"/>
              <p:cNvSpPr/>
              <p:nvPr/>
            </p:nvSpPr>
            <p:spPr>
              <a:xfrm>
                <a:off x="6205680" y="2838960"/>
                <a:ext cx="5014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112"/>
            <p:cNvSpPr/>
            <p:nvPr/>
          </p:nvSpPr>
          <p:spPr>
            <a:xfrm>
              <a:off x="6113520" y="2869920"/>
              <a:ext cx="536400" cy="12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Conseils</a:t>
              </a:r>
              <a:endParaRPr b="0" lang="en-US" sz="800" spc="-1" strike="noStrike">
                <a:solidFill>
                  <a:srgbClr val="000000"/>
                </a:solidFill>
                <a:latin typeface="Arial"/>
              </a:endParaRPr>
            </a:p>
          </p:txBody>
        </p:sp>
        <p:sp>
          <p:nvSpPr>
            <p:cNvPr id="164" name="Rectangle 111"/>
            <p:cNvSpPr/>
            <p:nvPr/>
          </p:nvSpPr>
          <p:spPr>
            <a:xfrm>
              <a:off x="6606720" y="28789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65" name="Group 108"/>
            <p:cNvGrpSpPr/>
            <p:nvPr/>
          </p:nvGrpSpPr>
          <p:grpSpPr>
            <a:xfrm>
              <a:off x="3016080" y="1572120"/>
              <a:ext cx="632880" cy="206280"/>
              <a:chOff x="3016080" y="1572120"/>
              <a:chExt cx="632880" cy="206280"/>
            </a:xfrm>
          </p:grpSpPr>
          <p:sp>
            <p:nvSpPr>
              <p:cNvPr id="166" name="Rectangle 110"/>
              <p:cNvSpPr/>
              <p:nvPr/>
            </p:nvSpPr>
            <p:spPr>
              <a:xfrm>
                <a:off x="3016080" y="1572120"/>
                <a:ext cx="632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09"/>
              <p:cNvSpPr/>
              <p:nvPr/>
            </p:nvSpPr>
            <p:spPr>
              <a:xfrm>
                <a:off x="3016080" y="1572120"/>
                <a:ext cx="632880" cy="20628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7"/>
            <p:cNvSpPr/>
            <p:nvPr/>
          </p:nvSpPr>
          <p:spPr>
            <a:xfrm>
              <a:off x="2554200" y="1650960"/>
              <a:ext cx="602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Surveillance</a:t>
              </a:r>
              <a:endParaRPr b="0" lang="en-US" sz="800" spc="-1" strike="noStrike">
                <a:solidFill>
                  <a:srgbClr val="000000"/>
                </a:solidFill>
                <a:latin typeface="Arial"/>
              </a:endParaRPr>
            </a:p>
          </p:txBody>
        </p:sp>
        <p:sp>
          <p:nvSpPr>
            <p:cNvPr id="169" name="Rectangle 105"/>
            <p:cNvSpPr/>
            <p:nvPr/>
          </p:nvSpPr>
          <p:spPr>
            <a:xfrm>
              <a:off x="3550320" y="16128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nvGrpSpPr>
            <p:cNvPr id="170" name="Group 102"/>
            <p:cNvGrpSpPr/>
            <p:nvPr/>
          </p:nvGrpSpPr>
          <p:grpSpPr>
            <a:xfrm>
              <a:off x="4191480" y="1094040"/>
              <a:ext cx="698760" cy="191160"/>
              <a:chOff x="4191480" y="1094040"/>
              <a:chExt cx="698760" cy="191160"/>
            </a:xfrm>
          </p:grpSpPr>
          <p:sp>
            <p:nvSpPr>
              <p:cNvPr id="171" name="Rectangle 104"/>
              <p:cNvSpPr/>
              <p:nvPr/>
            </p:nvSpPr>
            <p:spPr>
              <a:xfrm>
                <a:off x="4191480" y="1094040"/>
                <a:ext cx="69876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3"/>
              <p:cNvSpPr/>
              <p:nvPr/>
            </p:nvSpPr>
            <p:spPr>
              <a:xfrm>
                <a:off x="4191480" y="1094040"/>
                <a:ext cx="698760" cy="191160"/>
              </a:xfrm>
              <a:prstGeom prst="rect">
                <a:avLst/>
              </a:prstGeom>
              <a:noFill/>
              <a:ln cap="rnd"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01"/>
            <p:cNvSpPr/>
            <p:nvPr/>
          </p:nvSpPr>
          <p:spPr>
            <a:xfrm>
              <a:off x="4550040" y="1170720"/>
              <a:ext cx="82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Politique de S&amp;E</a:t>
              </a:r>
              <a:endParaRPr b="0" lang="en-US" sz="800" spc="-1" strike="noStrike">
                <a:solidFill>
                  <a:srgbClr val="000000"/>
                </a:solidFill>
                <a:latin typeface="Arial"/>
              </a:endParaRPr>
            </a:p>
          </p:txBody>
        </p:sp>
        <p:sp>
          <p:nvSpPr>
            <p:cNvPr id="174" name="Rectangle 100"/>
            <p:cNvSpPr/>
            <p:nvPr/>
          </p:nvSpPr>
          <p:spPr>
            <a:xfrm>
              <a:off x="4798440" y="11340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sp>
          <p:nvSpPr>
            <p:cNvPr id="175" name="Oval 99"/>
            <p:cNvSpPr/>
            <p:nvPr/>
          </p:nvSpPr>
          <p:spPr>
            <a:xfrm>
              <a:off x="5295240" y="2971080"/>
              <a:ext cx="877320" cy="819720"/>
            </a:xfrm>
            <a:prstGeom prst="ellipse">
              <a:avLst/>
            </a:prstGeom>
            <a:solidFill>
              <a:srgbClr val="62b2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4"/>
            <p:cNvSpPr/>
            <p:nvPr/>
          </p:nvSpPr>
          <p:spPr>
            <a:xfrm>
              <a:off x="5405400" y="2948400"/>
              <a:ext cx="76896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Bureau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  l’évalua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l’évaluation</a:t>
              </a:r>
              <a:endParaRPr b="0" lang="en-US" sz="800" spc="-1" strike="noStrike">
                <a:solidFill>
                  <a:srgbClr val="000000"/>
                </a:solidFill>
                <a:latin typeface="Arial"/>
              </a:endParaRPr>
            </a:p>
          </p:txBody>
        </p:sp>
        <p:sp>
          <p:nvSpPr>
            <p:cNvPr id="177" name="Rectangle 89"/>
            <p:cNvSpPr/>
            <p:nvPr/>
          </p:nvSpPr>
          <p:spPr>
            <a:xfrm>
              <a:off x="3278520" y="1011960"/>
              <a:ext cx="1316160" cy="71640"/>
            </a:xfrm>
            <a:prstGeom prst="rect">
              <a:avLst/>
            </a:prstGeom>
            <a:solidFill>
              <a:srgbClr val="ffffff"/>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3937320" y="1253160"/>
              <a:ext cx="82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ea typeface="Times New Roman"/>
                </a:rPr>
                <a:t> </a:t>
              </a:r>
              <a:endParaRPr b="0" lang="en-US" sz="200" spc="-1" strike="noStrike">
                <a:solidFill>
                  <a:srgbClr val="000000"/>
                </a:solidFill>
                <a:latin typeface="Arial"/>
              </a:endParaRPr>
            </a:p>
          </p:txBody>
        </p:sp>
        <p:sp>
          <p:nvSpPr>
            <p:cNvPr id="179" name="Freeform 38"/>
            <p:cNvSpPr/>
            <p:nvPr/>
          </p:nvSpPr>
          <p:spPr>
            <a:xfrm>
              <a:off x="2831400" y="965160"/>
              <a:ext cx="822240" cy="335160"/>
            </a:xfrm>
            <a:custGeom>
              <a:avLst/>
              <a:gdLst>
                <a:gd name="textAreaLeft" fmla="*/ 0 w 822240"/>
                <a:gd name="textAreaRight" fmla="*/ 822600 w 822240"/>
                <a:gd name="textAreaTop" fmla="*/ 0 h 335160"/>
                <a:gd name="textAreaBottom" fmla="*/ 335520 h 335160"/>
              </a:gdLst>
              <a:ahLst/>
              <a:rect l="textAreaLeft" t="textAreaTop" r="textAreaRight" b="textAreaBottom"/>
              <a:pathLst>
                <a:path w="10000" h="4553">
                  <a:moveTo>
                    <a:pt x="9850" y="100"/>
                  </a:moveTo>
                  <a:lnTo>
                    <a:pt x="9850" y="100"/>
                  </a:lnTo>
                  <a:cubicBezTo>
                    <a:pt x="9823" y="100"/>
                    <a:pt x="9800" y="77"/>
                    <a:pt x="9800" y="50"/>
                  </a:cubicBezTo>
                  <a:cubicBezTo>
                    <a:pt x="9800" y="22"/>
                    <a:pt x="9823" y="0"/>
                    <a:pt x="9850" y="0"/>
                  </a:cubicBezTo>
                  <a:lnTo>
                    <a:pt x="9850" y="0"/>
                  </a:lnTo>
                  <a:cubicBezTo>
                    <a:pt x="9878" y="0"/>
                    <a:pt x="9900" y="22"/>
                    <a:pt x="9900" y="50"/>
                  </a:cubicBezTo>
                  <a:cubicBezTo>
                    <a:pt x="9900" y="77"/>
                    <a:pt x="9878" y="100"/>
                    <a:pt x="9850" y="100"/>
                  </a:cubicBezTo>
                  <a:close/>
                  <a:moveTo>
                    <a:pt x="9650" y="100"/>
                  </a:moveTo>
                  <a:lnTo>
                    <a:pt x="9650" y="100"/>
                  </a:lnTo>
                  <a:cubicBezTo>
                    <a:pt x="9623" y="100"/>
                    <a:pt x="9600" y="77"/>
                    <a:pt x="9600" y="50"/>
                  </a:cubicBezTo>
                  <a:cubicBezTo>
                    <a:pt x="9600" y="22"/>
                    <a:pt x="9623" y="0"/>
                    <a:pt x="9650" y="0"/>
                  </a:cubicBezTo>
                  <a:lnTo>
                    <a:pt x="9650" y="0"/>
                  </a:lnTo>
                  <a:cubicBezTo>
                    <a:pt x="9678" y="0"/>
                    <a:pt x="9700" y="22"/>
                    <a:pt x="9700" y="50"/>
                  </a:cubicBezTo>
                  <a:cubicBezTo>
                    <a:pt x="9700" y="77"/>
                    <a:pt x="9678" y="100"/>
                    <a:pt x="9650" y="100"/>
                  </a:cubicBezTo>
                  <a:close/>
                  <a:moveTo>
                    <a:pt x="9450" y="100"/>
                  </a:moveTo>
                  <a:lnTo>
                    <a:pt x="9450" y="100"/>
                  </a:lnTo>
                  <a:cubicBezTo>
                    <a:pt x="9423" y="100"/>
                    <a:pt x="9400" y="77"/>
                    <a:pt x="9400" y="50"/>
                  </a:cubicBezTo>
                  <a:cubicBezTo>
                    <a:pt x="9400" y="22"/>
                    <a:pt x="9423" y="0"/>
                    <a:pt x="9450" y="0"/>
                  </a:cubicBezTo>
                  <a:lnTo>
                    <a:pt x="9450" y="0"/>
                  </a:lnTo>
                  <a:cubicBezTo>
                    <a:pt x="9478" y="0"/>
                    <a:pt x="9500" y="22"/>
                    <a:pt x="9500" y="50"/>
                  </a:cubicBezTo>
                  <a:cubicBezTo>
                    <a:pt x="9500" y="77"/>
                    <a:pt x="9478" y="100"/>
                    <a:pt x="9450" y="100"/>
                  </a:cubicBezTo>
                  <a:close/>
                  <a:moveTo>
                    <a:pt x="9250" y="100"/>
                  </a:moveTo>
                  <a:lnTo>
                    <a:pt x="9250" y="100"/>
                  </a:lnTo>
                  <a:cubicBezTo>
                    <a:pt x="9222" y="100"/>
                    <a:pt x="9200" y="77"/>
                    <a:pt x="9200" y="50"/>
                  </a:cubicBezTo>
                  <a:cubicBezTo>
                    <a:pt x="9200" y="22"/>
                    <a:pt x="9222" y="0"/>
                    <a:pt x="9250" y="0"/>
                  </a:cubicBezTo>
                  <a:lnTo>
                    <a:pt x="9250" y="0"/>
                  </a:lnTo>
                  <a:cubicBezTo>
                    <a:pt x="9278" y="0"/>
                    <a:pt x="9300" y="22"/>
                    <a:pt x="9300" y="50"/>
                  </a:cubicBezTo>
                  <a:cubicBezTo>
                    <a:pt x="9300" y="77"/>
                    <a:pt x="9278" y="100"/>
                    <a:pt x="9250" y="100"/>
                  </a:cubicBezTo>
                  <a:close/>
                  <a:moveTo>
                    <a:pt x="9050" y="100"/>
                  </a:moveTo>
                  <a:lnTo>
                    <a:pt x="9050" y="100"/>
                  </a:lnTo>
                  <a:cubicBezTo>
                    <a:pt x="9022" y="100"/>
                    <a:pt x="9000" y="77"/>
                    <a:pt x="9000" y="50"/>
                  </a:cubicBezTo>
                  <a:cubicBezTo>
                    <a:pt x="9000" y="22"/>
                    <a:pt x="9022" y="0"/>
                    <a:pt x="9050" y="0"/>
                  </a:cubicBezTo>
                  <a:lnTo>
                    <a:pt x="9050" y="0"/>
                  </a:lnTo>
                  <a:cubicBezTo>
                    <a:pt x="9078" y="0"/>
                    <a:pt x="9100" y="22"/>
                    <a:pt x="9100" y="50"/>
                  </a:cubicBezTo>
                  <a:cubicBezTo>
                    <a:pt x="9100" y="77"/>
                    <a:pt x="9078" y="100"/>
                    <a:pt x="9050" y="100"/>
                  </a:cubicBezTo>
                  <a:close/>
                  <a:moveTo>
                    <a:pt x="8850" y="100"/>
                  </a:moveTo>
                  <a:lnTo>
                    <a:pt x="8850" y="100"/>
                  </a:lnTo>
                  <a:cubicBezTo>
                    <a:pt x="8822" y="100"/>
                    <a:pt x="8800" y="77"/>
                    <a:pt x="8800" y="50"/>
                  </a:cubicBezTo>
                  <a:cubicBezTo>
                    <a:pt x="8800" y="22"/>
                    <a:pt x="8822" y="0"/>
                    <a:pt x="8850" y="0"/>
                  </a:cubicBezTo>
                  <a:lnTo>
                    <a:pt x="8850" y="0"/>
                  </a:lnTo>
                  <a:cubicBezTo>
                    <a:pt x="8878" y="0"/>
                    <a:pt x="8900" y="22"/>
                    <a:pt x="8900" y="50"/>
                  </a:cubicBezTo>
                  <a:cubicBezTo>
                    <a:pt x="8900" y="77"/>
                    <a:pt x="8878" y="100"/>
                    <a:pt x="8850" y="100"/>
                  </a:cubicBezTo>
                  <a:close/>
                  <a:moveTo>
                    <a:pt x="8650" y="100"/>
                  </a:moveTo>
                  <a:lnTo>
                    <a:pt x="8650" y="100"/>
                  </a:lnTo>
                  <a:cubicBezTo>
                    <a:pt x="8622" y="100"/>
                    <a:pt x="8600" y="77"/>
                    <a:pt x="8600" y="50"/>
                  </a:cubicBezTo>
                  <a:cubicBezTo>
                    <a:pt x="8600" y="22"/>
                    <a:pt x="8622" y="0"/>
                    <a:pt x="8650" y="0"/>
                  </a:cubicBezTo>
                  <a:lnTo>
                    <a:pt x="8650" y="0"/>
                  </a:lnTo>
                  <a:cubicBezTo>
                    <a:pt x="8677" y="0"/>
                    <a:pt x="8700" y="22"/>
                    <a:pt x="8700" y="50"/>
                  </a:cubicBezTo>
                  <a:cubicBezTo>
                    <a:pt x="8700" y="77"/>
                    <a:pt x="8677" y="100"/>
                    <a:pt x="8650" y="100"/>
                  </a:cubicBezTo>
                  <a:close/>
                  <a:moveTo>
                    <a:pt x="8450" y="100"/>
                  </a:moveTo>
                  <a:lnTo>
                    <a:pt x="8450" y="100"/>
                  </a:lnTo>
                  <a:cubicBezTo>
                    <a:pt x="8422" y="100"/>
                    <a:pt x="8400" y="77"/>
                    <a:pt x="8400" y="50"/>
                  </a:cubicBezTo>
                  <a:cubicBezTo>
                    <a:pt x="8400" y="22"/>
                    <a:pt x="8422" y="0"/>
                    <a:pt x="8450" y="0"/>
                  </a:cubicBezTo>
                  <a:lnTo>
                    <a:pt x="8450" y="0"/>
                  </a:lnTo>
                  <a:cubicBezTo>
                    <a:pt x="8477" y="0"/>
                    <a:pt x="8500" y="22"/>
                    <a:pt x="8500" y="50"/>
                  </a:cubicBezTo>
                  <a:cubicBezTo>
                    <a:pt x="8500" y="77"/>
                    <a:pt x="8477" y="100"/>
                    <a:pt x="8450" y="100"/>
                  </a:cubicBezTo>
                  <a:close/>
                  <a:moveTo>
                    <a:pt x="8250" y="100"/>
                  </a:moveTo>
                  <a:lnTo>
                    <a:pt x="8250" y="100"/>
                  </a:lnTo>
                  <a:cubicBezTo>
                    <a:pt x="8222" y="100"/>
                    <a:pt x="8200" y="77"/>
                    <a:pt x="8200" y="50"/>
                  </a:cubicBezTo>
                  <a:cubicBezTo>
                    <a:pt x="8200" y="22"/>
                    <a:pt x="8222" y="0"/>
                    <a:pt x="8250" y="0"/>
                  </a:cubicBezTo>
                  <a:lnTo>
                    <a:pt x="8250" y="0"/>
                  </a:lnTo>
                  <a:cubicBezTo>
                    <a:pt x="8277" y="0"/>
                    <a:pt x="8300" y="22"/>
                    <a:pt x="8300" y="50"/>
                  </a:cubicBezTo>
                  <a:cubicBezTo>
                    <a:pt x="8300" y="77"/>
                    <a:pt x="8277" y="100"/>
                    <a:pt x="8250" y="100"/>
                  </a:cubicBezTo>
                  <a:close/>
                  <a:moveTo>
                    <a:pt x="8050" y="100"/>
                  </a:moveTo>
                  <a:lnTo>
                    <a:pt x="8049" y="100"/>
                  </a:lnTo>
                  <a:cubicBezTo>
                    <a:pt x="8022" y="100"/>
                    <a:pt x="7999" y="77"/>
                    <a:pt x="7999" y="50"/>
                  </a:cubicBezTo>
                  <a:cubicBezTo>
                    <a:pt x="7999" y="22"/>
                    <a:pt x="8022" y="0"/>
                    <a:pt x="8049" y="0"/>
                  </a:cubicBezTo>
                  <a:lnTo>
                    <a:pt x="8050" y="0"/>
                  </a:lnTo>
                  <a:cubicBezTo>
                    <a:pt x="8077" y="0"/>
                    <a:pt x="8100" y="22"/>
                    <a:pt x="8100" y="50"/>
                  </a:cubicBezTo>
                  <a:cubicBezTo>
                    <a:pt x="8100" y="77"/>
                    <a:pt x="8077" y="100"/>
                    <a:pt x="8050" y="100"/>
                  </a:cubicBezTo>
                  <a:close/>
                  <a:moveTo>
                    <a:pt x="7849" y="100"/>
                  </a:moveTo>
                  <a:lnTo>
                    <a:pt x="7849" y="100"/>
                  </a:lnTo>
                  <a:cubicBezTo>
                    <a:pt x="7822" y="100"/>
                    <a:pt x="7799" y="77"/>
                    <a:pt x="7799" y="50"/>
                  </a:cubicBezTo>
                  <a:cubicBezTo>
                    <a:pt x="7799" y="22"/>
                    <a:pt x="7822" y="0"/>
                    <a:pt x="7849" y="0"/>
                  </a:cubicBezTo>
                  <a:lnTo>
                    <a:pt x="7849" y="0"/>
                  </a:lnTo>
                  <a:cubicBezTo>
                    <a:pt x="7877" y="0"/>
                    <a:pt x="7899" y="22"/>
                    <a:pt x="7899" y="50"/>
                  </a:cubicBezTo>
                  <a:cubicBezTo>
                    <a:pt x="7899" y="77"/>
                    <a:pt x="7877" y="100"/>
                    <a:pt x="7849" y="100"/>
                  </a:cubicBezTo>
                  <a:close/>
                  <a:moveTo>
                    <a:pt x="7649" y="100"/>
                  </a:moveTo>
                  <a:lnTo>
                    <a:pt x="7649" y="100"/>
                  </a:lnTo>
                  <a:cubicBezTo>
                    <a:pt x="7622" y="100"/>
                    <a:pt x="7599" y="77"/>
                    <a:pt x="7599" y="50"/>
                  </a:cubicBezTo>
                  <a:cubicBezTo>
                    <a:pt x="7599" y="22"/>
                    <a:pt x="7622" y="0"/>
                    <a:pt x="7649" y="0"/>
                  </a:cubicBezTo>
                  <a:lnTo>
                    <a:pt x="7649" y="0"/>
                  </a:lnTo>
                  <a:cubicBezTo>
                    <a:pt x="7677" y="0"/>
                    <a:pt x="7699" y="22"/>
                    <a:pt x="7699" y="50"/>
                  </a:cubicBezTo>
                  <a:cubicBezTo>
                    <a:pt x="7699" y="77"/>
                    <a:pt x="7677" y="100"/>
                    <a:pt x="7649" y="100"/>
                  </a:cubicBezTo>
                  <a:close/>
                  <a:moveTo>
                    <a:pt x="7449" y="100"/>
                  </a:moveTo>
                  <a:lnTo>
                    <a:pt x="7449" y="100"/>
                  </a:lnTo>
                  <a:cubicBezTo>
                    <a:pt x="7422" y="100"/>
                    <a:pt x="7399" y="77"/>
                    <a:pt x="7399" y="50"/>
                  </a:cubicBezTo>
                  <a:cubicBezTo>
                    <a:pt x="7399" y="22"/>
                    <a:pt x="7422" y="0"/>
                    <a:pt x="7449" y="0"/>
                  </a:cubicBezTo>
                  <a:lnTo>
                    <a:pt x="7449" y="0"/>
                  </a:lnTo>
                  <a:cubicBezTo>
                    <a:pt x="7477" y="0"/>
                    <a:pt x="7499" y="22"/>
                    <a:pt x="7499" y="50"/>
                  </a:cubicBezTo>
                  <a:cubicBezTo>
                    <a:pt x="7499" y="77"/>
                    <a:pt x="7477" y="100"/>
                    <a:pt x="7449" y="100"/>
                  </a:cubicBezTo>
                  <a:close/>
                  <a:moveTo>
                    <a:pt x="7249" y="100"/>
                  </a:moveTo>
                  <a:lnTo>
                    <a:pt x="7249" y="100"/>
                  </a:lnTo>
                  <a:cubicBezTo>
                    <a:pt x="7221" y="100"/>
                    <a:pt x="7199" y="77"/>
                    <a:pt x="7199" y="50"/>
                  </a:cubicBezTo>
                  <a:cubicBezTo>
                    <a:pt x="7199" y="22"/>
                    <a:pt x="7221" y="0"/>
                    <a:pt x="7249" y="0"/>
                  </a:cubicBezTo>
                  <a:lnTo>
                    <a:pt x="7249" y="0"/>
                  </a:lnTo>
                  <a:cubicBezTo>
                    <a:pt x="7277" y="0"/>
                    <a:pt x="7299" y="22"/>
                    <a:pt x="7299" y="50"/>
                  </a:cubicBezTo>
                  <a:cubicBezTo>
                    <a:pt x="7299" y="77"/>
                    <a:pt x="7277" y="100"/>
                    <a:pt x="7249" y="100"/>
                  </a:cubicBezTo>
                  <a:close/>
                  <a:moveTo>
                    <a:pt x="7049" y="100"/>
                  </a:moveTo>
                  <a:lnTo>
                    <a:pt x="7049" y="100"/>
                  </a:lnTo>
                  <a:cubicBezTo>
                    <a:pt x="7021" y="100"/>
                    <a:pt x="6999" y="77"/>
                    <a:pt x="6999" y="50"/>
                  </a:cubicBezTo>
                  <a:cubicBezTo>
                    <a:pt x="6999" y="22"/>
                    <a:pt x="7021" y="0"/>
                    <a:pt x="7049" y="0"/>
                  </a:cubicBezTo>
                  <a:lnTo>
                    <a:pt x="7049" y="0"/>
                  </a:lnTo>
                  <a:cubicBezTo>
                    <a:pt x="7077" y="0"/>
                    <a:pt x="7099" y="22"/>
                    <a:pt x="7099" y="50"/>
                  </a:cubicBezTo>
                  <a:cubicBezTo>
                    <a:pt x="7099" y="77"/>
                    <a:pt x="7077" y="100"/>
                    <a:pt x="7049" y="100"/>
                  </a:cubicBezTo>
                  <a:close/>
                  <a:moveTo>
                    <a:pt x="6849" y="100"/>
                  </a:moveTo>
                  <a:lnTo>
                    <a:pt x="6849" y="100"/>
                  </a:lnTo>
                  <a:cubicBezTo>
                    <a:pt x="6821" y="100"/>
                    <a:pt x="6799" y="77"/>
                    <a:pt x="6799" y="50"/>
                  </a:cubicBezTo>
                  <a:cubicBezTo>
                    <a:pt x="6799" y="22"/>
                    <a:pt x="6821" y="0"/>
                    <a:pt x="6849" y="0"/>
                  </a:cubicBezTo>
                  <a:lnTo>
                    <a:pt x="6849" y="0"/>
                  </a:lnTo>
                  <a:cubicBezTo>
                    <a:pt x="6877" y="0"/>
                    <a:pt x="6899" y="22"/>
                    <a:pt x="6899" y="50"/>
                  </a:cubicBezTo>
                  <a:cubicBezTo>
                    <a:pt x="6899" y="77"/>
                    <a:pt x="6877" y="100"/>
                    <a:pt x="6849" y="100"/>
                  </a:cubicBezTo>
                  <a:close/>
                  <a:moveTo>
                    <a:pt x="6649" y="100"/>
                  </a:moveTo>
                  <a:lnTo>
                    <a:pt x="6649" y="100"/>
                  </a:lnTo>
                  <a:cubicBezTo>
                    <a:pt x="6621" y="100"/>
                    <a:pt x="6599" y="77"/>
                    <a:pt x="6599" y="50"/>
                  </a:cubicBezTo>
                  <a:cubicBezTo>
                    <a:pt x="6599" y="22"/>
                    <a:pt x="6621" y="0"/>
                    <a:pt x="6649" y="0"/>
                  </a:cubicBezTo>
                  <a:lnTo>
                    <a:pt x="6649" y="0"/>
                  </a:lnTo>
                  <a:cubicBezTo>
                    <a:pt x="6676" y="0"/>
                    <a:pt x="6699" y="22"/>
                    <a:pt x="6699" y="50"/>
                  </a:cubicBezTo>
                  <a:cubicBezTo>
                    <a:pt x="6699" y="77"/>
                    <a:pt x="6676" y="100"/>
                    <a:pt x="6649" y="100"/>
                  </a:cubicBezTo>
                  <a:close/>
                  <a:moveTo>
                    <a:pt x="6449" y="100"/>
                  </a:moveTo>
                  <a:lnTo>
                    <a:pt x="6449" y="100"/>
                  </a:lnTo>
                  <a:cubicBezTo>
                    <a:pt x="6421" y="100"/>
                    <a:pt x="6399" y="77"/>
                    <a:pt x="6399" y="50"/>
                  </a:cubicBezTo>
                  <a:cubicBezTo>
                    <a:pt x="6399" y="22"/>
                    <a:pt x="6421" y="0"/>
                    <a:pt x="6449" y="0"/>
                  </a:cubicBezTo>
                  <a:lnTo>
                    <a:pt x="6449" y="0"/>
                  </a:lnTo>
                  <a:cubicBezTo>
                    <a:pt x="6476" y="0"/>
                    <a:pt x="6499" y="22"/>
                    <a:pt x="6499" y="50"/>
                  </a:cubicBezTo>
                  <a:cubicBezTo>
                    <a:pt x="6499" y="77"/>
                    <a:pt x="6476" y="100"/>
                    <a:pt x="6449" y="100"/>
                  </a:cubicBezTo>
                  <a:close/>
                  <a:moveTo>
                    <a:pt x="6249" y="100"/>
                  </a:moveTo>
                  <a:lnTo>
                    <a:pt x="6249" y="100"/>
                  </a:lnTo>
                  <a:cubicBezTo>
                    <a:pt x="6221" y="100"/>
                    <a:pt x="6199" y="77"/>
                    <a:pt x="6199" y="50"/>
                  </a:cubicBezTo>
                  <a:cubicBezTo>
                    <a:pt x="6199" y="22"/>
                    <a:pt x="6221" y="0"/>
                    <a:pt x="6249" y="0"/>
                  </a:cubicBezTo>
                  <a:lnTo>
                    <a:pt x="6249" y="0"/>
                  </a:lnTo>
                  <a:cubicBezTo>
                    <a:pt x="6276" y="0"/>
                    <a:pt x="6299" y="22"/>
                    <a:pt x="6299" y="50"/>
                  </a:cubicBezTo>
                  <a:cubicBezTo>
                    <a:pt x="6299" y="77"/>
                    <a:pt x="6276" y="100"/>
                    <a:pt x="6249" y="100"/>
                  </a:cubicBezTo>
                  <a:close/>
                  <a:moveTo>
                    <a:pt x="6049" y="100"/>
                  </a:moveTo>
                  <a:lnTo>
                    <a:pt x="6048" y="100"/>
                  </a:lnTo>
                  <a:cubicBezTo>
                    <a:pt x="6021" y="100"/>
                    <a:pt x="5998" y="77"/>
                    <a:pt x="5998" y="50"/>
                  </a:cubicBezTo>
                  <a:cubicBezTo>
                    <a:pt x="5998" y="22"/>
                    <a:pt x="6021" y="0"/>
                    <a:pt x="6048" y="0"/>
                  </a:cubicBezTo>
                  <a:lnTo>
                    <a:pt x="6049" y="0"/>
                  </a:lnTo>
                  <a:cubicBezTo>
                    <a:pt x="6076" y="0"/>
                    <a:pt x="6099" y="22"/>
                    <a:pt x="6099" y="50"/>
                  </a:cubicBezTo>
                  <a:cubicBezTo>
                    <a:pt x="6099" y="77"/>
                    <a:pt x="6076" y="100"/>
                    <a:pt x="6049" y="100"/>
                  </a:cubicBezTo>
                  <a:close/>
                  <a:moveTo>
                    <a:pt x="5848" y="100"/>
                  </a:moveTo>
                  <a:lnTo>
                    <a:pt x="5848" y="100"/>
                  </a:lnTo>
                  <a:cubicBezTo>
                    <a:pt x="5821" y="100"/>
                    <a:pt x="5798" y="77"/>
                    <a:pt x="5798" y="50"/>
                  </a:cubicBezTo>
                  <a:cubicBezTo>
                    <a:pt x="5798" y="22"/>
                    <a:pt x="5821" y="0"/>
                    <a:pt x="5848" y="0"/>
                  </a:cubicBezTo>
                  <a:lnTo>
                    <a:pt x="5848" y="0"/>
                  </a:lnTo>
                  <a:cubicBezTo>
                    <a:pt x="5876" y="0"/>
                    <a:pt x="5898" y="22"/>
                    <a:pt x="5898" y="50"/>
                  </a:cubicBezTo>
                  <a:cubicBezTo>
                    <a:pt x="5898" y="77"/>
                    <a:pt x="5876" y="100"/>
                    <a:pt x="5848" y="100"/>
                  </a:cubicBezTo>
                  <a:close/>
                  <a:moveTo>
                    <a:pt x="5648" y="100"/>
                  </a:moveTo>
                  <a:lnTo>
                    <a:pt x="5648" y="100"/>
                  </a:lnTo>
                  <a:cubicBezTo>
                    <a:pt x="5621" y="100"/>
                    <a:pt x="5598" y="77"/>
                    <a:pt x="5598" y="50"/>
                  </a:cubicBezTo>
                  <a:cubicBezTo>
                    <a:pt x="5598" y="22"/>
                    <a:pt x="5621" y="0"/>
                    <a:pt x="5648" y="0"/>
                  </a:cubicBezTo>
                  <a:lnTo>
                    <a:pt x="5648" y="0"/>
                  </a:lnTo>
                  <a:cubicBezTo>
                    <a:pt x="5676" y="0"/>
                    <a:pt x="5698" y="22"/>
                    <a:pt x="5698" y="50"/>
                  </a:cubicBezTo>
                  <a:cubicBezTo>
                    <a:pt x="5698" y="77"/>
                    <a:pt x="5676" y="100"/>
                    <a:pt x="5648" y="100"/>
                  </a:cubicBezTo>
                  <a:close/>
                  <a:moveTo>
                    <a:pt x="5448" y="100"/>
                  </a:moveTo>
                  <a:lnTo>
                    <a:pt x="5448" y="100"/>
                  </a:lnTo>
                  <a:cubicBezTo>
                    <a:pt x="5421" y="100"/>
                    <a:pt x="5398" y="77"/>
                    <a:pt x="5398" y="50"/>
                  </a:cubicBezTo>
                  <a:cubicBezTo>
                    <a:pt x="5398" y="22"/>
                    <a:pt x="5421" y="0"/>
                    <a:pt x="5448" y="0"/>
                  </a:cubicBezTo>
                  <a:lnTo>
                    <a:pt x="5448" y="0"/>
                  </a:lnTo>
                  <a:cubicBezTo>
                    <a:pt x="5476" y="0"/>
                    <a:pt x="5498" y="22"/>
                    <a:pt x="5498" y="50"/>
                  </a:cubicBezTo>
                  <a:cubicBezTo>
                    <a:pt x="5498" y="77"/>
                    <a:pt x="5476" y="100"/>
                    <a:pt x="5448" y="100"/>
                  </a:cubicBezTo>
                  <a:close/>
                  <a:moveTo>
                    <a:pt x="5248" y="100"/>
                  </a:moveTo>
                  <a:lnTo>
                    <a:pt x="5248" y="100"/>
                  </a:lnTo>
                  <a:cubicBezTo>
                    <a:pt x="5220" y="100"/>
                    <a:pt x="5198" y="77"/>
                    <a:pt x="5198" y="50"/>
                  </a:cubicBezTo>
                  <a:cubicBezTo>
                    <a:pt x="5198" y="22"/>
                    <a:pt x="5220" y="0"/>
                    <a:pt x="5248" y="0"/>
                  </a:cubicBezTo>
                  <a:lnTo>
                    <a:pt x="5248" y="0"/>
                  </a:lnTo>
                  <a:cubicBezTo>
                    <a:pt x="5276" y="0"/>
                    <a:pt x="5298" y="22"/>
                    <a:pt x="5298" y="50"/>
                  </a:cubicBezTo>
                  <a:cubicBezTo>
                    <a:pt x="5298" y="77"/>
                    <a:pt x="5276" y="100"/>
                    <a:pt x="5248" y="100"/>
                  </a:cubicBezTo>
                  <a:close/>
                  <a:moveTo>
                    <a:pt x="5048" y="100"/>
                  </a:moveTo>
                  <a:lnTo>
                    <a:pt x="5048" y="100"/>
                  </a:lnTo>
                  <a:cubicBezTo>
                    <a:pt x="5020" y="100"/>
                    <a:pt x="4998" y="77"/>
                    <a:pt x="4998" y="50"/>
                  </a:cubicBezTo>
                  <a:cubicBezTo>
                    <a:pt x="4998" y="22"/>
                    <a:pt x="5020" y="0"/>
                    <a:pt x="5048" y="0"/>
                  </a:cubicBezTo>
                  <a:lnTo>
                    <a:pt x="5048" y="0"/>
                  </a:lnTo>
                  <a:cubicBezTo>
                    <a:pt x="5076" y="0"/>
                    <a:pt x="5098" y="22"/>
                    <a:pt x="5098" y="50"/>
                  </a:cubicBezTo>
                  <a:cubicBezTo>
                    <a:pt x="5098" y="77"/>
                    <a:pt x="5076" y="100"/>
                    <a:pt x="5048" y="100"/>
                  </a:cubicBezTo>
                  <a:close/>
                  <a:moveTo>
                    <a:pt x="4848" y="100"/>
                  </a:moveTo>
                  <a:lnTo>
                    <a:pt x="4848" y="100"/>
                  </a:lnTo>
                  <a:cubicBezTo>
                    <a:pt x="4820" y="100"/>
                    <a:pt x="4798" y="77"/>
                    <a:pt x="4798" y="50"/>
                  </a:cubicBezTo>
                  <a:cubicBezTo>
                    <a:pt x="4798" y="22"/>
                    <a:pt x="4820" y="0"/>
                    <a:pt x="4848" y="0"/>
                  </a:cubicBezTo>
                  <a:lnTo>
                    <a:pt x="4848" y="0"/>
                  </a:lnTo>
                  <a:cubicBezTo>
                    <a:pt x="4876" y="0"/>
                    <a:pt x="4898" y="22"/>
                    <a:pt x="4898" y="50"/>
                  </a:cubicBezTo>
                  <a:cubicBezTo>
                    <a:pt x="4898" y="77"/>
                    <a:pt x="4876" y="100"/>
                    <a:pt x="4848" y="100"/>
                  </a:cubicBezTo>
                  <a:close/>
                  <a:moveTo>
                    <a:pt x="4648" y="100"/>
                  </a:moveTo>
                  <a:lnTo>
                    <a:pt x="4648" y="100"/>
                  </a:lnTo>
                  <a:cubicBezTo>
                    <a:pt x="4620" y="100"/>
                    <a:pt x="4598" y="77"/>
                    <a:pt x="4598" y="50"/>
                  </a:cubicBezTo>
                  <a:cubicBezTo>
                    <a:pt x="4598" y="22"/>
                    <a:pt x="4620" y="0"/>
                    <a:pt x="4648" y="0"/>
                  </a:cubicBezTo>
                  <a:lnTo>
                    <a:pt x="4648" y="0"/>
                  </a:lnTo>
                  <a:cubicBezTo>
                    <a:pt x="4675" y="0"/>
                    <a:pt x="4698" y="22"/>
                    <a:pt x="4698" y="50"/>
                  </a:cubicBezTo>
                  <a:cubicBezTo>
                    <a:pt x="4698" y="77"/>
                    <a:pt x="4675" y="100"/>
                    <a:pt x="4648" y="100"/>
                  </a:cubicBezTo>
                  <a:close/>
                  <a:moveTo>
                    <a:pt x="4448" y="100"/>
                  </a:moveTo>
                  <a:lnTo>
                    <a:pt x="4448" y="100"/>
                  </a:lnTo>
                  <a:cubicBezTo>
                    <a:pt x="4420" y="100"/>
                    <a:pt x="4398" y="77"/>
                    <a:pt x="4398" y="50"/>
                  </a:cubicBezTo>
                  <a:cubicBezTo>
                    <a:pt x="4398" y="22"/>
                    <a:pt x="4420" y="0"/>
                    <a:pt x="4448" y="0"/>
                  </a:cubicBezTo>
                  <a:lnTo>
                    <a:pt x="4448" y="0"/>
                  </a:lnTo>
                  <a:cubicBezTo>
                    <a:pt x="4475" y="0"/>
                    <a:pt x="4498" y="22"/>
                    <a:pt x="4498" y="50"/>
                  </a:cubicBezTo>
                  <a:cubicBezTo>
                    <a:pt x="4498" y="77"/>
                    <a:pt x="4475" y="100"/>
                    <a:pt x="4448" y="100"/>
                  </a:cubicBezTo>
                  <a:close/>
                  <a:moveTo>
                    <a:pt x="4248" y="100"/>
                  </a:moveTo>
                  <a:lnTo>
                    <a:pt x="4248" y="100"/>
                  </a:lnTo>
                  <a:cubicBezTo>
                    <a:pt x="4220" y="100"/>
                    <a:pt x="4198" y="77"/>
                    <a:pt x="4198" y="50"/>
                  </a:cubicBezTo>
                  <a:cubicBezTo>
                    <a:pt x="4198" y="22"/>
                    <a:pt x="4220" y="0"/>
                    <a:pt x="4248" y="0"/>
                  </a:cubicBezTo>
                  <a:lnTo>
                    <a:pt x="4248" y="0"/>
                  </a:lnTo>
                  <a:cubicBezTo>
                    <a:pt x="4275" y="0"/>
                    <a:pt x="4298" y="22"/>
                    <a:pt x="4298" y="50"/>
                  </a:cubicBezTo>
                  <a:cubicBezTo>
                    <a:pt x="4298" y="77"/>
                    <a:pt x="4275" y="100"/>
                    <a:pt x="4248" y="100"/>
                  </a:cubicBezTo>
                  <a:close/>
                  <a:moveTo>
                    <a:pt x="4048" y="100"/>
                  </a:moveTo>
                  <a:lnTo>
                    <a:pt x="4047" y="100"/>
                  </a:lnTo>
                  <a:cubicBezTo>
                    <a:pt x="4020" y="100"/>
                    <a:pt x="3997" y="77"/>
                    <a:pt x="3997" y="50"/>
                  </a:cubicBezTo>
                  <a:cubicBezTo>
                    <a:pt x="3997" y="22"/>
                    <a:pt x="4020" y="0"/>
                    <a:pt x="4047" y="0"/>
                  </a:cubicBezTo>
                  <a:lnTo>
                    <a:pt x="4048" y="0"/>
                  </a:lnTo>
                  <a:cubicBezTo>
                    <a:pt x="4075" y="0"/>
                    <a:pt x="4098" y="22"/>
                    <a:pt x="4098" y="50"/>
                  </a:cubicBezTo>
                  <a:cubicBezTo>
                    <a:pt x="4098" y="77"/>
                    <a:pt x="4075" y="100"/>
                    <a:pt x="4048" y="100"/>
                  </a:cubicBezTo>
                  <a:close/>
                  <a:moveTo>
                    <a:pt x="3847" y="100"/>
                  </a:moveTo>
                  <a:lnTo>
                    <a:pt x="3847" y="100"/>
                  </a:lnTo>
                  <a:cubicBezTo>
                    <a:pt x="3820" y="100"/>
                    <a:pt x="3797" y="77"/>
                    <a:pt x="3797" y="50"/>
                  </a:cubicBezTo>
                  <a:cubicBezTo>
                    <a:pt x="3797" y="22"/>
                    <a:pt x="3820" y="0"/>
                    <a:pt x="3847" y="0"/>
                  </a:cubicBezTo>
                  <a:lnTo>
                    <a:pt x="3847" y="0"/>
                  </a:lnTo>
                  <a:cubicBezTo>
                    <a:pt x="3875" y="0"/>
                    <a:pt x="3897" y="22"/>
                    <a:pt x="3897" y="50"/>
                  </a:cubicBezTo>
                  <a:cubicBezTo>
                    <a:pt x="3897" y="77"/>
                    <a:pt x="3875" y="100"/>
                    <a:pt x="3847" y="100"/>
                  </a:cubicBezTo>
                  <a:close/>
                  <a:moveTo>
                    <a:pt x="3647" y="100"/>
                  </a:moveTo>
                  <a:lnTo>
                    <a:pt x="3647" y="100"/>
                  </a:lnTo>
                  <a:cubicBezTo>
                    <a:pt x="3620" y="100"/>
                    <a:pt x="3597" y="77"/>
                    <a:pt x="3597" y="50"/>
                  </a:cubicBezTo>
                  <a:cubicBezTo>
                    <a:pt x="3597" y="22"/>
                    <a:pt x="3620" y="0"/>
                    <a:pt x="3647" y="0"/>
                  </a:cubicBezTo>
                  <a:lnTo>
                    <a:pt x="3647" y="0"/>
                  </a:lnTo>
                  <a:cubicBezTo>
                    <a:pt x="3675" y="0"/>
                    <a:pt x="3697" y="22"/>
                    <a:pt x="3697" y="50"/>
                  </a:cubicBezTo>
                  <a:cubicBezTo>
                    <a:pt x="3697" y="77"/>
                    <a:pt x="3675" y="100"/>
                    <a:pt x="3647" y="100"/>
                  </a:cubicBezTo>
                  <a:close/>
                  <a:moveTo>
                    <a:pt x="3447" y="100"/>
                  </a:moveTo>
                  <a:lnTo>
                    <a:pt x="3447" y="100"/>
                  </a:lnTo>
                  <a:cubicBezTo>
                    <a:pt x="3420" y="100"/>
                    <a:pt x="3397" y="77"/>
                    <a:pt x="3397" y="50"/>
                  </a:cubicBezTo>
                  <a:cubicBezTo>
                    <a:pt x="3397" y="22"/>
                    <a:pt x="3420" y="0"/>
                    <a:pt x="3447" y="0"/>
                  </a:cubicBezTo>
                  <a:lnTo>
                    <a:pt x="3447" y="0"/>
                  </a:lnTo>
                  <a:cubicBezTo>
                    <a:pt x="3475" y="0"/>
                    <a:pt x="3497" y="22"/>
                    <a:pt x="3497" y="50"/>
                  </a:cubicBezTo>
                  <a:cubicBezTo>
                    <a:pt x="3497" y="77"/>
                    <a:pt x="3475" y="100"/>
                    <a:pt x="3447" y="100"/>
                  </a:cubicBezTo>
                  <a:close/>
                  <a:moveTo>
                    <a:pt x="3247" y="100"/>
                  </a:moveTo>
                  <a:lnTo>
                    <a:pt x="3247" y="100"/>
                  </a:lnTo>
                  <a:cubicBezTo>
                    <a:pt x="3219" y="100"/>
                    <a:pt x="3197" y="77"/>
                    <a:pt x="3197" y="50"/>
                  </a:cubicBezTo>
                  <a:cubicBezTo>
                    <a:pt x="3197" y="22"/>
                    <a:pt x="3219" y="0"/>
                    <a:pt x="3247" y="0"/>
                  </a:cubicBezTo>
                  <a:lnTo>
                    <a:pt x="3247" y="0"/>
                  </a:lnTo>
                  <a:cubicBezTo>
                    <a:pt x="3275" y="0"/>
                    <a:pt x="3297" y="22"/>
                    <a:pt x="3297" y="50"/>
                  </a:cubicBezTo>
                  <a:cubicBezTo>
                    <a:pt x="3297" y="77"/>
                    <a:pt x="3275" y="100"/>
                    <a:pt x="3247" y="100"/>
                  </a:cubicBezTo>
                  <a:close/>
                  <a:moveTo>
                    <a:pt x="3047" y="100"/>
                  </a:moveTo>
                  <a:lnTo>
                    <a:pt x="3047" y="100"/>
                  </a:lnTo>
                  <a:cubicBezTo>
                    <a:pt x="3019" y="100"/>
                    <a:pt x="2997" y="77"/>
                    <a:pt x="2997" y="50"/>
                  </a:cubicBezTo>
                  <a:cubicBezTo>
                    <a:pt x="2997" y="22"/>
                    <a:pt x="3019" y="0"/>
                    <a:pt x="3047" y="0"/>
                  </a:cubicBezTo>
                  <a:lnTo>
                    <a:pt x="3047" y="0"/>
                  </a:lnTo>
                  <a:cubicBezTo>
                    <a:pt x="3075" y="0"/>
                    <a:pt x="3097" y="22"/>
                    <a:pt x="3097" y="50"/>
                  </a:cubicBezTo>
                  <a:cubicBezTo>
                    <a:pt x="3097" y="77"/>
                    <a:pt x="3075" y="100"/>
                    <a:pt x="3047" y="100"/>
                  </a:cubicBezTo>
                  <a:close/>
                  <a:moveTo>
                    <a:pt x="2847" y="100"/>
                  </a:moveTo>
                  <a:lnTo>
                    <a:pt x="2847" y="100"/>
                  </a:lnTo>
                  <a:cubicBezTo>
                    <a:pt x="2819" y="100"/>
                    <a:pt x="2797" y="77"/>
                    <a:pt x="2797" y="50"/>
                  </a:cubicBezTo>
                  <a:cubicBezTo>
                    <a:pt x="2797" y="22"/>
                    <a:pt x="2819" y="0"/>
                    <a:pt x="2847" y="0"/>
                  </a:cubicBezTo>
                  <a:lnTo>
                    <a:pt x="2847" y="0"/>
                  </a:lnTo>
                  <a:cubicBezTo>
                    <a:pt x="2875" y="0"/>
                    <a:pt x="2897" y="22"/>
                    <a:pt x="2897" y="50"/>
                  </a:cubicBezTo>
                  <a:cubicBezTo>
                    <a:pt x="2897" y="77"/>
                    <a:pt x="2875" y="100"/>
                    <a:pt x="2847" y="100"/>
                  </a:cubicBezTo>
                  <a:close/>
                  <a:moveTo>
                    <a:pt x="2647" y="100"/>
                  </a:moveTo>
                  <a:lnTo>
                    <a:pt x="2647" y="100"/>
                  </a:lnTo>
                  <a:cubicBezTo>
                    <a:pt x="2619" y="100"/>
                    <a:pt x="2597" y="77"/>
                    <a:pt x="2597" y="50"/>
                  </a:cubicBezTo>
                  <a:cubicBezTo>
                    <a:pt x="2597" y="22"/>
                    <a:pt x="2619" y="0"/>
                    <a:pt x="2647" y="0"/>
                  </a:cubicBezTo>
                  <a:lnTo>
                    <a:pt x="2647" y="0"/>
                  </a:lnTo>
                  <a:cubicBezTo>
                    <a:pt x="2674" y="0"/>
                    <a:pt x="2697" y="22"/>
                    <a:pt x="2697" y="50"/>
                  </a:cubicBezTo>
                  <a:cubicBezTo>
                    <a:pt x="2697" y="77"/>
                    <a:pt x="2674" y="100"/>
                    <a:pt x="2647" y="100"/>
                  </a:cubicBezTo>
                  <a:close/>
                  <a:moveTo>
                    <a:pt x="2447" y="100"/>
                  </a:moveTo>
                  <a:lnTo>
                    <a:pt x="2447" y="100"/>
                  </a:lnTo>
                  <a:cubicBezTo>
                    <a:pt x="2419" y="100"/>
                    <a:pt x="2397" y="77"/>
                    <a:pt x="2397" y="50"/>
                  </a:cubicBezTo>
                  <a:cubicBezTo>
                    <a:pt x="2397" y="22"/>
                    <a:pt x="2419" y="0"/>
                    <a:pt x="2447" y="0"/>
                  </a:cubicBezTo>
                  <a:lnTo>
                    <a:pt x="2447" y="0"/>
                  </a:lnTo>
                  <a:cubicBezTo>
                    <a:pt x="2474" y="0"/>
                    <a:pt x="2497" y="22"/>
                    <a:pt x="2497" y="50"/>
                  </a:cubicBezTo>
                  <a:cubicBezTo>
                    <a:pt x="2497" y="77"/>
                    <a:pt x="2474" y="100"/>
                    <a:pt x="2447" y="100"/>
                  </a:cubicBezTo>
                  <a:close/>
                  <a:moveTo>
                    <a:pt x="2247" y="100"/>
                  </a:moveTo>
                  <a:lnTo>
                    <a:pt x="2247" y="100"/>
                  </a:lnTo>
                  <a:cubicBezTo>
                    <a:pt x="2219" y="100"/>
                    <a:pt x="2197" y="77"/>
                    <a:pt x="2197" y="50"/>
                  </a:cubicBezTo>
                  <a:cubicBezTo>
                    <a:pt x="2197" y="22"/>
                    <a:pt x="2219" y="0"/>
                    <a:pt x="2247" y="0"/>
                  </a:cubicBezTo>
                  <a:lnTo>
                    <a:pt x="2247" y="0"/>
                  </a:lnTo>
                  <a:cubicBezTo>
                    <a:pt x="2274" y="0"/>
                    <a:pt x="2297" y="22"/>
                    <a:pt x="2297" y="50"/>
                  </a:cubicBezTo>
                  <a:cubicBezTo>
                    <a:pt x="2297" y="77"/>
                    <a:pt x="2274" y="100"/>
                    <a:pt x="2247" y="100"/>
                  </a:cubicBezTo>
                  <a:close/>
                  <a:moveTo>
                    <a:pt x="2047" y="100"/>
                  </a:moveTo>
                  <a:lnTo>
                    <a:pt x="2046" y="100"/>
                  </a:lnTo>
                  <a:cubicBezTo>
                    <a:pt x="2019" y="100"/>
                    <a:pt x="1996" y="77"/>
                    <a:pt x="1996" y="50"/>
                  </a:cubicBezTo>
                  <a:cubicBezTo>
                    <a:pt x="1996" y="22"/>
                    <a:pt x="2019" y="0"/>
                    <a:pt x="2046" y="0"/>
                  </a:cubicBezTo>
                  <a:lnTo>
                    <a:pt x="2047" y="0"/>
                  </a:lnTo>
                  <a:cubicBezTo>
                    <a:pt x="2074" y="0"/>
                    <a:pt x="2097" y="22"/>
                    <a:pt x="2097" y="50"/>
                  </a:cubicBezTo>
                  <a:cubicBezTo>
                    <a:pt x="2097" y="77"/>
                    <a:pt x="2074" y="100"/>
                    <a:pt x="2047" y="100"/>
                  </a:cubicBezTo>
                  <a:close/>
                  <a:moveTo>
                    <a:pt x="1846" y="100"/>
                  </a:moveTo>
                  <a:lnTo>
                    <a:pt x="1846" y="100"/>
                  </a:lnTo>
                  <a:cubicBezTo>
                    <a:pt x="1819" y="100"/>
                    <a:pt x="1796" y="77"/>
                    <a:pt x="1796" y="50"/>
                  </a:cubicBezTo>
                  <a:cubicBezTo>
                    <a:pt x="1796" y="22"/>
                    <a:pt x="1819" y="0"/>
                    <a:pt x="1846" y="0"/>
                  </a:cubicBezTo>
                  <a:lnTo>
                    <a:pt x="1846" y="0"/>
                  </a:lnTo>
                  <a:cubicBezTo>
                    <a:pt x="1874" y="0"/>
                    <a:pt x="1896" y="22"/>
                    <a:pt x="1896" y="50"/>
                  </a:cubicBezTo>
                  <a:cubicBezTo>
                    <a:pt x="1896" y="77"/>
                    <a:pt x="1874" y="100"/>
                    <a:pt x="1846" y="100"/>
                  </a:cubicBezTo>
                  <a:close/>
                  <a:moveTo>
                    <a:pt x="1646" y="100"/>
                  </a:moveTo>
                  <a:lnTo>
                    <a:pt x="1646" y="100"/>
                  </a:lnTo>
                  <a:cubicBezTo>
                    <a:pt x="1619" y="100"/>
                    <a:pt x="1596" y="77"/>
                    <a:pt x="1596" y="50"/>
                  </a:cubicBezTo>
                  <a:cubicBezTo>
                    <a:pt x="1596" y="22"/>
                    <a:pt x="1619" y="0"/>
                    <a:pt x="1646" y="0"/>
                  </a:cubicBezTo>
                  <a:lnTo>
                    <a:pt x="1646" y="0"/>
                  </a:lnTo>
                  <a:cubicBezTo>
                    <a:pt x="1674" y="0"/>
                    <a:pt x="1696" y="22"/>
                    <a:pt x="1696" y="50"/>
                  </a:cubicBezTo>
                  <a:cubicBezTo>
                    <a:pt x="1696" y="77"/>
                    <a:pt x="1674" y="100"/>
                    <a:pt x="1646" y="100"/>
                  </a:cubicBezTo>
                  <a:close/>
                  <a:moveTo>
                    <a:pt x="1446" y="100"/>
                  </a:moveTo>
                  <a:lnTo>
                    <a:pt x="1446" y="100"/>
                  </a:lnTo>
                  <a:cubicBezTo>
                    <a:pt x="1419" y="100"/>
                    <a:pt x="1396" y="77"/>
                    <a:pt x="1396" y="50"/>
                  </a:cubicBezTo>
                  <a:cubicBezTo>
                    <a:pt x="1396" y="22"/>
                    <a:pt x="1419" y="0"/>
                    <a:pt x="1446" y="0"/>
                  </a:cubicBezTo>
                  <a:lnTo>
                    <a:pt x="1446" y="0"/>
                  </a:lnTo>
                  <a:cubicBezTo>
                    <a:pt x="1474" y="0"/>
                    <a:pt x="1496" y="22"/>
                    <a:pt x="1496" y="50"/>
                  </a:cubicBezTo>
                  <a:cubicBezTo>
                    <a:pt x="1496" y="77"/>
                    <a:pt x="1474" y="100"/>
                    <a:pt x="1446" y="100"/>
                  </a:cubicBezTo>
                  <a:close/>
                  <a:moveTo>
                    <a:pt x="1246" y="100"/>
                  </a:moveTo>
                  <a:lnTo>
                    <a:pt x="1246" y="100"/>
                  </a:lnTo>
                  <a:cubicBezTo>
                    <a:pt x="1218" y="100"/>
                    <a:pt x="1196" y="77"/>
                    <a:pt x="1196" y="50"/>
                  </a:cubicBezTo>
                  <a:cubicBezTo>
                    <a:pt x="1196" y="22"/>
                    <a:pt x="1218" y="0"/>
                    <a:pt x="1246" y="0"/>
                  </a:cubicBezTo>
                  <a:lnTo>
                    <a:pt x="1246" y="0"/>
                  </a:lnTo>
                  <a:cubicBezTo>
                    <a:pt x="1274" y="0"/>
                    <a:pt x="1296" y="22"/>
                    <a:pt x="1296" y="50"/>
                  </a:cubicBezTo>
                  <a:cubicBezTo>
                    <a:pt x="1296" y="77"/>
                    <a:pt x="1274" y="100"/>
                    <a:pt x="1246" y="100"/>
                  </a:cubicBezTo>
                  <a:close/>
                  <a:moveTo>
                    <a:pt x="1046" y="100"/>
                  </a:moveTo>
                  <a:lnTo>
                    <a:pt x="1046" y="100"/>
                  </a:lnTo>
                  <a:cubicBezTo>
                    <a:pt x="1018" y="100"/>
                    <a:pt x="996" y="77"/>
                    <a:pt x="996" y="50"/>
                  </a:cubicBezTo>
                  <a:cubicBezTo>
                    <a:pt x="996" y="22"/>
                    <a:pt x="1018" y="0"/>
                    <a:pt x="1046" y="0"/>
                  </a:cubicBezTo>
                  <a:lnTo>
                    <a:pt x="1046" y="0"/>
                  </a:lnTo>
                  <a:cubicBezTo>
                    <a:pt x="1074" y="0"/>
                    <a:pt x="1096" y="22"/>
                    <a:pt x="1096" y="50"/>
                  </a:cubicBezTo>
                  <a:cubicBezTo>
                    <a:pt x="1096" y="77"/>
                    <a:pt x="1074" y="100"/>
                    <a:pt x="1046" y="100"/>
                  </a:cubicBezTo>
                  <a:close/>
                  <a:moveTo>
                    <a:pt x="846" y="100"/>
                  </a:moveTo>
                  <a:lnTo>
                    <a:pt x="846" y="100"/>
                  </a:lnTo>
                  <a:cubicBezTo>
                    <a:pt x="818" y="100"/>
                    <a:pt x="796" y="77"/>
                    <a:pt x="796" y="50"/>
                  </a:cubicBezTo>
                  <a:cubicBezTo>
                    <a:pt x="796" y="22"/>
                    <a:pt x="818" y="0"/>
                    <a:pt x="846" y="0"/>
                  </a:cubicBezTo>
                  <a:lnTo>
                    <a:pt x="846" y="0"/>
                  </a:lnTo>
                  <a:cubicBezTo>
                    <a:pt x="874" y="0"/>
                    <a:pt x="896" y="22"/>
                    <a:pt x="896" y="50"/>
                  </a:cubicBezTo>
                  <a:cubicBezTo>
                    <a:pt x="896" y="77"/>
                    <a:pt x="874" y="100"/>
                    <a:pt x="846" y="100"/>
                  </a:cubicBezTo>
                  <a:close/>
                  <a:moveTo>
                    <a:pt x="646" y="100"/>
                  </a:moveTo>
                  <a:lnTo>
                    <a:pt x="646" y="100"/>
                  </a:lnTo>
                  <a:cubicBezTo>
                    <a:pt x="618" y="100"/>
                    <a:pt x="596" y="77"/>
                    <a:pt x="596" y="50"/>
                  </a:cubicBezTo>
                  <a:cubicBezTo>
                    <a:pt x="596" y="22"/>
                    <a:pt x="618" y="0"/>
                    <a:pt x="646" y="0"/>
                  </a:cubicBezTo>
                  <a:lnTo>
                    <a:pt x="646" y="0"/>
                  </a:lnTo>
                  <a:cubicBezTo>
                    <a:pt x="673" y="0"/>
                    <a:pt x="696" y="22"/>
                    <a:pt x="696" y="50"/>
                  </a:cubicBezTo>
                  <a:cubicBezTo>
                    <a:pt x="696" y="77"/>
                    <a:pt x="673" y="100"/>
                    <a:pt x="646" y="100"/>
                  </a:cubicBezTo>
                  <a:close/>
                  <a:moveTo>
                    <a:pt x="446" y="100"/>
                  </a:moveTo>
                  <a:lnTo>
                    <a:pt x="446" y="100"/>
                  </a:lnTo>
                  <a:cubicBezTo>
                    <a:pt x="418" y="100"/>
                    <a:pt x="396" y="77"/>
                    <a:pt x="396" y="50"/>
                  </a:cubicBezTo>
                  <a:cubicBezTo>
                    <a:pt x="396" y="22"/>
                    <a:pt x="418" y="0"/>
                    <a:pt x="446" y="0"/>
                  </a:cubicBezTo>
                  <a:lnTo>
                    <a:pt x="446" y="0"/>
                  </a:lnTo>
                  <a:cubicBezTo>
                    <a:pt x="473" y="0"/>
                    <a:pt x="496" y="22"/>
                    <a:pt x="496" y="50"/>
                  </a:cubicBezTo>
                  <a:cubicBezTo>
                    <a:pt x="496" y="77"/>
                    <a:pt x="473" y="100"/>
                    <a:pt x="446" y="100"/>
                  </a:cubicBezTo>
                  <a:close/>
                  <a:moveTo>
                    <a:pt x="246" y="100"/>
                  </a:moveTo>
                  <a:lnTo>
                    <a:pt x="246" y="100"/>
                  </a:lnTo>
                  <a:cubicBezTo>
                    <a:pt x="218" y="100"/>
                    <a:pt x="196" y="77"/>
                    <a:pt x="196" y="50"/>
                  </a:cubicBezTo>
                  <a:cubicBezTo>
                    <a:pt x="196" y="22"/>
                    <a:pt x="218" y="0"/>
                    <a:pt x="246" y="0"/>
                  </a:cubicBezTo>
                  <a:lnTo>
                    <a:pt x="246" y="0"/>
                  </a:lnTo>
                  <a:cubicBezTo>
                    <a:pt x="273" y="0"/>
                    <a:pt x="296" y="22"/>
                    <a:pt x="296" y="50"/>
                  </a:cubicBezTo>
                  <a:cubicBezTo>
                    <a:pt x="296" y="77"/>
                    <a:pt x="273" y="100"/>
                    <a:pt x="246" y="100"/>
                  </a:cubicBezTo>
                  <a:close/>
                  <a:moveTo>
                    <a:pt x="100" y="55"/>
                  </a:moveTo>
                  <a:lnTo>
                    <a:pt x="100" y="55"/>
                  </a:lnTo>
                  <a:cubicBezTo>
                    <a:pt x="100" y="82"/>
                    <a:pt x="78" y="105"/>
                    <a:pt x="50" y="105"/>
                  </a:cubicBezTo>
                  <a:cubicBezTo>
                    <a:pt x="23" y="105"/>
                    <a:pt x="0" y="82"/>
                    <a:pt x="0" y="55"/>
                  </a:cubicBezTo>
                  <a:lnTo>
                    <a:pt x="0" y="55"/>
                  </a:lnTo>
                  <a:cubicBezTo>
                    <a:pt x="0" y="27"/>
                    <a:pt x="23" y="5"/>
                    <a:pt x="50" y="5"/>
                  </a:cubicBezTo>
                  <a:cubicBezTo>
                    <a:pt x="78" y="5"/>
                    <a:pt x="100" y="27"/>
                    <a:pt x="100" y="55"/>
                  </a:cubicBezTo>
                  <a:close/>
                  <a:moveTo>
                    <a:pt x="100" y="255"/>
                  </a:moveTo>
                  <a:lnTo>
                    <a:pt x="100" y="255"/>
                  </a:lnTo>
                  <a:cubicBezTo>
                    <a:pt x="100" y="283"/>
                    <a:pt x="78" y="305"/>
                    <a:pt x="50" y="305"/>
                  </a:cubicBezTo>
                  <a:cubicBezTo>
                    <a:pt x="23" y="305"/>
                    <a:pt x="0" y="283"/>
                    <a:pt x="0" y="255"/>
                  </a:cubicBezTo>
                  <a:lnTo>
                    <a:pt x="0" y="255"/>
                  </a:lnTo>
                  <a:cubicBezTo>
                    <a:pt x="0" y="227"/>
                    <a:pt x="23" y="205"/>
                    <a:pt x="50" y="205"/>
                  </a:cubicBezTo>
                  <a:cubicBezTo>
                    <a:pt x="78" y="205"/>
                    <a:pt x="100" y="227"/>
                    <a:pt x="100" y="255"/>
                  </a:cubicBezTo>
                  <a:close/>
                  <a:moveTo>
                    <a:pt x="100" y="455"/>
                  </a:moveTo>
                  <a:lnTo>
                    <a:pt x="100" y="455"/>
                  </a:lnTo>
                  <a:cubicBezTo>
                    <a:pt x="100" y="483"/>
                    <a:pt x="78" y="505"/>
                    <a:pt x="50" y="505"/>
                  </a:cubicBezTo>
                  <a:cubicBezTo>
                    <a:pt x="23" y="505"/>
                    <a:pt x="0" y="483"/>
                    <a:pt x="0" y="455"/>
                  </a:cubicBezTo>
                  <a:lnTo>
                    <a:pt x="0" y="455"/>
                  </a:lnTo>
                  <a:cubicBezTo>
                    <a:pt x="0" y="427"/>
                    <a:pt x="23" y="405"/>
                    <a:pt x="50" y="405"/>
                  </a:cubicBezTo>
                  <a:cubicBezTo>
                    <a:pt x="78" y="405"/>
                    <a:pt x="100" y="427"/>
                    <a:pt x="100" y="455"/>
                  </a:cubicBezTo>
                  <a:close/>
                  <a:moveTo>
                    <a:pt x="100" y="655"/>
                  </a:moveTo>
                  <a:lnTo>
                    <a:pt x="100" y="655"/>
                  </a:lnTo>
                  <a:cubicBezTo>
                    <a:pt x="100" y="683"/>
                    <a:pt x="78" y="705"/>
                    <a:pt x="50" y="705"/>
                  </a:cubicBezTo>
                  <a:cubicBezTo>
                    <a:pt x="23" y="705"/>
                    <a:pt x="0" y="683"/>
                    <a:pt x="0" y="655"/>
                  </a:cubicBezTo>
                  <a:lnTo>
                    <a:pt x="0" y="655"/>
                  </a:lnTo>
                  <a:cubicBezTo>
                    <a:pt x="0" y="627"/>
                    <a:pt x="23" y="605"/>
                    <a:pt x="50" y="605"/>
                  </a:cubicBezTo>
                  <a:cubicBezTo>
                    <a:pt x="78" y="605"/>
                    <a:pt x="100" y="627"/>
                    <a:pt x="100" y="655"/>
                  </a:cubicBezTo>
                  <a:close/>
                  <a:moveTo>
                    <a:pt x="100" y="855"/>
                  </a:moveTo>
                  <a:lnTo>
                    <a:pt x="100" y="855"/>
                  </a:lnTo>
                  <a:cubicBezTo>
                    <a:pt x="100" y="883"/>
                    <a:pt x="78" y="905"/>
                    <a:pt x="50" y="905"/>
                  </a:cubicBezTo>
                  <a:cubicBezTo>
                    <a:pt x="23" y="905"/>
                    <a:pt x="0" y="883"/>
                    <a:pt x="0" y="855"/>
                  </a:cubicBezTo>
                  <a:lnTo>
                    <a:pt x="0" y="855"/>
                  </a:lnTo>
                  <a:cubicBezTo>
                    <a:pt x="0" y="827"/>
                    <a:pt x="23" y="805"/>
                    <a:pt x="50" y="805"/>
                  </a:cubicBezTo>
                  <a:cubicBezTo>
                    <a:pt x="78" y="805"/>
                    <a:pt x="100" y="827"/>
                    <a:pt x="100" y="855"/>
                  </a:cubicBezTo>
                  <a:close/>
                  <a:moveTo>
                    <a:pt x="100" y="1055"/>
                  </a:moveTo>
                  <a:lnTo>
                    <a:pt x="100" y="1055"/>
                  </a:lnTo>
                  <a:cubicBezTo>
                    <a:pt x="100" y="1083"/>
                    <a:pt x="78" y="1105"/>
                    <a:pt x="50" y="1105"/>
                  </a:cubicBezTo>
                  <a:cubicBezTo>
                    <a:pt x="23" y="1105"/>
                    <a:pt x="0" y="1083"/>
                    <a:pt x="0" y="1055"/>
                  </a:cubicBezTo>
                  <a:lnTo>
                    <a:pt x="0" y="1055"/>
                  </a:lnTo>
                  <a:cubicBezTo>
                    <a:pt x="0" y="1028"/>
                    <a:pt x="23" y="1005"/>
                    <a:pt x="50" y="1005"/>
                  </a:cubicBezTo>
                  <a:cubicBezTo>
                    <a:pt x="78" y="1005"/>
                    <a:pt x="100" y="1028"/>
                    <a:pt x="100" y="1055"/>
                  </a:cubicBezTo>
                  <a:close/>
                  <a:moveTo>
                    <a:pt x="100" y="1255"/>
                  </a:moveTo>
                  <a:lnTo>
                    <a:pt x="100" y="1255"/>
                  </a:lnTo>
                  <a:cubicBezTo>
                    <a:pt x="100" y="1283"/>
                    <a:pt x="78" y="1305"/>
                    <a:pt x="50" y="1305"/>
                  </a:cubicBezTo>
                  <a:cubicBezTo>
                    <a:pt x="23" y="1305"/>
                    <a:pt x="0" y="1283"/>
                    <a:pt x="0" y="1255"/>
                  </a:cubicBezTo>
                  <a:lnTo>
                    <a:pt x="0" y="1255"/>
                  </a:lnTo>
                  <a:cubicBezTo>
                    <a:pt x="0" y="1228"/>
                    <a:pt x="23" y="1205"/>
                    <a:pt x="50" y="1205"/>
                  </a:cubicBezTo>
                  <a:cubicBezTo>
                    <a:pt x="78" y="1205"/>
                    <a:pt x="100" y="1228"/>
                    <a:pt x="100" y="1255"/>
                  </a:cubicBezTo>
                  <a:close/>
                  <a:moveTo>
                    <a:pt x="100" y="1455"/>
                  </a:moveTo>
                  <a:lnTo>
                    <a:pt x="100" y="1456"/>
                  </a:lnTo>
                  <a:cubicBezTo>
                    <a:pt x="100" y="1483"/>
                    <a:pt x="78" y="1506"/>
                    <a:pt x="50" y="1506"/>
                  </a:cubicBezTo>
                  <a:cubicBezTo>
                    <a:pt x="23" y="1506"/>
                    <a:pt x="0" y="1483"/>
                    <a:pt x="0" y="1456"/>
                  </a:cubicBezTo>
                  <a:lnTo>
                    <a:pt x="0" y="1455"/>
                  </a:lnTo>
                  <a:cubicBezTo>
                    <a:pt x="0" y="1428"/>
                    <a:pt x="23" y="1405"/>
                    <a:pt x="50" y="1405"/>
                  </a:cubicBezTo>
                  <a:cubicBezTo>
                    <a:pt x="78" y="1405"/>
                    <a:pt x="100" y="1428"/>
                    <a:pt x="100" y="1455"/>
                  </a:cubicBezTo>
                  <a:close/>
                  <a:moveTo>
                    <a:pt x="100" y="1656"/>
                  </a:moveTo>
                  <a:lnTo>
                    <a:pt x="100" y="1656"/>
                  </a:lnTo>
                  <a:cubicBezTo>
                    <a:pt x="100" y="1683"/>
                    <a:pt x="78" y="1706"/>
                    <a:pt x="50" y="1706"/>
                  </a:cubicBezTo>
                  <a:cubicBezTo>
                    <a:pt x="23" y="1706"/>
                    <a:pt x="0" y="1683"/>
                    <a:pt x="0" y="1656"/>
                  </a:cubicBezTo>
                  <a:lnTo>
                    <a:pt x="0" y="1656"/>
                  </a:lnTo>
                  <a:cubicBezTo>
                    <a:pt x="0" y="1628"/>
                    <a:pt x="23" y="1606"/>
                    <a:pt x="50" y="1606"/>
                  </a:cubicBezTo>
                  <a:cubicBezTo>
                    <a:pt x="78" y="1606"/>
                    <a:pt x="100" y="1628"/>
                    <a:pt x="100" y="1656"/>
                  </a:cubicBezTo>
                  <a:close/>
                  <a:moveTo>
                    <a:pt x="100" y="1856"/>
                  </a:moveTo>
                  <a:lnTo>
                    <a:pt x="100" y="1856"/>
                  </a:lnTo>
                  <a:cubicBezTo>
                    <a:pt x="100" y="1883"/>
                    <a:pt x="78" y="1906"/>
                    <a:pt x="50" y="1906"/>
                  </a:cubicBezTo>
                  <a:cubicBezTo>
                    <a:pt x="23" y="1906"/>
                    <a:pt x="0" y="1883"/>
                    <a:pt x="0" y="1856"/>
                  </a:cubicBezTo>
                  <a:lnTo>
                    <a:pt x="0" y="1856"/>
                  </a:lnTo>
                  <a:cubicBezTo>
                    <a:pt x="0" y="1828"/>
                    <a:pt x="23" y="1806"/>
                    <a:pt x="50" y="1806"/>
                  </a:cubicBezTo>
                  <a:cubicBezTo>
                    <a:pt x="78" y="1806"/>
                    <a:pt x="100" y="1828"/>
                    <a:pt x="100" y="1856"/>
                  </a:cubicBezTo>
                  <a:close/>
                  <a:moveTo>
                    <a:pt x="100" y="2056"/>
                  </a:moveTo>
                  <a:lnTo>
                    <a:pt x="100" y="2056"/>
                  </a:lnTo>
                  <a:cubicBezTo>
                    <a:pt x="100" y="2083"/>
                    <a:pt x="78" y="2106"/>
                    <a:pt x="50" y="2106"/>
                  </a:cubicBezTo>
                  <a:cubicBezTo>
                    <a:pt x="23" y="2106"/>
                    <a:pt x="0" y="2083"/>
                    <a:pt x="0" y="2056"/>
                  </a:cubicBezTo>
                  <a:lnTo>
                    <a:pt x="0" y="2056"/>
                  </a:lnTo>
                  <a:cubicBezTo>
                    <a:pt x="0" y="2028"/>
                    <a:pt x="23" y="2006"/>
                    <a:pt x="50" y="2006"/>
                  </a:cubicBezTo>
                  <a:cubicBezTo>
                    <a:pt x="78" y="2006"/>
                    <a:pt x="100" y="2028"/>
                    <a:pt x="100" y="2056"/>
                  </a:cubicBezTo>
                  <a:close/>
                  <a:moveTo>
                    <a:pt x="100" y="2256"/>
                  </a:moveTo>
                  <a:lnTo>
                    <a:pt x="100" y="2256"/>
                  </a:lnTo>
                  <a:cubicBezTo>
                    <a:pt x="100" y="2284"/>
                    <a:pt x="78" y="2306"/>
                    <a:pt x="50" y="2306"/>
                  </a:cubicBezTo>
                  <a:cubicBezTo>
                    <a:pt x="23" y="2306"/>
                    <a:pt x="0" y="2284"/>
                    <a:pt x="0" y="2256"/>
                  </a:cubicBezTo>
                  <a:lnTo>
                    <a:pt x="0" y="2256"/>
                  </a:lnTo>
                  <a:cubicBezTo>
                    <a:pt x="0" y="2228"/>
                    <a:pt x="23" y="2206"/>
                    <a:pt x="50" y="2206"/>
                  </a:cubicBezTo>
                  <a:cubicBezTo>
                    <a:pt x="78" y="2206"/>
                    <a:pt x="100" y="2228"/>
                    <a:pt x="100" y="2256"/>
                  </a:cubicBezTo>
                  <a:close/>
                  <a:moveTo>
                    <a:pt x="100" y="2456"/>
                  </a:moveTo>
                  <a:lnTo>
                    <a:pt x="100" y="2456"/>
                  </a:lnTo>
                  <a:cubicBezTo>
                    <a:pt x="100" y="2484"/>
                    <a:pt x="78" y="2506"/>
                    <a:pt x="50" y="2506"/>
                  </a:cubicBezTo>
                  <a:cubicBezTo>
                    <a:pt x="23" y="2506"/>
                    <a:pt x="0" y="2484"/>
                    <a:pt x="0" y="2456"/>
                  </a:cubicBezTo>
                  <a:lnTo>
                    <a:pt x="0" y="2456"/>
                  </a:lnTo>
                  <a:cubicBezTo>
                    <a:pt x="0" y="2428"/>
                    <a:pt x="23" y="2406"/>
                    <a:pt x="50" y="2406"/>
                  </a:cubicBezTo>
                  <a:cubicBezTo>
                    <a:pt x="78" y="2406"/>
                    <a:pt x="100" y="2428"/>
                    <a:pt x="100" y="2456"/>
                  </a:cubicBezTo>
                  <a:close/>
                  <a:moveTo>
                    <a:pt x="100" y="2656"/>
                  </a:moveTo>
                  <a:lnTo>
                    <a:pt x="100" y="2656"/>
                  </a:lnTo>
                  <a:cubicBezTo>
                    <a:pt x="100" y="2684"/>
                    <a:pt x="78" y="2706"/>
                    <a:pt x="50" y="2706"/>
                  </a:cubicBezTo>
                  <a:cubicBezTo>
                    <a:pt x="23" y="2706"/>
                    <a:pt x="0" y="2684"/>
                    <a:pt x="0" y="2656"/>
                  </a:cubicBezTo>
                  <a:lnTo>
                    <a:pt x="0" y="2656"/>
                  </a:lnTo>
                  <a:cubicBezTo>
                    <a:pt x="0" y="2628"/>
                    <a:pt x="23" y="2606"/>
                    <a:pt x="50" y="2606"/>
                  </a:cubicBezTo>
                  <a:cubicBezTo>
                    <a:pt x="78" y="2606"/>
                    <a:pt x="100" y="2628"/>
                    <a:pt x="100" y="2656"/>
                  </a:cubicBezTo>
                  <a:close/>
                  <a:moveTo>
                    <a:pt x="100" y="2856"/>
                  </a:moveTo>
                  <a:lnTo>
                    <a:pt x="100" y="2856"/>
                  </a:lnTo>
                  <a:cubicBezTo>
                    <a:pt x="100" y="2884"/>
                    <a:pt x="78" y="2906"/>
                    <a:pt x="50" y="2906"/>
                  </a:cubicBezTo>
                  <a:cubicBezTo>
                    <a:pt x="23" y="2906"/>
                    <a:pt x="0" y="2884"/>
                    <a:pt x="0" y="2856"/>
                  </a:cubicBezTo>
                  <a:lnTo>
                    <a:pt x="0" y="2856"/>
                  </a:lnTo>
                  <a:cubicBezTo>
                    <a:pt x="0" y="2828"/>
                    <a:pt x="23" y="2806"/>
                    <a:pt x="50" y="2806"/>
                  </a:cubicBezTo>
                  <a:cubicBezTo>
                    <a:pt x="78" y="2806"/>
                    <a:pt x="100" y="2828"/>
                    <a:pt x="100" y="2856"/>
                  </a:cubicBezTo>
                  <a:close/>
                  <a:moveTo>
                    <a:pt x="100" y="3056"/>
                  </a:moveTo>
                  <a:lnTo>
                    <a:pt x="100" y="3056"/>
                  </a:lnTo>
                  <a:cubicBezTo>
                    <a:pt x="100" y="3084"/>
                    <a:pt x="78" y="3106"/>
                    <a:pt x="50" y="3106"/>
                  </a:cubicBezTo>
                  <a:cubicBezTo>
                    <a:pt x="23" y="3106"/>
                    <a:pt x="0" y="3084"/>
                    <a:pt x="0" y="3056"/>
                  </a:cubicBezTo>
                  <a:lnTo>
                    <a:pt x="0" y="3056"/>
                  </a:lnTo>
                  <a:cubicBezTo>
                    <a:pt x="0" y="3029"/>
                    <a:pt x="23" y="3006"/>
                    <a:pt x="50" y="3006"/>
                  </a:cubicBezTo>
                  <a:cubicBezTo>
                    <a:pt x="78" y="3006"/>
                    <a:pt x="100" y="3029"/>
                    <a:pt x="100" y="3056"/>
                  </a:cubicBezTo>
                  <a:close/>
                  <a:moveTo>
                    <a:pt x="100" y="3256"/>
                  </a:moveTo>
                  <a:lnTo>
                    <a:pt x="100" y="3256"/>
                  </a:lnTo>
                  <a:cubicBezTo>
                    <a:pt x="100" y="3284"/>
                    <a:pt x="78" y="3306"/>
                    <a:pt x="50" y="3306"/>
                  </a:cubicBezTo>
                  <a:cubicBezTo>
                    <a:pt x="23" y="3306"/>
                    <a:pt x="0" y="3284"/>
                    <a:pt x="0" y="3256"/>
                  </a:cubicBezTo>
                  <a:lnTo>
                    <a:pt x="0" y="3256"/>
                  </a:lnTo>
                  <a:cubicBezTo>
                    <a:pt x="0" y="3229"/>
                    <a:pt x="23" y="3206"/>
                    <a:pt x="50" y="3206"/>
                  </a:cubicBezTo>
                  <a:cubicBezTo>
                    <a:pt x="78" y="3206"/>
                    <a:pt x="100" y="3229"/>
                    <a:pt x="100" y="3256"/>
                  </a:cubicBezTo>
                  <a:close/>
                  <a:moveTo>
                    <a:pt x="100" y="3456"/>
                  </a:moveTo>
                  <a:lnTo>
                    <a:pt x="100" y="3457"/>
                  </a:lnTo>
                  <a:cubicBezTo>
                    <a:pt x="100" y="3484"/>
                    <a:pt x="78" y="3507"/>
                    <a:pt x="50" y="3507"/>
                  </a:cubicBezTo>
                  <a:cubicBezTo>
                    <a:pt x="23" y="3507"/>
                    <a:pt x="0" y="3484"/>
                    <a:pt x="0" y="3457"/>
                  </a:cubicBezTo>
                  <a:lnTo>
                    <a:pt x="0" y="3456"/>
                  </a:lnTo>
                  <a:cubicBezTo>
                    <a:pt x="0" y="3429"/>
                    <a:pt x="23" y="3406"/>
                    <a:pt x="50" y="3406"/>
                  </a:cubicBezTo>
                  <a:cubicBezTo>
                    <a:pt x="78" y="3406"/>
                    <a:pt x="100" y="3429"/>
                    <a:pt x="100" y="3456"/>
                  </a:cubicBezTo>
                  <a:close/>
                  <a:moveTo>
                    <a:pt x="100" y="3657"/>
                  </a:moveTo>
                  <a:lnTo>
                    <a:pt x="100" y="3657"/>
                  </a:lnTo>
                  <a:cubicBezTo>
                    <a:pt x="100" y="3684"/>
                    <a:pt x="78" y="3707"/>
                    <a:pt x="50" y="3707"/>
                  </a:cubicBezTo>
                  <a:cubicBezTo>
                    <a:pt x="23" y="3707"/>
                    <a:pt x="0" y="3684"/>
                    <a:pt x="0" y="3657"/>
                  </a:cubicBezTo>
                  <a:lnTo>
                    <a:pt x="0" y="3657"/>
                  </a:lnTo>
                  <a:cubicBezTo>
                    <a:pt x="0" y="3629"/>
                    <a:pt x="23" y="3607"/>
                    <a:pt x="50" y="3607"/>
                  </a:cubicBezTo>
                  <a:cubicBezTo>
                    <a:pt x="78" y="3607"/>
                    <a:pt x="100" y="3629"/>
                    <a:pt x="100" y="3657"/>
                  </a:cubicBezTo>
                  <a:close/>
                  <a:moveTo>
                    <a:pt x="100" y="3857"/>
                  </a:moveTo>
                  <a:lnTo>
                    <a:pt x="100" y="3857"/>
                  </a:lnTo>
                  <a:cubicBezTo>
                    <a:pt x="100" y="3884"/>
                    <a:pt x="78" y="3907"/>
                    <a:pt x="50" y="3907"/>
                  </a:cubicBezTo>
                  <a:cubicBezTo>
                    <a:pt x="23" y="3907"/>
                    <a:pt x="0" y="3884"/>
                    <a:pt x="0" y="3857"/>
                  </a:cubicBezTo>
                  <a:lnTo>
                    <a:pt x="0" y="3857"/>
                  </a:lnTo>
                  <a:cubicBezTo>
                    <a:pt x="0" y="3829"/>
                    <a:pt x="23" y="3807"/>
                    <a:pt x="50" y="3807"/>
                  </a:cubicBezTo>
                  <a:cubicBezTo>
                    <a:pt x="78" y="3807"/>
                    <a:pt x="100" y="3829"/>
                    <a:pt x="100" y="3857"/>
                  </a:cubicBezTo>
                  <a:close/>
                  <a:moveTo>
                    <a:pt x="100" y="4057"/>
                  </a:moveTo>
                  <a:lnTo>
                    <a:pt x="100" y="4057"/>
                  </a:lnTo>
                  <a:cubicBezTo>
                    <a:pt x="100" y="4084"/>
                    <a:pt x="78" y="4107"/>
                    <a:pt x="50" y="4107"/>
                  </a:cubicBezTo>
                  <a:cubicBezTo>
                    <a:pt x="23" y="4107"/>
                    <a:pt x="0" y="4084"/>
                    <a:pt x="0" y="4057"/>
                  </a:cubicBezTo>
                  <a:lnTo>
                    <a:pt x="0" y="4057"/>
                  </a:lnTo>
                  <a:cubicBezTo>
                    <a:pt x="0" y="4029"/>
                    <a:pt x="23" y="4007"/>
                    <a:pt x="50" y="4007"/>
                  </a:cubicBezTo>
                  <a:cubicBezTo>
                    <a:pt x="78" y="4007"/>
                    <a:pt x="100" y="4029"/>
                    <a:pt x="100" y="4057"/>
                  </a:cubicBezTo>
                  <a:close/>
                  <a:moveTo>
                    <a:pt x="100" y="4257"/>
                  </a:moveTo>
                  <a:lnTo>
                    <a:pt x="100" y="4257"/>
                  </a:lnTo>
                  <a:cubicBezTo>
                    <a:pt x="100" y="4285"/>
                    <a:pt x="78" y="4307"/>
                    <a:pt x="50" y="4307"/>
                  </a:cubicBezTo>
                  <a:cubicBezTo>
                    <a:pt x="23" y="4307"/>
                    <a:pt x="0" y="4285"/>
                    <a:pt x="0" y="4257"/>
                  </a:cubicBezTo>
                  <a:lnTo>
                    <a:pt x="0" y="4257"/>
                  </a:lnTo>
                  <a:cubicBezTo>
                    <a:pt x="0" y="4229"/>
                    <a:pt x="23" y="4207"/>
                    <a:pt x="50" y="4207"/>
                  </a:cubicBezTo>
                  <a:cubicBezTo>
                    <a:pt x="78" y="4207"/>
                    <a:pt x="100" y="4229"/>
                    <a:pt x="100" y="4257"/>
                  </a:cubicBezTo>
                  <a:close/>
                  <a:moveTo>
                    <a:pt x="100" y="4457"/>
                  </a:moveTo>
                  <a:lnTo>
                    <a:pt x="100" y="4457"/>
                  </a:lnTo>
                  <a:cubicBezTo>
                    <a:pt x="100" y="4485"/>
                    <a:pt x="78" y="4507"/>
                    <a:pt x="50" y="4507"/>
                  </a:cubicBezTo>
                  <a:cubicBezTo>
                    <a:pt x="23" y="4507"/>
                    <a:pt x="0" y="4485"/>
                    <a:pt x="0" y="4457"/>
                  </a:cubicBezTo>
                  <a:lnTo>
                    <a:pt x="0" y="4457"/>
                  </a:lnTo>
                  <a:cubicBezTo>
                    <a:pt x="0" y="4429"/>
                    <a:pt x="23" y="4407"/>
                    <a:pt x="50" y="4407"/>
                  </a:cubicBezTo>
                  <a:cubicBezTo>
                    <a:pt x="78" y="4407"/>
                    <a:pt x="100" y="4429"/>
                    <a:pt x="100" y="4457"/>
                  </a:cubicBezTo>
                  <a:close/>
                  <a:moveTo>
                    <a:pt x="204" y="4453"/>
                  </a:moveTo>
                  <a:lnTo>
                    <a:pt x="204" y="4453"/>
                  </a:lnTo>
                  <a:cubicBezTo>
                    <a:pt x="232" y="4453"/>
                    <a:pt x="254" y="4476"/>
                    <a:pt x="254" y="4503"/>
                  </a:cubicBezTo>
                  <a:cubicBezTo>
                    <a:pt x="254" y="4531"/>
                    <a:pt x="232" y="4553"/>
                    <a:pt x="204" y="4553"/>
                  </a:cubicBezTo>
                  <a:lnTo>
                    <a:pt x="204" y="4553"/>
                  </a:lnTo>
                  <a:cubicBezTo>
                    <a:pt x="177" y="4553"/>
                    <a:pt x="154" y="4531"/>
                    <a:pt x="154" y="4503"/>
                  </a:cubicBezTo>
                  <a:cubicBezTo>
                    <a:pt x="154" y="4476"/>
                    <a:pt x="177" y="4453"/>
                    <a:pt x="204" y="4453"/>
                  </a:cubicBezTo>
                  <a:close/>
                  <a:moveTo>
                    <a:pt x="404" y="4453"/>
                  </a:moveTo>
                  <a:lnTo>
                    <a:pt x="405" y="4453"/>
                  </a:lnTo>
                  <a:cubicBezTo>
                    <a:pt x="432" y="4453"/>
                    <a:pt x="455" y="4476"/>
                    <a:pt x="455" y="4503"/>
                  </a:cubicBezTo>
                  <a:cubicBezTo>
                    <a:pt x="455" y="4531"/>
                    <a:pt x="432" y="4553"/>
                    <a:pt x="405" y="4553"/>
                  </a:cubicBezTo>
                  <a:lnTo>
                    <a:pt x="404" y="4553"/>
                  </a:lnTo>
                  <a:cubicBezTo>
                    <a:pt x="377" y="4553"/>
                    <a:pt x="354" y="4531"/>
                    <a:pt x="354" y="4503"/>
                  </a:cubicBezTo>
                  <a:cubicBezTo>
                    <a:pt x="354" y="4476"/>
                    <a:pt x="377" y="4453"/>
                    <a:pt x="404" y="4453"/>
                  </a:cubicBezTo>
                  <a:close/>
                  <a:moveTo>
                    <a:pt x="605" y="4453"/>
                  </a:moveTo>
                  <a:lnTo>
                    <a:pt x="605" y="4453"/>
                  </a:lnTo>
                  <a:cubicBezTo>
                    <a:pt x="632" y="4453"/>
                    <a:pt x="655" y="4476"/>
                    <a:pt x="655" y="4503"/>
                  </a:cubicBezTo>
                  <a:cubicBezTo>
                    <a:pt x="655" y="4531"/>
                    <a:pt x="632" y="4553"/>
                    <a:pt x="605" y="4553"/>
                  </a:cubicBezTo>
                  <a:lnTo>
                    <a:pt x="605" y="4553"/>
                  </a:lnTo>
                  <a:cubicBezTo>
                    <a:pt x="577" y="4553"/>
                    <a:pt x="555" y="4531"/>
                    <a:pt x="555" y="4503"/>
                  </a:cubicBezTo>
                  <a:cubicBezTo>
                    <a:pt x="555" y="4476"/>
                    <a:pt x="577" y="4453"/>
                    <a:pt x="605" y="4453"/>
                  </a:cubicBezTo>
                  <a:close/>
                  <a:moveTo>
                    <a:pt x="805" y="4453"/>
                  </a:moveTo>
                  <a:lnTo>
                    <a:pt x="805" y="4453"/>
                  </a:lnTo>
                  <a:cubicBezTo>
                    <a:pt x="832" y="4453"/>
                    <a:pt x="855" y="4476"/>
                    <a:pt x="855" y="4503"/>
                  </a:cubicBezTo>
                  <a:cubicBezTo>
                    <a:pt x="855" y="4531"/>
                    <a:pt x="832" y="4553"/>
                    <a:pt x="805" y="4553"/>
                  </a:cubicBezTo>
                  <a:lnTo>
                    <a:pt x="805" y="4553"/>
                  </a:lnTo>
                  <a:cubicBezTo>
                    <a:pt x="777" y="4553"/>
                    <a:pt x="755" y="4531"/>
                    <a:pt x="755" y="4503"/>
                  </a:cubicBezTo>
                  <a:cubicBezTo>
                    <a:pt x="755" y="4476"/>
                    <a:pt x="777" y="4453"/>
                    <a:pt x="805" y="4453"/>
                  </a:cubicBezTo>
                  <a:close/>
                  <a:moveTo>
                    <a:pt x="1005" y="4453"/>
                  </a:moveTo>
                  <a:lnTo>
                    <a:pt x="1005" y="4453"/>
                  </a:lnTo>
                  <a:cubicBezTo>
                    <a:pt x="1032" y="4453"/>
                    <a:pt x="1055" y="4476"/>
                    <a:pt x="1055" y="4503"/>
                  </a:cubicBezTo>
                  <a:cubicBezTo>
                    <a:pt x="1055" y="4531"/>
                    <a:pt x="1032" y="4553"/>
                    <a:pt x="1005" y="4553"/>
                  </a:cubicBezTo>
                  <a:lnTo>
                    <a:pt x="1005" y="4553"/>
                  </a:lnTo>
                  <a:cubicBezTo>
                    <a:pt x="977" y="4553"/>
                    <a:pt x="955" y="4531"/>
                    <a:pt x="955" y="4503"/>
                  </a:cubicBezTo>
                  <a:cubicBezTo>
                    <a:pt x="955" y="4476"/>
                    <a:pt x="977" y="4453"/>
                    <a:pt x="1005" y="4453"/>
                  </a:cubicBezTo>
                  <a:close/>
                  <a:moveTo>
                    <a:pt x="1205" y="4453"/>
                  </a:moveTo>
                  <a:lnTo>
                    <a:pt x="1205" y="4453"/>
                  </a:lnTo>
                  <a:cubicBezTo>
                    <a:pt x="1233" y="4453"/>
                    <a:pt x="1255" y="4476"/>
                    <a:pt x="1255" y="4503"/>
                  </a:cubicBezTo>
                  <a:cubicBezTo>
                    <a:pt x="1255" y="4531"/>
                    <a:pt x="1233" y="4553"/>
                    <a:pt x="1205" y="4553"/>
                  </a:cubicBezTo>
                  <a:lnTo>
                    <a:pt x="1205" y="4553"/>
                  </a:lnTo>
                  <a:cubicBezTo>
                    <a:pt x="1177" y="4553"/>
                    <a:pt x="1155" y="4531"/>
                    <a:pt x="1155" y="4503"/>
                  </a:cubicBezTo>
                  <a:cubicBezTo>
                    <a:pt x="1155" y="4476"/>
                    <a:pt x="1177" y="4453"/>
                    <a:pt x="1205" y="4453"/>
                  </a:cubicBezTo>
                  <a:close/>
                  <a:moveTo>
                    <a:pt x="1405" y="4453"/>
                  </a:moveTo>
                  <a:lnTo>
                    <a:pt x="1405" y="4453"/>
                  </a:lnTo>
                  <a:cubicBezTo>
                    <a:pt x="1433" y="4453"/>
                    <a:pt x="1455" y="4476"/>
                    <a:pt x="1455" y="4503"/>
                  </a:cubicBezTo>
                  <a:cubicBezTo>
                    <a:pt x="1455" y="4531"/>
                    <a:pt x="1433" y="4553"/>
                    <a:pt x="1405" y="4553"/>
                  </a:cubicBezTo>
                  <a:lnTo>
                    <a:pt x="1405" y="4553"/>
                  </a:lnTo>
                  <a:cubicBezTo>
                    <a:pt x="1377" y="4553"/>
                    <a:pt x="1355" y="4531"/>
                    <a:pt x="1355" y="4503"/>
                  </a:cubicBezTo>
                  <a:cubicBezTo>
                    <a:pt x="1355" y="4476"/>
                    <a:pt x="1377" y="4453"/>
                    <a:pt x="1405" y="4453"/>
                  </a:cubicBezTo>
                  <a:close/>
                  <a:moveTo>
                    <a:pt x="1605" y="4453"/>
                  </a:moveTo>
                  <a:lnTo>
                    <a:pt x="1605" y="4453"/>
                  </a:lnTo>
                  <a:cubicBezTo>
                    <a:pt x="1633" y="4453"/>
                    <a:pt x="1655" y="4476"/>
                    <a:pt x="1655" y="4503"/>
                  </a:cubicBezTo>
                  <a:cubicBezTo>
                    <a:pt x="1655" y="4531"/>
                    <a:pt x="1633" y="4553"/>
                    <a:pt x="1605" y="4553"/>
                  </a:cubicBezTo>
                  <a:lnTo>
                    <a:pt x="1605" y="4553"/>
                  </a:lnTo>
                  <a:cubicBezTo>
                    <a:pt x="1577" y="4553"/>
                    <a:pt x="1555" y="4531"/>
                    <a:pt x="1555" y="4503"/>
                  </a:cubicBezTo>
                  <a:cubicBezTo>
                    <a:pt x="1555" y="4476"/>
                    <a:pt x="1577" y="4453"/>
                    <a:pt x="1605" y="4453"/>
                  </a:cubicBezTo>
                  <a:close/>
                  <a:moveTo>
                    <a:pt x="1805" y="4453"/>
                  </a:moveTo>
                  <a:lnTo>
                    <a:pt x="1805" y="4453"/>
                  </a:lnTo>
                  <a:cubicBezTo>
                    <a:pt x="1833" y="4453"/>
                    <a:pt x="1855" y="4476"/>
                    <a:pt x="1855" y="4503"/>
                  </a:cubicBezTo>
                  <a:cubicBezTo>
                    <a:pt x="1855" y="4531"/>
                    <a:pt x="1833" y="4553"/>
                    <a:pt x="1805" y="4553"/>
                  </a:cubicBezTo>
                  <a:lnTo>
                    <a:pt x="1805" y="4553"/>
                  </a:lnTo>
                  <a:cubicBezTo>
                    <a:pt x="1778" y="4553"/>
                    <a:pt x="1755" y="4531"/>
                    <a:pt x="1755" y="4503"/>
                  </a:cubicBezTo>
                  <a:cubicBezTo>
                    <a:pt x="1755" y="4476"/>
                    <a:pt x="1778" y="4453"/>
                    <a:pt x="1805" y="4453"/>
                  </a:cubicBezTo>
                  <a:close/>
                  <a:moveTo>
                    <a:pt x="2005" y="4453"/>
                  </a:moveTo>
                  <a:lnTo>
                    <a:pt x="2005" y="4453"/>
                  </a:lnTo>
                  <a:cubicBezTo>
                    <a:pt x="2033" y="4453"/>
                    <a:pt x="2055" y="4476"/>
                    <a:pt x="2055" y="4503"/>
                  </a:cubicBezTo>
                  <a:cubicBezTo>
                    <a:pt x="2055" y="4531"/>
                    <a:pt x="2033" y="4553"/>
                    <a:pt x="2005" y="4553"/>
                  </a:cubicBezTo>
                  <a:lnTo>
                    <a:pt x="2005" y="4553"/>
                  </a:lnTo>
                  <a:cubicBezTo>
                    <a:pt x="1978" y="4553"/>
                    <a:pt x="1955" y="4531"/>
                    <a:pt x="1955" y="4503"/>
                  </a:cubicBezTo>
                  <a:cubicBezTo>
                    <a:pt x="1955" y="4476"/>
                    <a:pt x="1978" y="4453"/>
                    <a:pt x="2005" y="4453"/>
                  </a:cubicBezTo>
                  <a:close/>
                  <a:moveTo>
                    <a:pt x="2205" y="4453"/>
                  </a:moveTo>
                  <a:lnTo>
                    <a:pt x="2205" y="4453"/>
                  </a:lnTo>
                  <a:cubicBezTo>
                    <a:pt x="2233" y="4453"/>
                    <a:pt x="2255" y="4476"/>
                    <a:pt x="2255" y="4503"/>
                  </a:cubicBezTo>
                  <a:cubicBezTo>
                    <a:pt x="2255" y="4531"/>
                    <a:pt x="2233" y="4553"/>
                    <a:pt x="2205" y="4553"/>
                  </a:cubicBezTo>
                  <a:lnTo>
                    <a:pt x="2205" y="4553"/>
                  </a:lnTo>
                  <a:cubicBezTo>
                    <a:pt x="2178" y="4553"/>
                    <a:pt x="2155" y="4531"/>
                    <a:pt x="2155" y="4503"/>
                  </a:cubicBezTo>
                  <a:cubicBezTo>
                    <a:pt x="2155" y="4476"/>
                    <a:pt x="2178" y="4453"/>
                    <a:pt x="2205" y="4453"/>
                  </a:cubicBezTo>
                  <a:close/>
                  <a:moveTo>
                    <a:pt x="2405" y="4453"/>
                  </a:moveTo>
                  <a:lnTo>
                    <a:pt x="2406" y="4453"/>
                  </a:lnTo>
                  <a:cubicBezTo>
                    <a:pt x="2433" y="4453"/>
                    <a:pt x="2456" y="4476"/>
                    <a:pt x="2456" y="4503"/>
                  </a:cubicBezTo>
                  <a:cubicBezTo>
                    <a:pt x="2456" y="4531"/>
                    <a:pt x="2433" y="4553"/>
                    <a:pt x="2406" y="4553"/>
                  </a:cubicBezTo>
                  <a:lnTo>
                    <a:pt x="2405" y="4553"/>
                  </a:lnTo>
                  <a:cubicBezTo>
                    <a:pt x="2378" y="4553"/>
                    <a:pt x="2355" y="4531"/>
                    <a:pt x="2355" y="4503"/>
                  </a:cubicBezTo>
                  <a:cubicBezTo>
                    <a:pt x="2355" y="4476"/>
                    <a:pt x="2378" y="4453"/>
                    <a:pt x="2405" y="4453"/>
                  </a:cubicBezTo>
                  <a:close/>
                  <a:moveTo>
                    <a:pt x="2606" y="4453"/>
                  </a:moveTo>
                  <a:lnTo>
                    <a:pt x="2606" y="4453"/>
                  </a:lnTo>
                  <a:cubicBezTo>
                    <a:pt x="2633" y="4453"/>
                    <a:pt x="2656" y="4476"/>
                    <a:pt x="2656" y="4503"/>
                  </a:cubicBezTo>
                  <a:cubicBezTo>
                    <a:pt x="2656" y="4531"/>
                    <a:pt x="2633" y="4553"/>
                    <a:pt x="2606" y="4553"/>
                  </a:cubicBezTo>
                  <a:lnTo>
                    <a:pt x="2606" y="4553"/>
                  </a:lnTo>
                  <a:cubicBezTo>
                    <a:pt x="2578" y="4553"/>
                    <a:pt x="2556" y="4531"/>
                    <a:pt x="2556" y="4503"/>
                  </a:cubicBezTo>
                  <a:cubicBezTo>
                    <a:pt x="2556" y="4476"/>
                    <a:pt x="2578" y="4453"/>
                    <a:pt x="2606" y="4453"/>
                  </a:cubicBezTo>
                  <a:close/>
                  <a:moveTo>
                    <a:pt x="2806" y="4453"/>
                  </a:moveTo>
                  <a:lnTo>
                    <a:pt x="2806" y="4453"/>
                  </a:lnTo>
                  <a:cubicBezTo>
                    <a:pt x="2833" y="4453"/>
                    <a:pt x="2856" y="4476"/>
                    <a:pt x="2856" y="4503"/>
                  </a:cubicBezTo>
                  <a:cubicBezTo>
                    <a:pt x="2856" y="4531"/>
                    <a:pt x="2833" y="4553"/>
                    <a:pt x="2806" y="4553"/>
                  </a:cubicBezTo>
                  <a:lnTo>
                    <a:pt x="2806" y="4553"/>
                  </a:lnTo>
                  <a:cubicBezTo>
                    <a:pt x="2778" y="4553"/>
                    <a:pt x="2756" y="4531"/>
                    <a:pt x="2756" y="4503"/>
                  </a:cubicBezTo>
                  <a:cubicBezTo>
                    <a:pt x="2756" y="4476"/>
                    <a:pt x="2778" y="4453"/>
                    <a:pt x="2806" y="4453"/>
                  </a:cubicBezTo>
                  <a:close/>
                  <a:moveTo>
                    <a:pt x="3006" y="4453"/>
                  </a:moveTo>
                  <a:lnTo>
                    <a:pt x="3006" y="4453"/>
                  </a:lnTo>
                  <a:cubicBezTo>
                    <a:pt x="3033" y="4453"/>
                    <a:pt x="3056" y="4476"/>
                    <a:pt x="3056" y="4503"/>
                  </a:cubicBezTo>
                  <a:cubicBezTo>
                    <a:pt x="3056" y="4531"/>
                    <a:pt x="3033" y="4553"/>
                    <a:pt x="3006" y="4553"/>
                  </a:cubicBezTo>
                  <a:lnTo>
                    <a:pt x="3006" y="4553"/>
                  </a:lnTo>
                  <a:cubicBezTo>
                    <a:pt x="2978" y="4553"/>
                    <a:pt x="2956" y="4531"/>
                    <a:pt x="2956" y="4503"/>
                  </a:cubicBezTo>
                  <a:cubicBezTo>
                    <a:pt x="2956" y="4476"/>
                    <a:pt x="2978" y="4453"/>
                    <a:pt x="3006" y="4453"/>
                  </a:cubicBezTo>
                  <a:close/>
                  <a:moveTo>
                    <a:pt x="3206" y="4453"/>
                  </a:moveTo>
                  <a:lnTo>
                    <a:pt x="3206" y="4453"/>
                  </a:lnTo>
                  <a:cubicBezTo>
                    <a:pt x="3234" y="4453"/>
                    <a:pt x="3256" y="4476"/>
                    <a:pt x="3256" y="4503"/>
                  </a:cubicBezTo>
                  <a:cubicBezTo>
                    <a:pt x="3256" y="4531"/>
                    <a:pt x="3234" y="4553"/>
                    <a:pt x="3206" y="4553"/>
                  </a:cubicBezTo>
                  <a:lnTo>
                    <a:pt x="3206" y="4553"/>
                  </a:lnTo>
                  <a:cubicBezTo>
                    <a:pt x="3178" y="4553"/>
                    <a:pt x="3156" y="4531"/>
                    <a:pt x="3156" y="4503"/>
                  </a:cubicBezTo>
                  <a:cubicBezTo>
                    <a:pt x="3156" y="4476"/>
                    <a:pt x="3178" y="4453"/>
                    <a:pt x="3206" y="4453"/>
                  </a:cubicBezTo>
                  <a:close/>
                  <a:moveTo>
                    <a:pt x="3406" y="4453"/>
                  </a:moveTo>
                  <a:lnTo>
                    <a:pt x="3406" y="4453"/>
                  </a:lnTo>
                  <a:cubicBezTo>
                    <a:pt x="3434" y="4453"/>
                    <a:pt x="3456" y="4476"/>
                    <a:pt x="3456" y="4503"/>
                  </a:cubicBezTo>
                  <a:cubicBezTo>
                    <a:pt x="3456" y="4531"/>
                    <a:pt x="3434" y="4553"/>
                    <a:pt x="3406" y="4553"/>
                  </a:cubicBezTo>
                  <a:lnTo>
                    <a:pt x="3406" y="4553"/>
                  </a:lnTo>
                  <a:cubicBezTo>
                    <a:pt x="3378" y="4553"/>
                    <a:pt x="3356" y="4531"/>
                    <a:pt x="3356" y="4503"/>
                  </a:cubicBezTo>
                  <a:cubicBezTo>
                    <a:pt x="3356" y="4476"/>
                    <a:pt x="3378" y="4453"/>
                    <a:pt x="3406" y="4453"/>
                  </a:cubicBezTo>
                  <a:close/>
                  <a:moveTo>
                    <a:pt x="3606" y="4453"/>
                  </a:moveTo>
                  <a:lnTo>
                    <a:pt x="3606" y="4453"/>
                  </a:lnTo>
                  <a:cubicBezTo>
                    <a:pt x="3634" y="4453"/>
                    <a:pt x="3656" y="4476"/>
                    <a:pt x="3656" y="4503"/>
                  </a:cubicBezTo>
                  <a:cubicBezTo>
                    <a:pt x="3656" y="4531"/>
                    <a:pt x="3634" y="4553"/>
                    <a:pt x="3606" y="4553"/>
                  </a:cubicBezTo>
                  <a:lnTo>
                    <a:pt x="3606" y="4553"/>
                  </a:lnTo>
                  <a:cubicBezTo>
                    <a:pt x="3578" y="4553"/>
                    <a:pt x="3556" y="4531"/>
                    <a:pt x="3556" y="4503"/>
                  </a:cubicBezTo>
                  <a:cubicBezTo>
                    <a:pt x="3556" y="4476"/>
                    <a:pt x="3578" y="4453"/>
                    <a:pt x="3606" y="4453"/>
                  </a:cubicBezTo>
                  <a:close/>
                  <a:moveTo>
                    <a:pt x="3806" y="4453"/>
                  </a:moveTo>
                  <a:lnTo>
                    <a:pt x="3806" y="4453"/>
                  </a:lnTo>
                  <a:cubicBezTo>
                    <a:pt x="3834" y="4453"/>
                    <a:pt x="3856" y="4476"/>
                    <a:pt x="3856" y="4503"/>
                  </a:cubicBezTo>
                  <a:cubicBezTo>
                    <a:pt x="3856" y="4531"/>
                    <a:pt x="3834" y="4553"/>
                    <a:pt x="3806" y="4553"/>
                  </a:cubicBezTo>
                  <a:lnTo>
                    <a:pt x="3806" y="4553"/>
                  </a:lnTo>
                  <a:cubicBezTo>
                    <a:pt x="3779" y="4553"/>
                    <a:pt x="3756" y="4531"/>
                    <a:pt x="3756" y="4503"/>
                  </a:cubicBezTo>
                  <a:cubicBezTo>
                    <a:pt x="3756" y="4476"/>
                    <a:pt x="3779" y="4453"/>
                    <a:pt x="3806" y="4453"/>
                  </a:cubicBezTo>
                  <a:close/>
                  <a:moveTo>
                    <a:pt x="4006" y="4453"/>
                  </a:moveTo>
                  <a:lnTo>
                    <a:pt x="4006" y="4453"/>
                  </a:lnTo>
                  <a:cubicBezTo>
                    <a:pt x="4034" y="4453"/>
                    <a:pt x="4056" y="4476"/>
                    <a:pt x="4056" y="4503"/>
                  </a:cubicBezTo>
                  <a:cubicBezTo>
                    <a:pt x="4056" y="4531"/>
                    <a:pt x="4034" y="4553"/>
                    <a:pt x="4006" y="4553"/>
                  </a:cubicBezTo>
                  <a:lnTo>
                    <a:pt x="4006" y="4553"/>
                  </a:lnTo>
                  <a:cubicBezTo>
                    <a:pt x="3979" y="4553"/>
                    <a:pt x="3956" y="4531"/>
                    <a:pt x="3956" y="4503"/>
                  </a:cubicBezTo>
                  <a:cubicBezTo>
                    <a:pt x="3956" y="4476"/>
                    <a:pt x="3979" y="4453"/>
                    <a:pt x="4006" y="4453"/>
                  </a:cubicBezTo>
                  <a:close/>
                  <a:moveTo>
                    <a:pt x="4206" y="4453"/>
                  </a:moveTo>
                  <a:lnTo>
                    <a:pt x="4206" y="4453"/>
                  </a:lnTo>
                  <a:cubicBezTo>
                    <a:pt x="4234" y="4453"/>
                    <a:pt x="4256" y="4476"/>
                    <a:pt x="4256" y="4503"/>
                  </a:cubicBezTo>
                  <a:cubicBezTo>
                    <a:pt x="4256" y="4531"/>
                    <a:pt x="4234" y="4553"/>
                    <a:pt x="4206" y="4553"/>
                  </a:cubicBezTo>
                  <a:lnTo>
                    <a:pt x="4206" y="4553"/>
                  </a:lnTo>
                  <a:cubicBezTo>
                    <a:pt x="4179" y="4553"/>
                    <a:pt x="4156" y="4531"/>
                    <a:pt x="4156" y="4503"/>
                  </a:cubicBezTo>
                  <a:cubicBezTo>
                    <a:pt x="4156" y="4476"/>
                    <a:pt x="4179" y="4453"/>
                    <a:pt x="4206" y="4453"/>
                  </a:cubicBezTo>
                  <a:close/>
                  <a:moveTo>
                    <a:pt x="4406" y="4453"/>
                  </a:moveTo>
                  <a:lnTo>
                    <a:pt x="4407" y="4453"/>
                  </a:lnTo>
                  <a:cubicBezTo>
                    <a:pt x="4434" y="4453"/>
                    <a:pt x="4457" y="4476"/>
                    <a:pt x="4457" y="4503"/>
                  </a:cubicBezTo>
                  <a:cubicBezTo>
                    <a:pt x="4457" y="4531"/>
                    <a:pt x="4434" y="4553"/>
                    <a:pt x="4407" y="4553"/>
                  </a:cubicBezTo>
                  <a:lnTo>
                    <a:pt x="4406" y="4553"/>
                  </a:lnTo>
                  <a:cubicBezTo>
                    <a:pt x="4379" y="4553"/>
                    <a:pt x="4356" y="4531"/>
                    <a:pt x="4356" y="4503"/>
                  </a:cubicBezTo>
                  <a:cubicBezTo>
                    <a:pt x="4356" y="4476"/>
                    <a:pt x="4379" y="4453"/>
                    <a:pt x="4406" y="4453"/>
                  </a:cubicBezTo>
                  <a:close/>
                  <a:moveTo>
                    <a:pt x="4607" y="4453"/>
                  </a:moveTo>
                  <a:lnTo>
                    <a:pt x="4607" y="4453"/>
                  </a:lnTo>
                  <a:cubicBezTo>
                    <a:pt x="4634" y="4453"/>
                    <a:pt x="4657" y="4476"/>
                    <a:pt x="4657" y="4503"/>
                  </a:cubicBezTo>
                  <a:cubicBezTo>
                    <a:pt x="4657" y="4531"/>
                    <a:pt x="4634" y="4553"/>
                    <a:pt x="4607" y="4553"/>
                  </a:cubicBezTo>
                  <a:lnTo>
                    <a:pt x="4607" y="4553"/>
                  </a:lnTo>
                  <a:cubicBezTo>
                    <a:pt x="4579" y="4553"/>
                    <a:pt x="4557" y="4531"/>
                    <a:pt x="4557" y="4503"/>
                  </a:cubicBezTo>
                  <a:cubicBezTo>
                    <a:pt x="4557" y="4476"/>
                    <a:pt x="4579" y="4453"/>
                    <a:pt x="4607" y="4453"/>
                  </a:cubicBezTo>
                  <a:close/>
                  <a:moveTo>
                    <a:pt x="4807" y="4453"/>
                  </a:moveTo>
                  <a:lnTo>
                    <a:pt x="4807" y="4453"/>
                  </a:lnTo>
                  <a:cubicBezTo>
                    <a:pt x="4834" y="4453"/>
                    <a:pt x="4857" y="4476"/>
                    <a:pt x="4857" y="4503"/>
                  </a:cubicBezTo>
                  <a:cubicBezTo>
                    <a:pt x="4857" y="4531"/>
                    <a:pt x="4834" y="4553"/>
                    <a:pt x="4807" y="4553"/>
                  </a:cubicBezTo>
                  <a:lnTo>
                    <a:pt x="4807" y="4553"/>
                  </a:lnTo>
                  <a:cubicBezTo>
                    <a:pt x="4779" y="4553"/>
                    <a:pt x="4757" y="4531"/>
                    <a:pt x="4757" y="4503"/>
                  </a:cubicBezTo>
                  <a:cubicBezTo>
                    <a:pt x="4757" y="4476"/>
                    <a:pt x="4779" y="4453"/>
                    <a:pt x="4807" y="4453"/>
                  </a:cubicBezTo>
                  <a:close/>
                  <a:moveTo>
                    <a:pt x="5007" y="4453"/>
                  </a:moveTo>
                  <a:lnTo>
                    <a:pt x="5007" y="4453"/>
                  </a:lnTo>
                  <a:cubicBezTo>
                    <a:pt x="5034" y="4453"/>
                    <a:pt x="5057" y="4476"/>
                    <a:pt x="5057" y="4503"/>
                  </a:cubicBezTo>
                  <a:cubicBezTo>
                    <a:pt x="5057" y="4531"/>
                    <a:pt x="5034" y="4553"/>
                    <a:pt x="5007" y="4553"/>
                  </a:cubicBezTo>
                  <a:lnTo>
                    <a:pt x="5007" y="4553"/>
                  </a:lnTo>
                  <a:cubicBezTo>
                    <a:pt x="4979" y="4553"/>
                    <a:pt x="4957" y="4531"/>
                    <a:pt x="4957" y="4503"/>
                  </a:cubicBezTo>
                  <a:cubicBezTo>
                    <a:pt x="4957" y="4476"/>
                    <a:pt x="4979" y="4453"/>
                    <a:pt x="5007" y="4453"/>
                  </a:cubicBezTo>
                  <a:close/>
                  <a:moveTo>
                    <a:pt x="5207" y="4453"/>
                  </a:moveTo>
                  <a:lnTo>
                    <a:pt x="5207" y="4453"/>
                  </a:lnTo>
                  <a:cubicBezTo>
                    <a:pt x="5235" y="4453"/>
                    <a:pt x="5257" y="4476"/>
                    <a:pt x="5257" y="4503"/>
                  </a:cubicBezTo>
                  <a:cubicBezTo>
                    <a:pt x="5257" y="4531"/>
                    <a:pt x="5235" y="4553"/>
                    <a:pt x="5207" y="4553"/>
                  </a:cubicBezTo>
                  <a:lnTo>
                    <a:pt x="5207" y="4553"/>
                  </a:lnTo>
                  <a:cubicBezTo>
                    <a:pt x="5179" y="4553"/>
                    <a:pt x="5157" y="4531"/>
                    <a:pt x="5157" y="4503"/>
                  </a:cubicBezTo>
                  <a:cubicBezTo>
                    <a:pt x="5157" y="4476"/>
                    <a:pt x="5179" y="4453"/>
                    <a:pt x="5207" y="4453"/>
                  </a:cubicBezTo>
                  <a:close/>
                  <a:moveTo>
                    <a:pt x="5407" y="4453"/>
                  </a:moveTo>
                  <a:lnTo>
                    <a:pt x="5407" y="4453"/>
                  </a:lnTo>
                  <a:cubicBezTo>
                    <a:pt x="5435" y="4453"/>
                    <a:pt x="5457" y="4476"/>
                    <a:pt x="5457" y="4503"/>
                  </a:cubicBezTo>
                  <a:cubicBezTo>
                    <a:pt x="5457" y="4531"/>
                    <a:pt x="5435" y="4553"/>
                    <a:pt x="5407" y="4553"/>
                  </a:cubicBezTo>
                  <a:lnTo>
                    <a:pt x="5407" y="4553"/>
                  </a:lnTo>
                  <a:cubicBezTo>
                    <a:pt x="5379" y="4553"/>
                    <a:pt x="5357" y="4531"/>
                    <a:pt x="5357" y="4503"/>
                  </a:cubicBezTo>
                  <a:cubicBezTo>
                    <a:pt x="5357" y="4476"/>
                    <a:pt x="5379" y="4453"/>
                    <a:pt x="5407" y="4453"/>
                  </a:cubicBezTo>
                  <a:close/>
                  <a:moveTo>
                    <a:pt x="5607" y="4453"/>
                  </a:moveTo>
                  <a:lnTo>
                    <a:pt x="5607" y="4453"/>
                  </a:lnTo>
                  <a:cubicBezTo>
                    <a:pt x="5635" y="4453"/>
                    <a:pt x="5657" y="4476"/>
                    <a:pt x="5657" y="4503"/>
                  </a:cubicBezTo>
                  <a:cubicBezTo>
                    <a:pt x="5657" y="4531"/>
                    <a:pt x="5635" y="4553"/>
                    <a:pt x="5607" y="4553"/>
                  </a:cubicBezTo>
                  <a:lnTo>
                    <a:pt x="5607" y="4553"/>
                  </a:lnTo>
                  <a:cubicBezTo>
                    <a:pt x="5579" y="4553"/>
                    <a:pt x="5557" y="4531"/>
                    <a:pt x="5557" y="4503"/>
                  </a:cubicBezTo>
                  <a:cubicBezTo>
                    <a:pt x="5557" y="4476"/>
                    <a:pt x="5579" y="4453"/>
                    <a:pt x="5607" y="4453"/>
                  </a:cubicBezTo>
                  <a:close/>
                  <a:moveTo>
                    <a:pt x="5807" y="4453"/>
                  </a:moveTo>
                  <a:lnTo>
                    <a:pt x="5807" y="4453"/>
                  </a:lnTo>
                  <a:cubicBezTo>
                    <a:pt x="5835" y="4453"/>
                    <a:pt x="5857" y="4476"/>
                    <a:pt x="5857" y="4503"/>
                  </a:cubicBezTo>
                  <a:cubicBezTo>
                    <a:pt x="5857" y="4531"/>
                    <a:pt x="5835" y="4553"/>
                    <a:pt x="5807" y="4553"/>
                  </a:cubicBezTo>
                  <a:lnTo>
                    <a:pt x="5807" y="4553"/>
                  </a:lnTo>
                  <a:cubicBezTo>
                    <a:pt x="5780" y="4553"/>
                    <a:pt x="5757" y="4531"/>
                    <a:pt x="5757" y="4503"/>
                  </a:cubicBezTo>
                  <a:cubicBezTo>
                    <a:pt x="5757" y="4476"/>
                    <a:pt x="5780" y="4453"/>
                    <a:pt x="5807" y="4453"/>
                  </a:cubicBezTo>
                  <a:close/>
                  <a:moveTo>
                    <a:pt x="6007" y="4453"/>
                  </a:moveTo>
                  <a:lnTo>
                    <a:pt x="6007" y="4453"/>
                  </a:lnTo>
                  <a:cubicBezTo>
                    <a:pt x="6035" y="4453"/>
                    <a:pt x="6057" y="4476"/>
                    <a:pt x="6057" y="4503"/>
                  </a:cubicBezTo>
                  <a:cubicBezTo>
                    <a:pt x="6057" y="4531"/>
                    <a:pt x="6035" y="4553"/>
                    <a:pt x="6007" y="4553"/>
                  </a:cubicBezTo>
                  <a:lnTo>
                    <a:pt x="6007" y="4553"/>
                  </a:lnTo>
                  <a:cubicBezTo>
                    <a:pt x="5980" y="4553"/>
                    <a:pt x="5957" y="4531"/>
                    <a:pt x="5957" y="4503"/>
                  </a:cubicBezTo>
                  <a:cubicBezTo>
                    <a:pt x="5957" y="4476"/>
                    <a:pt x="5980" y="4453"/>
                    <a:pt x="6007" y="4453"/>
                  </a:cubicBezTo>
                  <a:close/>
                  <a:moveTo>
                    <a:pt x="6207" y="4453"/>
                  </a:moveTo>
                  <a:lnTo>
                    <a:pt x="6207" y="4453"/>
                  </a:lnTo>
                  <a:cubicBezTo>
                    <a:pt x="6235" y="4453"/>
                    <a:pt x="6257" y="4476"/>
                    <a:pt x="6257" y="4503"/>
                  </a:cubicBezTo>
                  <a:cubicBezTo>
                    <a:pt x="6257" y="4531"/>
                    <a:pt x="6235" y="4553"/>
                    <a:pt x="6207" y="4553"/>
                  </a:cubicBezTo>
                  <a:lnTo>
                    <a:pt x="6207" y="4553"/>
                  </a:lnTo>
                  <a:cubicBezTo>
                    <a:pt x="6180" y="4553"/>
                    <a:pt x="6157" y="4531"/>
                    <a:pt x="6157" y="4503"/>
                  </a:cubicBezTo>
                  <a:cubicBezTo>
                    <a:pt x="6157" y="4476"/>
                    <a:pt x="6180" y="4453"/>
                    <a:pt x="6207" y="4453"/>
                  </a:cubicBezTo>
                  <a:close/>
                  <a:moveTo>
                    <a:pt x="6407" y="4453"/>
                  </a:moveTo>
                  <a:lnTo>
                    <a:pt x="6408" y="4453"/>
                  </a:lnTo>
                  <a:cubicBezTo>
                    <a:pt x="6435" y="4453"/>
                    <a:pt x="6458" y="4476"/>
                    <a:pt x="6458" y="4503"/>
                  </a:cubicBezTo>
                  <a:cubicBezTo>
                    <a:pt x="6458" y="4531"/>
                    <a:pt x="6435" y="4553"/>
                    <a:pt x="6408" y="4553"/>
                  </a:cubicBezTo>
                  <a:lnTo>
                    <a:pt x="6407" y="4553"/>
                  </a:lnTo>
                  <a:cubicBezTo>
                    <a:pt x="6380" y="4553"/>
                    <a:pt x="6357" y="4531"/>
                    <a:pt x="6357" y="4503"/>
                  </a:cubicBezTo>
                  <a:cubicBezTo>
                    <a:pt x="6357" y="4476"/>
                    <a:pt x="6380" y="4453"/>
                    <a:pt x="6407" y="4453"/>
                  </a:cubicBezTo>
                  <a:close/>
                  <a:moveTo>
                    <a:pt x="6608" y="4453"/>
                  </a:moveTo>
                  <a:lnTo>
                    <a:pt x="6608" y="4453"/>
                  </a:lnTo>
                  <a:cubicBezTo>
                    <a:pt x="6635" y="4453"/>
                    <a:pt x="6658" y="4476"/>
                    <a:pt x="6658" y="4503"/>
                  </a:cubicBezTo>
                  <a:cubicBezTo>
                    <a:pt x="6658" y="4531"/>
                    <a:pt x="6635" y="4553"/>
                    <a:pt x="6608" y="4553"/>
                  </a:cubicBezTo>
                  <a:lnTo>
                    <a:pt x="6608" y="4553"/>
                  </a:lnTo>
                  <a:cubicBezTo>
                    <a:pt x="6580" y="4553"/>
                    <a:pt x="6558" y="4531"/>
                    <a:pt x="6558" y="4503"/>
                  </a:cubicBezTo>
                  <a:cubicBezTo>
                    <a:pt x="6558" y="4476"/>
                    <a:pt x="6580" y="4453"/>
                    <a:pt x="6608" y="4453"/>
                  </a:cubicBezTo>
                  <a:close/>
                  <a:moveTo>
                    <a:pt x="6808" y="4453"/>
                  </a:moveTo>
                  <a:lnTo>
                    <a:pt x="6808" y="4453"/>
                  </a:lnTo>
                  <a:cubicBezTo>
                    <a:pt x="6835" y="4453"/>
                    <a:pt x="6858" y="4476"/>
                    <a:pt x="6858" y="4503"/>
                  </a:cubicBezTo>
                  <a:cubicBezTo>
                    <a:pt x="6858" y="4531"/>
                    <a:pt x="6835" y="4553"/>
                    <a:pt x="6808" y="4553"/>
                  </a:cubicBezTo>
                  <a:lnTo>
                    <a:pt x="6808" y="4553"/>
                  </a:lnTo>
                  <a:cubicBezTo>
                    <a:pt x="6780" y="4553"/>
                    <a:pt x="6758" y="4531"/>
                    <a:pt x="6758" y="4503"/>
                  </a:cubicBezTo>
                  <a:cubicBezTo>
                    <a:pt x="6758" y="4476"/>
                    <a:pt x="6780" y="4453"/>
                    <a:pt x="6808" y="4453"/>
                  </a:cubicBezTo>
                  <a:close/>
                  <a:moveTo>
                    <a:pt x="7008" y="4453"/>
                  </a:moveTo>
                  <a:lnTo>
                    <a:pt x="7008" y="4453"/>
                  </a:lnTo>
                  <a:cubicBezTo>
                    <a:pt x="7035" y="4453"/>
                    <a:pt x="7058" y="4476"/>
                    <a:pt x="7058" y="4503"/>
                  </a:cubicBezTo>
                  <a:cubicBezTo>
                    <a:pt x="7058" y="4531"/>
                    <a:pt x="7035" y="4553"/>
                    <a:pt x="7008" y="4553"/>
                  </a:cubicBezTo>
                  <a:lnTo>
                    <a:pt x="7008" y="4553"/>
                  </a:lnTo>
                  <a:cubicBezTo>
                    <a:pt x="6980" y="4553"/>
                    <a:pt x="6958" y="4531"/>
                    <a:pt x="6958" y="4503"/>
                  </a:cubicBezTo>
                  <a:cubicBezTo>
                    <a:pt x="6958" y="4476"/>
                    <a:pt x="6980" y="4453"/>
                    <a:pt x="7008" y="4453"/>
                  </a:cubicBezTo>
                  <a:close/>
                  <a:moveTo>
                    <a:pt x="7208" y="4453"/>
                  </a:moveTo>
                  <a:lnTo>
                    <a:pt x="7208" y="4453"/>
                  </a:lnTo>
                  <a:cubicBezTo>
                    <a:pt x="7236" y="4453"/>
                    <a:pt x="7258" y="4476"/>
                    <a:pt x="7258" y="4503"/>
                  </a:cubicBezTo>
                  <a:cubicBezTo>
                    <a:pt x="7258" y="4531"/>
                    <a:pt x="7236" y="4553"/>
                    <a:pt x="7208" y="4553"/>
                  </a:cubicBezTo>
                  <a:lnTo>
                    <a:pt x="7208" y="4553"/>
                  </a:lnTo>
                  <a:cubicBezTo>
                    <a:pt x="7180" y="4553"/>
                    <a:pt x="7158" y="4531"/>
                    <a:pt x="7158" y="4503"/>
                  </a:cubicBezTo>
                  <a:cubicBezTo>
                    <a:pt x="7158" y="4476"/>
                    <a:pt x="7180" y="4453"/>
                    <a:pt x="7208" y="4453"/>
                  </a:cubicBezTo>
                  <a:close/>
                  <a:moveTo>
                    <a:pt x="7408" y="4453"/>
                  </a:moveTo>
                  <a:lnTo>
                    <a:pt x="7408" y="4453"/>
                  </a:lnTo>
                  <a:cubicBezTo>
                    <a:pt x="7436" y="4453"/>
                    <a:pt x="7458" y="4476"/>
                    <a:pt x="7458" y="4503"/>
                  </a:cubicBezTo>
                  <a:cubicBezTo>
                    <a:pt x="7458" y="4531"/>
                    <a:pt x="7436" y="4553"/>
                    <a:pt x="7408" y="4553"/>
                  </a:cubicBezTo>
                  <a:lnTo>
                    <a:pt x="7408" y="4553"/>
                  </a:lnTo>
                  <a:cubicBezTo>
                    <a:pt x="7380" y="4553"/>
                    <a:pt x="7358" y="4531"/>
                    <a:pt x="7358" y="4503"/>
                  </a:cubicBezTo>
                  <a:cubicBezTo>
                    <a:pt x="7358" y="4476"/>
                    <a:pt x="7380" y="4453"/>
                    <a:pt x="7408" y="4453"/>
                  </a:cubicBezTo>
                  <a:close/>
                  <a:moveTo>
                    <a:pt x="7608" y="4453"/>
                  </a:moveTo>
                  <a:lnTo>
                    <a:pt x="7608" y="4453"/>
                  </a:lnTo>
                  <a:cubicBezTo>
                    <a:pt x="7636" y="4453"/>
                    <a:pt x="7658" y="4476"/>
                    <a:pt x="7658" y="4503"/>
                  </a:cubicBezTo>
                  <a:cubicBezTo>
                    <a:pt x="7658" y="4531"/>
                    <a:pt x="7636" y="4553"/>
                    <a:pt x="7608" y="4553"/>
                  </a:cubicBezTo>
                  <a:lnTo>
                    <a:pt x="7608" y="4553"/>
                  </a:lnTo>
                  <a:cubicBezTo>
                    <a:pt x="7580" y="4553"/>
                    <a:pt x="7558" y="4531"/>
                    <a:pt x="7558" y="4503"/>
                  </a:cubicBezTo>
                  <a:cubicBezTo>
                    <a:pt x="7558" y="4476"/>
                    <a:pt x="7580" y="4453"/>
                    <a:pt x="7608" y="4453"/>
                  </a:cubicBezTo>
                  <a:close/>
                  <a:moveTo>
                    <a:pt x="7808" y="4453"/>
                  </a:moveTo>
                  <a:lnTo>
                    <a:pt x="7808" y="4453"/>
                  </a:lnTo>
                  <a:cubicBezTo>
                    <a:pt x="7836" y="4453"/>
                    <a:pt x="7858" y="4476"/>
                    <a:pt x="7858" y="4503"/>
                  </a:cubicBezTo>
                  <a:cubicBezTo>
                    <a:pt x="7858" y="4531"/>
                    <a:pt x="7836" y="4553"/>
                    <a:pt x="7808" y="4553"/>
                  </a:cubicBezTo>
                  <a:lnTo>
                    <a:pt x="7808" y="4553"/>
                  </a:lnTo>
                  <a:cubicBezTo>
                    <a:pt x="7781" y="4553"/>
                    <a:pt x="7758" y="4531"/>
                    <a:pt x="7758" y="4503"/>
                  </a:cubicBezTo>
                  <a:cubicBezTo>
                    <a:pt x="7758" y="4476"/>
                    <a:pt x="7781" y="4453"/>
                    <a:pt x="7808" y="4453"/>
                  </a:cubicBezTo>
                  <a:close/>
                  <a:moveTo>
                    <a:pt x="8008" y="4453"/>
                  </a:moveTo>
                  <a:lnTo>
                    <a:pt x="8008" y="4453"/>
                  </a:lnTo>
                  <a:cubicBezTo>
                    <a:pt x="8036" y="4453"/>
                    <a:pt x="8058" y="4476"/>
                    <a:pt x="8058" y="4503"/>
                  </a:cubicBezTo>
                  <a:cubicBezTo>
                    <a:pt x="8058" y="4531"/>
                    <a:pt x="8036" y="4553"/>
                    <a:pt x="8008" y="4553"/>
                  </a:cubicBezTo>
                  <a:lnTo>
                    <a:pt x="8008" y="4553"/>
                  </a:lnTo>
                  <a:cubicBezTo>
                    <a:pt x="7981" y="4553"/>
                    <a:pt x="7958" y="4531"/>
                    <a:pt x="7958" y="4503"/>
                  </a:cubicBezTo>
                  <a:cubicBezTo>
                    <a:pt x="7958" y="4476"/>
                    <a:pt x="7981" y="4453"/>
                    <a:pt x="8008" y="4453"/>
                  </a:cubicBezTo>
                  <a:close/>
                  <a:moveTo>
                    <a:pt x="8208" y="4453"/>
                  </a:moveTo>
                  <a:lnTo>
                    <a:pt x="8208" y="4453"/>
                  </a:lnTo>
                  <a:cubicBezTo>
                    <a:pt x="8236" y="4453"/>
                    <a:pt x="8258" y="4476"/>
                    <a:pt x="8258" y="4503"/>
                  </a:cubicBezTo>
                  <a:cubicBezTo>
                    <a:pt x="8258" y="4531"/>
                    <a:pt x="8236" y="4553"/>
                    <a:pt x="8208" y="4553"/>
                  </a:cubicBezTo>
                  <a:lnTo>
                    <a:pt x="8208" y="4553"/>
                  </a:lnTo>
                  <a:cubicBezTo>
                    <a:pt x="8181" y="4553"/>
                    <a:pt x="8158" y="4531"/>
                    <a:pt x="8158" y="4503"/>
                  </a:cubicBezTo>
                  <a:cubicBezTo>
                    <a:pt x="8158" y="4476"/>
                    <a:pt x="8181" y="4453"/>
                    <a:pt x="8208" y="4453"/>
                  </a:cubicBezTo>
                  <a:close/>
                  <a:moveTo>
                    <a:pt x="8408" y="4453"/>
                  </a:moveTo>
                  <a:lnTo>
                    <a:pt x="8409" y="4453"/>
                  </a:lnTo>
                  <a:cubicBezTo>
                    <a:pt x="8436" y="4453"/>
                    <a:pt x="8459" y="4476"/>
                    <a:pt x="8459" y="4503"/>
                  </a:cubicBezTo>
                  <a:cubicBezTo>
                    <a:pt x="8459" y="4531"/>
                    <a:pt x="8436" y="4553"/>
                    <a:pt x="8409" y="4553"/>
                  </a:cubicBezTo>
                  <a:lnTo>
                    <a:pt x="8408" y="4553"/>
                  </a:lnTo>
                  <a:cubicBezTo>
                    <a:pt x="8381" y="4553"/>
                    <a:pt x="8358" y="4531"/>
                    <a:pt x="8358" y="4503"/>
                  </a:cubicBezTo>
                  <a:cubicBezTo>
                    <a:pt x="8358" y="4476"/>
                    <a:pt x="8381" y="4453"/>
                    <a:pt x="8408" y="4453"/>
                  </a:cubicBezTo>
                  <a:close/>
                  <a:moveTo>
                    <a:pt x="8609" y="4453"/>
                  </a:moveTo>
                  <a:lnTo>
                    <a:pt x="8609" y="4453"/>
                  </a:lnTo>
                  <a:cubicBezTo>
                    <a:pt x="8636" y="4453"/>
                    <a:pt x="8659" y="4476"/>
                    <a:pt x="8659" y="4503"/>
                  </a:cubicBezTo>
                  <a:cubicBezTo>
                    <a:pt x="8659" y="4531"/>
                    <a:pt x="8636" y="4553"/>
                    <a:pt x="8609" y="4553"/>
                  </a:cubicBezTo>
                  <a:lnTo>
                    <a:pt x="8609" y="4553"/>
                  </a:lnTo>
                  <a:cubicBezTo>
                    <a:pt x="8581" y="4553"/>
                    <a:pt x="8559" y="4531"/>
                    <a:pt x="8559" y="4503"/>
                  </a:cubicBezTo>
                  <a:cubicBezTo>
                    <a:pt x="8559" y="4476"/>
                    <a:pt x="8581" y="4453"/>
                    <a:pt x="8609" y="4453"/>
                  </a:cubicBezTo>
                  <a:close/>
                  <a:moveTo>
                    <a:pt x="8809" y="4453"/>
                  </a:moveTo>
                  <a:lnTo>
                    <a:pt x="8809" y="4453"/>
                  </a:lnTo>
                  <a:cubicBezTo>
                    <a:pt x="8836" y="4453"/>
                    <a:pt x="8859" y="4476"/>
                    <a:pt x="8859" y="4503"/>
                  </a:cubicBezTo>
                  <a:cubicBezTo>
                    <a:pt x="8859" y="4531"/>
                    <a:pt x="8836" y="4553"/>
                    <a:pt x="8809" y="4553"/>
                  </a:cubicBezTo>
                  <a:lnTo>
                    <a:pt x="8809" y="4553"/>
                  </a:lnTo>
                  <a:cubicBezTo>
                    <a:pt x="8781" y="4553"/>
                    <a:pt x="8759" y="4531"/>
                    <a:pt x="8759" y="4503"/>
                  </a:cubicBezTo>
                  <a:cubicBezTo>
                    <a:pt x="8759" y="4476"/>
                    <a:pt x="8781" y="4453"/>
                    <a:pt x="8809" y="4453"/>
                  </a:cubicBezTo>
                  <a:close/>
                  <a:moveTo>
                    <a:pt x="9009" y="4453"/>
                  </a:moveTo>
                  <a:lnTo>
                    <a:pt x="9009" y="4453"/>
                  </a:lnTo>
                  <a:cubicBezTo>
                    <a:pt x="9036" y="4453"/>
                    <a:pt x="9059" y="4476"/>
                    <a:pt x="9059" y="4503"/>
                  </a:cubicBezTo>
                  <a:cubicBezTo>
                    <a:pt x="9059" y="4531"/>
                    <a:pt x="9036" y="4553"/>
                    <a:pt x="9009" y="4553"/>
                  </a:cubicBezTo>
                  <a:lnTo>
                    <a:pt x="9009" y="4553"/>
                  </a:lnTo>
                  <a:cubicBezTo>
                    <a:pt x="8981" y="4553"/>
                    <a:pt x="8959" y="4531"/>
                    <a:pt x="8959" y="4503"/>
                  </a:cubicBezTo>
                  <a:cubicBezTo>
                    <a:pt x="8959" y="4476"/>
                    <a:pt x="8981" y="4453"/>
                    <a:pt x="9009" y="4453"/>
                  </a:cubicBezTo>
                  <a:close/>
                  <a:moveTo>
                    <a:pt x="9209" y="4453"/>
                  </a:moveTo>
                  <a:lnTo>
                    <a:pt x="9209" y="4453"/>
                  </a:lnTo>
                  <a:cubicBezTo>
                    <a:pt x="9237" y="4453"/>
                    <a:pt x="9259" y="4476"/>
                    <a:pt x="9259" y="4503"/>
                  </a:cubicBezTo>
                  <a:cubicBezTo>
                    <a:pt x="9259" y="4531"/>
                    <a:pt x="9237" y="4553"/>
                    <a:pt x="9209" y="4553"/>
                  </a:cubicBezTo>
                  <a:lnTo>
                    <a:pt x="9209" y="4553"/>
                  </a:lnTo>
                  <a:cubicBezTo>
                    <a:pt x="9181" y="4553"/>
                    <a:pt x="9159" y="4531"/>
                    <a:pt x="9159" y="4503"/>
                  </a:cubicBezTo>
                  <a:cubicBezTo>
                    <a:pt x="9159" y="4476"/>
                    <a:pt x="9181" y="4453"/>
                    <a:pt x="9209" y="4453"/>
                  </a:cubicBezTo>
                  <a:close/>
                  <a:moveTo>
                    <a:pt x="9409" y="4453"/>
                  </a:moveTo>
                  <a:lnTo>
                    <a:pt x="9409" y="4453"/>
                  </a:lnTo>
                  <a:cubicBezTo>
                    <a:pt x="9437" y="4453"/>
                    <a:pt x="9459" y="4476"/>
                    <a:pt x="9459" y="4503"/>
                  </a:cubicBezTo>
                  <a:cubicBezTo>
                    <a:pt x="9459" y="4531"/>
                    <a:pt x="9437" y="4553"/>
                    <a:pt x="9409" y="4553"/>
                  </a:cubicBezTo>
                  <a:lnTo>
                    <a:pt x="9409" y="4553"/>
                  </a:lnTo>
                  <a:cubicBezTo>
                    <a:pt x="9381" y="4553"/>
                    <a:pt x="9359" y="4531"/>
                    <a:pt x="9359" y="4503"/>
                  </a:cubicBezTo>
                  <a:cubicBezTo>
                    <a:pt x="9359" y="4476"/>
                    <a:pt x="9381" y="4453"/>
                    <a:pt x="9409" y="4453"/>
                  </a:cubicBezTo>
                  <a:close/>
                  <a:moveTo>
                    <a:pt x="9609" y="4453"/>
                  </a:moveTo>
                  <a:lnTo>
                    <a:pt x="9609" y="4453"/>
                  </a:lnTo>
                  <a:cubicBezTo>
                    <a:pt x="9637" y="4453"/>
                    <a:pt x="9659" y="4476"/>
                    <a:pt x="9659" y="4503"/>
                  </a:cubicBezTo>
                  <a:cubicBezTo>
                    <a:pt x="9659" y="4531"/>
                    <a:pt x="9637" y="4553"/>
                    <a:pt x="9609" y="4553"/>
                  </a:cubicBezTo>
                  <a:lnTo>
                    <a:pt x="9609" y="4553"/>
                  </a:lnTo>
                  <a:cubicBezTo>
                    <a:pt x="9581" y="4553"/>
                    <a:pt x="9559" y="4531"/>
                    <a:pt x="9559" y="4503"/>
                  </a:cubicBezTo>
                  <a:cubicBezTo>
                    <a:pt x="9559" y="4476"/>
                    <a:pt x="9581" y="4453"/>
                    <a:pt x="9609" y="4453"/>
                  </a:cubicBezTo>
                  <a:close/>
                  <a:moveTo>
                    <a:pt x="9809" y="4453"/>
                  </a:moveTo>
                  <a:lnTo>
                    <a:pt x="9809" y="4453"/>
                  </a:lnTo>
                  <a:cubicBezTo>
                    <a:pt x="9837" y="4453"/>
                    <a:pt x="9859" y="4476"/>
                    <a:pt x="9859" y="4503"/>
                  </a:cubicBezTo>
                  <a:cubicBezTo>
                    <a:pt x="9859" y="4531"/>
                    <a:pt x="9837" y="4553"/>
                    <a:pt x="9809" y="4553"/>
                  </a:cubicBezTo>
                  <a:lnTo>
                    <a:pt x="9809" y="4553"/>
                  </a:lnTo>
                  <a:cubicBezTo>
                    <a:pt x="9782" y="4553"/>
                    <a:pt x="9759" y="4531"/>
                    <a:pt x="9759" y="4503"/>
                  </a:cubicBezTo>
                  <a:cubicBezTo>
                    <a:pt x="9759" y="4476"/>
                    <a:pt x="9782" y="4453"/>
                    <a:pt x="9809" y="4453"/>
                  </a:cubicBezTo>
                  <a:close/>
                  <a:moveTo>
                    <a:pt x="9900" y="4444"/>
                  </a:moveTo>
                  <a:lnTo>
                    <a:pt x="9900" y="4444"/>
                  </a:lnTo>
                  <a:cubicBezTo>
                    <a:pt x="9900" y="4417"/>
                    <a:pt x="9923" y="4394"/>
                    <a:pt x="9950" y="4394"/>
                  </a:cubicBezTo>
                  <a:cubicBezTo>
                    <a:pt x="9978" y="4394"/>
                    <a:pt x="10000" y="4417"/>
                    <a:pt x="10000" y="4444"/>
                  </a:cubicBezTo>
                  <a:lnTo>
                    <a:pt x="10000" y="4444"/>
                  </a:lnTo>
                  <a:cubicBezTo>
                    <a:pt x="10000" y="4472"/>
                    <a:pt x="9978" y="4494"/>
                    <a:pt x="9950" y="4494"/>
                  </a:cubicBezTo>
                  <a:cubicBezTo>
                    <a:pt x="9923" y="4494"/>
                    <a:pt x="9900" y="4472"/>
                    <a:pt x="9900" y="4444"/>
                  </a:cubicBezTo>
                  <a:close/>
                  <a:moveTo>
                    <a:pt x="9900" y="4244"/>
                  </a:moveTo>
                  <a:lnTo>
                    <a:pt x="9900" y="4244"/>
                  </a:lnTo>
                  <a:cubicBezTo>
                    <a:pt x="9900" y="4217"/>
                    <a:pt x="9923" y="4194"/>
                    <a:pt x="9950" y="4194"/>
                  </a:cubicBezTo>
                  <a:cubicBezTo>
                    <a:pt x="9978" y="4194"/>
                    <a:pt x="10000" y="4217"/>
                    <a:pt x="10000" y="4244"/>
                  </a:cubicBezTo>
                  <a:lnTo>
                    <a:pt x="10000" y="4244"/>
                  </a:lnTo>
                  <a:cubicBezTo>
                    <a:pt x="10000" y="4272"/>
                    <a:pt x="9978" y="4294"/>
                    <a:pt x="9950" y="4294"/>
                  </a:cubicBezTo>
                  <a:cubicBezTo>
                    <a:pt x="9923" y="4294"/>
                    <a:pt x="9900" y="4272"/>
                    <a:pt x="9900" y="4244"/>
                  </a:cubicBezTo>
                  <a:close/>
                  <a:moveTo>
                    <a:pt x="9900" y="4044"/>
                  </a:moveTo>
                  <a:lnTo>
                    <a:pt x="9900" y="4044"/>
                  </a:lnTo>
                  <a:cubicBezTo>
                    <a:pt x="9900" y="4016"/>
                    <a:pt x="9923" y="3994"/>
                    <a:pt x="9950" y="3994"/>
                  </a:cubicBezTo>
                  <a:cubicBezTo>
                    <a:pt x="9978" y="3994"/>
                    <a:pt x="10000" y="4016"/>
                    <a:pt x="10000" y="4044"/>
                  </a:cubicBezTo>
                  <a:lnTo>
                    <a:pt x="10000" y="4044"/>
                  </a:lnTo>
                  <a:cubicBezTo>
                    <a:pt x="10000" y="4072"/>
                    <a:pt x="9978" y="4094"/>
                    <a:pt x="9950" y="4094"/>
                  </a:cubicBezTo>
                  <a:cubicBezTo>
                    <a:pt x="9923" y="4094"/>
                    <a:pt x="9900" y="4072"/>
                    <a:pt x="9900" y="4044"/>
                  </a:cubicBezTo>
                  <a:close/>
                  <a:moveTo>
                    <a:pt x="9900" y="3844"/>
                  </a:moveTo>
                  <a:lnTo>
                    <a:pt x="9900" y="3844"/>
                  </a:lnTo>
                  <a:cubicBezTo>
                    <a:pt x="9900" y="3816"/>
                    <a:pt x="9923" y="3794"/>
                    <a:pt x="9950" y="3794"/>
                  </a:cubicBezTo>
                  <a:cubicBezTo>
                    <a:pt x="9978" y="3794"/>
                    <a:pt x="10000" y="3816"/>
                    <a:pt x="10000" y="3844"/>
                  </a:cubicBezTo>
                  <a:lnTo>
                    <a:pt x="10000" y="3844"/>
                  </a:lnTo>
                  <a:cubicBezTo>
                    <a:pt x="10000" y="3872"/>
                    <a:pt x="9978" y="3894"/>
                    <a:pt x="9950" y="3894"/>
                  </a:cubicBezTo>
                  <a:cubicBezTo>
                    <a:pt x="9923" y="3894"/>
                    <a:pt x="9900" y="3872"/>
                    <a:pt x="9900" y="3844"/>
                  </a:cubicBezTo>
                  <a:close/>
                  <a:moveTo>
                    <a:pt x="9900" y="3644"/>
                  </a:moveTo>
                  <a:lnTo>
                    <a:pt x="9900" y="3644"/>
                  </a:lnTo>
                  <a:cubicBezTo>
                    <a:pt x="9900" y="3616"/>
                    <a:pt x="9923" y="3594"/>
                    <a:pt x="9950" y="3594"/>
                  </a:cubicBezTo>
                  <a:cubicBezTo>
                    <a:pt x="9978" y="3594"/>
                    <a:pt x="10000" y="3616"/>
                    <a:pt x="10000" y="3644"/>
                  </a:cubicBezTo>
                  <a:lnTo>
                    <a:pt x="10000" y="3644"/>
                  </a:lnTo>
                  <a:cubicBezTo>
                    <a:pt x="10000" y="3672"/>
                    <a:pt x="9978" y="3694"/>
                    <a:pt x="9950" y="3694"/>
                  </a:cubicBezTo>
                  <a:cubicBezTo>
                    <a:pt x="9923" y="3694"/>
                    <a:pt x="9900" y="3672"/>
                    <a:pt x="9900" y="3644"/>
                  </a:cubicBezTo>
                  <a:close/>
                  <a:moveTo>
                    <a:pt x="9900" y="3444"/>
                  </a:moveTo>
                  <a:lnTo>
                    <a:pt x="9900" y="3444"/>
                  </a:lnTo>
                  <a:cubicBezTo>
                    <a:pt x="9900" y="3416"/>
                    <a:pt x="9923" y="3394"/>
                    <a:pt x="9950" y="3394"/>
                  </a:cubicBezTo>
                  <a:cubicBezTo>
                    <a:pt x="9978" y="3394"/>
                    <a:pt x="10000" y="3416"/>
                    <a:pt x="10000" y="3444"/>
                  </a:cubicBezTo>
                  <a:lnTo>
                    <a:pt x="10000" y="3444"/>
                  </a:lnTo>
                  <a:cubicBezTo>
                    <a:pt x="10000" y="3471"/>
                    <a:pt x="9978" y="3494"/>
                    <a:pt x="9950" y="3494"/>
                  </a:cubicBezTo>
                  <a:cubicBezTo>
                    <a:pt x="9923" y="3494"/>
                    <a:pt x="9900" y="3471"/>
                    <a:pt x="9900" y="3444"/>
                  </a:cubicBezTo>
                  <a:close/>
                  <a:moveTo>
                    <a:pt x="9900" y="3244"/>
                  </a:moveTo>
                  <a:lnTo>
                    <a:pt x="9900" y="3244"/>
                  </a:lnTo>
                  <a:cubicBezTo>
                    <a:pt x="9900" y="3216"/>
                    <a:pt x="9923" y="3194"/>
                    <a:pt x="9950" y="3194"/>
                  </a:cubicBezTo>
                  <a:cubicBezTo>
                    <a:pt x="9978" y="3194"/>
                    <a:pt x="10000" y="3216"/>
                    <a:pt x="10000" y="3244"/>
                  </a:cubicBezTo>
                  <a:lnTo>
                    <a:pt x="10000" y="3244"/>
                  </a:lnTo>
                  <a:cubicBezTo>
                    <a:pt x="10000" y="3271"/>
                    <a:pt x="9978" y="3294"/>
                    <a:pt x="9950" y="3294"/>
                  </a:cubicBezTo>
                  <a:cubicBezTo>
                    <a:pt x="9923" y="3294"/>
                    <a:pt x="9900" y="3271"/>
                    <a:pt x="9900" y="3244"/>
                  </a:cubicBezTo>
                  <a:close/>
                  <a:moveTo>
                    <a:pt x="9900" y="3044"/>
                  </a:moveTo>
                  <a:lnTo>
                    <a:pt x="9900" y="3044"/>
                  </a:lnTo>
                  <a:cubicBezTo>
                    <a:pt x="9900" y="3016"/>
                    <a:pt x="9923" y="2994"/>
                    <a:pt x="9950" y="2994"/>
                  </a:cubicBezTo>
                  <a:cubicBezTo>
                    <a:pt x="9978" y="2994"/>
                    <a:pt x="10000" y="3016"/>
                    <a:pt x="10000" y="3044"/>
                  </a:cubicBezTo>
                  <a:lnTo>
                    <a:pt x="10000" y="3044"/>
                  </a:lnTo>
                  <a:cubicBezTo>
                    <a:pt x="10000" y="3071"/>
                    <a:pt x="9978" y="3094"/>
                    <a:pt x="9950" y="3094"/>
                  </a:cubicBezTo>
                  <a:cubicBezTo>
                    <a:pt x="9923" y="3094"/>
                    <a:pt x="9900" y="3071"/>
                    <a:pt x="9900" y="3044"/>
                  </a:cubicBezTo>
                  <a:close/>
                  <a:moveTo>
                    <a:pt x="9900" y="2844"/>
                  </a:moveTo>
                  <a:lnTo>
                    <a:pt x="9900" y="2843"/>
                  </a:lnTo>
                  <a:cubicBezTo>
                    <a:pt x="9900" y="2816"/>
                    <a:pt x="9923" y="2793"/>
                    <a:pt x="9950" y="2793"/>
                  </a:cubicBezTo>
                  <a:cubicBezTo>
                    <a:pt x="9978" y="2793"/>
                    <a:pt x="10000" y="2816"/>
                    <a:pt x="10000" y="2843"/>
                  </a:cubicBezTo>
                  <a:lnTo>
                    <a:pt x="10000" y="2844"/>
                  </a:lnTo>
                  <a:cubicBezTo>
                    <a:pt x="10000" y="2871"/>
                    <a:pt x="9978" y="2894"/>
                    <a:pt x="9950" y="2894"/>
                  </a:cubicBezTo>
                  <a:cubicBezTo>
                    <a:pt x="9923" y="2894"/>
                    <a:pt x="9900" y="2871"/>
                    <a:pt x="9900" y="2844"/>
                  </a:cubicBezTo>
                  <a:close/>
                  <a:moveTo>
                    <a:pt x="9900" y="2643"/>
                  </a:moveTo>
                  <a:lnTo>
                    <a:pt x="9900" y="2643"/>
                  </a:lnTo>
                  <a:cubicBezTo>
                    <a:pt x="9900" y="2616"/>
                    <a:pt x="9923" y="2593"/>
                    <a:pt x="9950" y="2593"/>
                  </a:cubicBezTo>
                  <a:cubicBezTo>
                    <a:pt x="9978" y="2593"/>
                    <a:pt x="10000" y="2616"/>
                    <a:pt x="10000" y="2643"/>
                  </a:cubicBezTo>
                  <a:lnTo>
                    <a:pt x="10000" y="2643"/>
                  </a:lnTo>
                  <a:cubicBezTo>
                    <a:pt x="10000" y="2671"/>
                    <a:pt x="9978" y="2693"/>
                    <a:pt x="9950" y="2693"/>
                  </a:cubicBezTo>
                  <a:cubicBezTo>
                    <a:pt x="9923" y="2693"/>
                    <a:pt x="9900" y="2671"/>
                    <a:pt x="9900" y="2643"/>
                  </a:cubicBezTo>
                  <a:close/>
                  <a:moveTo>
                    <a:pt x="9900" y="2443"/>
                  </a:moveTo>
                  <a:lnTo>
                    <a:pt x="9900" y="2443"/>
                  </a:lnTo>
                  <a:cubicBezTo>
                    <a:pt x="9900" y="2416"/>
                    <a:pt x="9923" y="2393"/>
                    <a:pt x="9950" y="2393"/>
                  </a:cubicBezTo>
                  <a:cubicBezTo>
                    <a:pt x="9978" y="2393"/>
                    <a:pt x="10000" y="2416"/>
                    <a:pt x="10000" y="2443"/>
                  </a:cubicBezTo>
                  <a:lnTo>
                    <a:pt x="10000" y="2443"/>
                  </a:lnTo>
                  <a:cubicBezTo>
                    <a:pt x="10000" y="2471"/>
                    <a:pt x="9978" y="2493"/>
                    <a:pt x="9950" y="2493"/>
                  </a:cubicBezTo>
                  <a:cubicBezTo>
                    <a:pt x="9923" y="2493"/>
                    <a:pt x="9900" y="2471"/>
                    <a:pt x="9900" y="2443"/>
                  </a:cubicBezTo>
                  <a:close/>
                  <a:moveTo>
                    <a:pt x="9900" y="2243"/>
                  </a:moveTo>
                  <a:lnTo>
                    <a:pt x="9900" y="2243"/>
                  </a:lnTo>
                  <a:cubicBezTo>
                    <a:pt x="9900" y="2216"/>
                    <a:pt x="9923" y="2193"/>
                    <a:pt x="9950" y="2193"/>
                  </a:cubicBezTo>
                  <a:cubicBezTo>
                    <a:pt x="9978" y="2193"/>
                    <a:pt x="10000" y="2216"/>
                    <a:pt x="10000" y="2243"/>
                  </a:cubicBezTo>
                  <a:lnTo>
                    <a:pt x="10000" y="2243"/>
                  </a:lnTo>
                  <a:cubicBezTo>
                    <a:pt x="10000" y="2271"/>
                    <a:pt x="9978" y="2293"/>
                    <a:pt x="9950" y="2293"/>
                  </a:cubicBezTo>
                  <a:cubicBezTo>
                    <a:pt x="9923" y="2293"/>
                    <a:pt x="9900" y="2271"/>
                    <a:pt x="9900" y="2243"/>
                  </a:cubicBezTo>
                  <a:close/>
                  <a:moveTo>
                    <a:pt x="9900" y="2043"/>
                  </a:moveTo>
                  <a:lnTo>
                    <a:pt x="9900" y="2043"/>
                  </a:lnTo>
                  <a:cubicBezTo>
                    <a:pt x="9900" y="2015"/>
                    <a:pt x="9923" y="1993"/>
                    <a:pt x="9950" y="1993"/>
                  </a:cubicBezTo>
                  <a:cubicBezTo>
                    <a:pt x="9978" y="1993"/>
                    <a:pt x="10000" y="2015"/>
                    <a:pt x="10000" y="2043"/>
                  </a:cubicBezTo>
                  <a:lnTo>
                    <a:pt x="10000" y="2043"/>
                  </a:lnTo>
                  <a:cubicBezTo>
                    <a:pt x="10000" y="2071"/>
                    <a:pt x="9978" y="2093"/>
                    <a:pt x="9950" y="2093"/>
                  </a:cubicBezTo>
                  <a:cubicBezTo>
                    <a:pt x="9923" y="2093"/>
                    <a:pt x="9900" y="2071"/>
                    <a:pt x="9900" y="2043"/>
                  </a:cubicBezTo>
                  <a:close/>
                  <a:moveTo>
                    <a:pt x="9900" y="1843"/>
                  </a:moveTo>
                  <a:lnTo>
                    <a:pt x="9900" y="1843"/>
                  </a:lnTo>
                  <a:cubicBezTo>
                    <a:pt x="9900" y="1815"/>
                    <a:pt x="9923" y="1793"/>
                    <a:pt x="9950" y="1793"/>
                  </a:cubicBezTo>
                  <a:cubicBezTo>
                    <a:pt x="9978" y="1793"/>
                    <a:pt x="10000" y="1815"/>
                    <a:pt x="10000" y="1843"/>
                  </a:cubicBezTo>
                  <a:lnTo>
                    <a:pt x="10000" y="1843"/>
                  </a:lnTo>
                  <a:cubicBezTo>
                    <a:pt x="10000" y="1871"/>
                    <a:pt x="9978" y="1893"/>
                    <a:pt x="9950" y="1893"/>
                  </a:cubicBezTo>
                  <a:cubicBezTo>
                    <a:pt x="9923" y="1893"/>
                    <a:pt x="9900" y="1871"/>
                    <a:pt x="9900" y="1843"/>
                  </a:cubicBezTo>
                  <a:close/>
                  <a:moveTo>
                    <a:pt x="9900" y="1643"/>
                  </a:moveTo>
                  <a:lnTo>
                    <a:pt x="9900" y="1643"/>
                  </a:lnTo>
                  <a:cubicBezTo>
                    <a:pt x="9900" y="1615"/>
                    <a:pt x="9923" y="1593"/>
                    <a:pt x="9950" y="1593"/>
                  </a:cubicBezTo>
                  <a:cubicBezTo>
                    <a:pt x="9978" y="1593"/>
                    <a:pt x="10000" y="1615"/>
                    <a:pt x="10000" y="1643"/>
                  </a:cubicBezTo>
                  <a:lnTo>
                    <a:pt x="10000" y="1643"/>
                  </a:lnTo>
                  <a:cubicBezTo>
                    <a:pt x="10000" y="1671"/>
                    <a:pt x="9978" y="1693"/>
                    <a:pt x="9950" y="1693"/>
                  </a:cubicBezTo>
                  <a:cubicBezTo>
                    <a:pt x="9923" y="1693"/>
                    <a:pt x="9900" y="1671"/>
                    <a:pt x="9900" y="1643"/>
                  </a:cubicBezTo>
                  <a:close/>
                  <a:moveTo>
                    <a:pt x="9900" y="1443"/>
                  </a:moveTo>
                  <a:lnTo>
                    <a:pt x="9900" y="1443"/>
                  </a:lnTo>
                  <a:cubicBezTo>
                    <a:pt x="9900" y="1415"/>
                    <a:pt x="9923" y="1393"/>
                    <a:pt x="9950" y="1393"/>
                  </a:cubicBezTo>
                  <a:cubicBezTo>
                    <a:pt x="9978" y="1393"/>
                    <a:pt x="10000" y="1415"/>
                    <a:pt x="10000" y="1443"/>
                  </a:cubicBezTo>
                  <a:lnTo>
                    <a:pt x="10000" y="1443"/>
                  </a:lnTo>
                  <a:cubicBezTo>
                    <a:pt x="10000" y="1470"/>
                    <a:pt x="9978" y="1493"/>
                    <a:pt x="9950" y="1493"/>
                  </a:cubicBezTo>
                  <a:cubicBezTo>
                    <a:pt x="9923" y="1493"/>
                    <a:pt x="9900" y="1470"/>
                    <a:pt x="9900" y="1443"/>
                  </a:cubicBezTo>
                  <a:close/>
                  <a:moveTo>
                    <a:pt x="9900" y="1243"/>
                  </a:moveTo>
                  <a:lnTo>
                    <a:pt x="9900" y="1243"/>
                  </a:lnTo>
                  <a:cubicBezTo>
                    <a:pt x="9900" y="1215"/>
                    <a:pt x="9923" y="1193"/>
                    <a:pt x="9950" y="1193"/>
                  </a:cubicBezTo>
                  <a:cubicBezTo>
                    <a:pt x="9978" y="1193"/>
                    <a:pt x="10000" y="1215"/>
                    <a:pt x="10000" y="1243"/>
                  </a:cubicBezTo>
                  <a:lnTo>
                    <a:pt x="10000" y="1243"/>
                  </a:lnTo>
                  <a:cubicBezTo>
                    <a:pt x="10000" y="1270"/>
                    <a:pt x="9978" y="1293"/>
                    <a:pt x="9950" y="1293"/>
                  </a:cubicBezTo>
                  <a:cubicBezTo>
                    <a:pt x="9923" y="1293"/>
                    <a:pt x="9900" y="1270"/>
                    <a:pt x="9900" y="1243"/>
                  </a:cubicBezTo>
                  <a:close/>
                  <a:moveTo>
                    <a:pt x="9900" y="1043"/>
                  </a:moveTo>
                  <a:lnTo>
                    <a:pt x="9900" y="1043"/>
                  </a:lnTo>
                  <a:cubicBezTo>
                    <a:pt x="9900" y="1015"/>
                    <a:pt x="9923" y="993"/>
                    <a:pt x="9950" y="993"/>
                  </a:cubicBezTo>
                  <a:cubicBezTo>
                    <a:pt x="9978" y="993"/>
                    <a:pt x="10000" y="1015"/>
                    <a:pt x="10000" y="1043"/>
                  </a:cubicBezTo>
                  <a:lnTo>
                    <a:pt x="10000" y="1043"/>
                  </a:lnTo>
                  <a:cubicBezTo>
                    <a:pt x="10000" y="1070"/>
                    <a:pt x="9978" y="1093"/>
                    <a:pt x="9950" y="1093"/>
                  </a:cubicBezTo>
                  <a:cubicBezTo>
                    <a:pt x="9923" y="1093"/>
                    <a:pt x="9900" y="1070"/>
                    <a:pt x="9900" y="1043"/>
                  </a:cubicBezTo>
                  <a:close/>
                  <a:moveTo>
                    <a:pt x="9900" y="843"/>
                  </a:moveTo>
                  <a:lnTo>
                    <a:pt x="9900" y="842"/>
                  </a:lnTo>
                  <a:cubicBezTo>
                    <a:pt x="9900" y="815"/>
                    <a:pt x="9923" y="792"/>
                    <a:pt x="9950" y="792"/>
                  </a:cubicBezTo>
                  <a:cubicBezTo>
                    <a:pt x="9978" y="792"/>
                    <a:pt x="10000" y="815"/>
                    <a:pt x="10000" y="842"/>
                  </a:cubicBezTo>
                  <a:lnTo>
                    <a:pt x="10000" y="843"/>
                  </a:lnTo>
                  <a:cubicBezTo>
                    <a:pt x="10000" y="870"/>
                    <a:pt x="9978" y="893"/>
                    <a:pt x="9950" y="893"/>
                  </a:cubicBezTo>
                  <a:cubicBezTo>
                    <a:pt x="9923" y="893"/>
                    <a:pt x="9900" y="870"/>
                    <a:pt x="9900" y="843"/>
                  </a:cubicBezTo>
                  <a:close/>
                  <a:moveTo>
                    <a:pt x="9900" y="642"/>
                  </a:moveTo>
                  <a:lnTo>
                    <a:pt x="9900" y="642"/>
                  </a:lnTo>
                  <a:cubicBezTo>
                    <a:pt x="9900" y="615"/>
                    <a:pt x="9923" y="592"/>
                    <a:pt x="9950" y="592"/>
                  </a:cubicBezTo>
                  <a:cubicBezTo>
                    <a:pt x="9978" y="592"/>
                    <a:pt x="10000" y="615"/>
                    <a:pt x="10000" y="642"/>
                  </a:cubicBezTo>
                  <a:lnTo>
                    <a:pt x="10000" y="642"/>
                  </a:lnTo>
                  <a:cubicBezTo>
                    <a:pt x="10000" y="670"/>
                    <a:pt x="9978" y="692"/>
                    <a:pt x="9950" y="692"/>
                  </a:cubicBezTo>
                  <a:cubicBezTo>
                    <a:pt x="9923" y="692"/>
                    <a:pt x="9900" y="670"/>
                    <a:pt x="9900" y="642"/>
                  </a:cubicBezTo>
                  <a:close/>
                  <a:moveTo>
                    <a:pt x="9900" y="442"/>
                  </a:moveTo>
                  <a:lnTo>
                    <a:pt x="9900" y="442"/>
                  </a:lnTo>
                  <a:cubicBezTo>
                    <a:pt x="9900" y="415"/>
                    <a:pt x="9923" y="392"/>
                    <a:pt x="9950" y="392"/>
                  </a:cubicBezTo>
                  <a:cubicBezTo>
                    <a:pt x="9978" y="392"/>
                    <a:pt x="10000" y="415"/>
                    <a:pt x="10000" y="442"/>
                  </a:cubicBezTo>
                  <a:lnTo>
                    <a:pt x="10000" y="442"/>
                  </a:lnTo>
                  <a:cubicBezTo>
                    <a:pt x="10000" y="470"/>
                    <a:pt x="9978" y="492"/>
                    <a:pt x="9950" y="492"/>
                  </a:cubicBezTo>
                  <a:cubicBezTo>
                    <a:pt x="9923" y="492"/>
                    <a:pt x="9900" y="470"/>
                    <a:pt x="9900" y="442"/>
                  </a:cubicBezTo>
                  <a:close/>
                  <a:moveTo>
                    <a:pt x="9900" y="242"/>
                  </a:moveTo>
                  <a:lnTo>
                    <a:pt x="9900" y="242"/>
                  </a:lnTo>
                  <a:cubicBezTo>
                    <a:pt x="9900" y="215"/>
                    <a:pt x="9923" y="192"/>
                    <a:pt x="9950" y="192"/>
                  </a:cubicBezTo>
                  <a:cubicBezTo>
                    <a:pt x="9978" y="192"/>
                    <a:pt x="10000" y="215"/>
                    <a:pt x="10000" y="242"/>
                  </a:cubicBezTo>
                  <a:lnTo>
                    <a:pt x="10000" y="242"/>
                  </a:lnTo>
                  <a:cubicBezTo>
                    <a:pt x="10000" y="270"/>
                    <a:pt x="9978" y="292"/>
                    <a:pt x="9950" y="292"/>
                  </a:cubicBezTo>
                  <a:cubicBezTo>
                    <a:pt x="9923" y="292"/>
                    <a:pt x="9900" y="270"/>
                    <a:pt x="9900" y="242"/>
                  </a:cubicBez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Rectangle 37"/>
            <p:cNvSpPr/>
            <p:nvPr/>
          </p:nvSpPr>
          <p:spPr>
            <a:xfrm>
              <a:off x="2885760" y="1012680"/>
              <a:ext cx="77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Environnement </a:t>
              </a:r>
              <a:endParaRPr b="0" lang="en-US" sz="800" spc="-1" strike="noStrike">
                <a:solidFill>
                  <a:srgbClr val="000000"/>
                </a:solidFill>
                <a:latin typeface="Arial"/>
              </a:endParaRPr>
            </a:p>
          </p:txBody>
        </p:sp>
        <p:sp>
          <p:nvSpPr>
            <p:cNvPr id="181" name="Rectangle 36"/>
            <p:cNvSpPr/>
            <p:nvPr/>
          </p:nvSpPr>
          <p:spPr>
            <a:xfrm>
              <a:off x="2916000" y="1147320"/>
              <a:ext cx="453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favorable</a:t>
              </a:r>
              <a:endParaRPr b="0" lang="en-US" sz="800" spc="-1" strike="noStrike">
                <a:solidFill>
                  <a:srgbClr val="000000"/>
                </a:solidFill>
                <a:latin typeface="Arial"/>
              </a:endParaRPr>
            </a:p>
          </p:txBody>
        </p:sp>
        <p:sp>
          <p:nvSpPr>
            <p:cNvPr id="182" name="Rectangle 35"/>
            <p:cNvSpPr/>
            <p:nvPr/>
          </p:nvSpPr>
          <p:spPr>
            <a:xfrm>
              <a:off x="3534480" y="1147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ea typeface="Times New Roman"/>
                </a:rPr>
                <a:t> </a:t>
              </a:r>
              <a:endParaRPr b="0" lang="en-US" sz="800" spc="-1" strike="noStrike">
                <a:solidFill>
                  <a:srgbClr val="000000"/>
                </a:solidFill>
                <a:latin typeface="Arial"/>
              </a:endParaRPr>
            </a:p>
          </p:txBody>
        </p:sp>
        <p:grpSp>
          <p:nvGrpSpPr>
            <p:cNvPr id="183" name="Group 29"/>
            <p:cNvGrpSpPr/>
            <p:nvPr/>
          </p:nvGrpSpPr>
          <p:grpSpPr>
            <a:xfrm>
              <a:off x="6707160" y="2647080"/>
              <a:ext cx="677160" cy="605520"/>
              <a:chOff x="6707160" y="2647080"/>
              <a:chExt cx="677160" cy="605520"/>
            </a:xfrm>
          </p:grpSpPr>
          <p:sp>
            <p:nvSpPr>
              <p:cNvPr id="184" name="Rectangle 34"/>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3" descr=""/>
              <p:cNvPicPr/>
              <p:nvPr/>
            </p:nvPicPr>
            <p:blipFill>
              <a:blip r:embed="rId4"/>
              <a:stretch/>
            </p:blipFill>
            <p:spPr>
              <a:xfrm>
                <a:off x="6717600" y="2666520"/>
                <a:ext cx="666000" cy="585720"/>
              </a:xfrm>
              <a:prstGeom prst="rect">
                <a:avLst/>
              </a:prstGeom>
              <a:ln w="0">
                <a:noFill/>
              </a:ln>
            </p:spPr>
          </p:pic>
          <p:sp>
            <p:nvSpPr>
              <p:cNvPr id="186" name="Rectangle 32"/>
              <p:cNvSpPr/>
              <p:nvPr/>
            </p:nvSpPr>
            <p:spPr>
              <a:xfrm>
                <a:off x="6717240" y="2666160"/>
                <a:ext cx="667080" cy="586440"/>
              </a:xfrm>
              <a:prstGeom prst="rect">
                <a:avLst/>
              </a:prstGeom>
              <a:solidFill>
                <a:srgbClr val="243f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31" descr=""/>
              <p:cNvPicPr/>
              <p:nvPr/>
            </p:nvPicPr>
            <p:blipFill>
              <a:blip r:embed="rId5"/>
              <a:stretch/>
            </p:blipFill>
            <p:spPr>
              <a:xfrm>
                <a:off x="6707160" y="2647080"/>
                <a:ext cx="666360" cy="585360"/>
              </a:xfrm>
              <a:prstGeom prst="rect">
                <a:avLst/>
              </a:prstGeom>
              <a:ln w="0">
                <a:noFill/>
              </a:ln>
            </p:spPr>
          </p:pic>
          <p:sp>
            <p:nvSpPr>
              <p:cNvPr id="188" name="Rectangle 30"/>
              <p:cNvSpPr/>
              <p:nvPr/>
            </p:nvSpPr>
            <p:spPr>
              <a:xfrm>
                <a:off x="6707160" y="2647440"/>
                <a:ext cx="665280" cy="585360"/>
              </a:xfrm>
              <a:prstGeom prst="rect">
                <a:avLst/>
              </a:prstGeom>
              <a:noFill/>
              <a:ln cap="rnd" w="0">
                <a:solidFill>
                  <a:srgbClr val="95b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28"/>
            <p:cNvSpPr/>
            <p:nvPr/>
          </p:nvSpPr>
          <p:spPr>
            <a:xfrm>
              <a:off x="7039440" y="2689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endParaRPr b="0" lang="en-US" sz="500" spc="-1" strike="noStrike">
                <a:solidFill>
                  <a:srgbClr val="000000"/>
                </a:solidFill>
                <a:latin typeface="Arial"/>
              </a:endParaRPr>
            </a:p>
          </p:txBody>
        </p:sp>
        <p:sp>
          <p:nvSpPr>
            <p:cNvPr id="190" name="Rectangle 27"/>
            <p:cNvSpPr/>
            <p:nvPr/>
          </p:nvSpPr>
          <p:spPr>
            <a:xfrm>
              <a:off x="6891840" y="2867760"/>
              <a:ext cx="27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TAP</a:t>
              </a:r>
              <a:endParaRPr b="0" lang="en-US" sz="800" spc="-1" strike="noStrike">
                <a:solidFill>
                  <a:srgbClr val="000000"/>
                </a:solidFill>
                <a:latin typeface="Arial"/>
              </a:endParaRPr>
            </a:p>
          </p:txBody>
        </p:sp>
        <p:sp>
          <p:nvSpPr>
            <p:cNvPr id="191" name="Rectangle 26"/>
            <p:cNvSpPr/>
            <p:nvPr/>
          </p:nvSpPr>
          <p:spPr>
            <a:xfrm>
              <a:off x="7153560" y="28677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2" name="Rectangle 23"/>
            <p:cNvSpPr/>
            <p:nvPr/>
          </p:nvSpPr>
          <p:spPr>
            <a:xfrm>
              <a:off x="4727520" y="2356560"/>
              <a:ext cx="69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Bureau d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l’éval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 </a:t>
              </a:r>
              <a:r>
                <a:rPr b="1" lang="en-US" sz="900" spc="-1" strike="noStrike">
                  <a:solidFill>
                    <a:srgbClr val="ffffff"/>
                  </a:solidFill>
                  <a:latin typeface="Arial"/>
                  <a:ea typeface="Times New Roman"/>
                </a:rPr>
                <a:t>du FEM</a:t>
              </a:r>
              <a:endParaRPr b="0" lang="en-US" sz="900" spc="-1" strike="noStrike">
                <a:solidFill>
                  <a:srgbClr val="000000"/>
                </a:solidFill>
                <a:latin typeface="Arial"/>
              </a:endParaRPr>
            </a:p>
          </p:txBody>
        </p:sp>
        <p:sp>
          <p:nvSpPr>
            <p:cNvPr id="193" name="Rectangle 21"/>
            <p:cNvSpPr/>
            <p:nvPr/>
          </p:nvSpPr>
          <p:spPr>
            <a:xfrm>
              <a:off x="4979520" y="2298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4" name="Rectangle 20"/>
            <p:cNvSpPr/>
            <p:nvPr/>
          </p:nvSpPr>
          <p:spPr>
            <a:xfrm>
              <a:off x="6145560" y="3619440"/>
              <a:ext cx="6084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9"/>
            <p:cNvSpPr/>
            <p:nvPr/>
          </p:nvSpPr>
          <p:spPr>
            <a:xfrm>
              <a:off x="6073200" y="3716640"/>
              <a:ext cx="596520" cy="608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rétari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Entité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exécu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du FEM</a:t>
              </a:r>
              <a:endParaRPr b="0" lang="en-US" sz="800" spc="-1" strike="noStrike">
                <a:solidFill>
                  <a:srgbClr val="000000"/>
                </a:solidFill>
                <a:latin typeface="Arial"/>
              </a:endParaRPr>
            </a:p>
          </p:txBody>
        </p:sp>
        <p:sp>
          <p:nvSpPr>
            <p:cNvPr id="196" name="Rectangle 17"/>
            <p:cNvSpPr/>
            <p:nvPr/>
          </p:nvSpPr>
          <p:spPr>
            <a:xfrm>
              <a:off x="5905440" y="39762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6"/>
            <p:cNvSpPr/>
            <p:nvPr/>
          </p:nvSpPr>
          <p:spPr>
            <a:xfrm>
              <a:off x="6430320" y="39790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198" name="Rectangle 15"/>
            <p:cNvSpPr/>
            <p:nvPr/>
          </p:nvSpPr>
          <p:spPr>
            <a:xfrm>
              <a:off x="6228000" y="41000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sp>
          <p:nvSpPr>
            <p:cNvPr id="199" name="Rectangle 13"/>
            <p:cNvSpPr/>
            <p:nvPr/>
          </p:nvSpPr>
          <p:spPr>
            <a:xfrm>
              <a:off x="6717600" y="4419000"/>
              <a:ext cx="6469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y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artenair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Secteur privé</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popul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locales</a:t>
              </a:r>
              <a:endParaRPr b="0" lang="en-US" sz="800" spc="-1" strike="noStrike">
                <a:solidFill>
                  <a:srgbClr val="000000"/>
                </a:solidFill>
                <a:latin typeface="Arial"/>
              </a:endParaRPr>
            </a:p>
          </p:txBody>
        </p:sp>
        <p:sp>
          <p:nvSpPr>
            <p:cNvPr id="200" name="Rectangle 12"/>
            <p:cNvSpPr/>
            <p:nvPr/>
          </p:nvSpPr>
          <p:spPr>
            <a:xfrm>
              <a:off x="6679440" y="444168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6595560" y="45619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6754320" y="46818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6611400" y="4802400"/>
              <a:ext cx="360" cy="27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211520" y="4802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endParaRPr b="0" lang="en-US" sz="800" spc="-1" strike="noStrike">
                <a:solidFill>
                  <a:srgbClr val="000000"/>
                </a:solidFill>
                <a:latin typeface="Arial"/>
              </a:endParaRPr>
            </a:p>
          </p:txBody>
        </p:sp>
        <p:sp>
          <p:nvSpPr>
            <p:cNvPr id="205" name="Rectangle 6"/>
            <p:cNvSpPr/>
            <p:nvPr/>
          </p:nvSpPr>
          <p:spPr>
            <a:xfrm>
              <a:off x="6909120" y="49226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p:txBody>
        </p:sp>
      </p:grpSp>
      <p:grpSp>
        <p:nvGrpSpPr>
          <p:cNvPr id="206" name="Flowchart: Decision 121"/>
          <p:cNvGrpSpPr/>
          <p:nvPr/>
        </p:nvGrpSpPr>
        <p:grpSpPr>
          <a:xfrm>
            <a:off x="3432240" y="1060560"/>
            <a:ext cx="1365120" cy="981000"/>
            <a:chOff x="3432240" y="1060560"/>
            <a:chExt cx="1365120" cy="981000"/>
          </a:xfrm>
        </p:grpSpPr>
        <p:pic>
          <p:nvPicPr>
            <p:cNvPr id="207" name="Flowchart: Decision 121" descr=""/>
            <p:cNvPicPr/>
            <p:nvPr/>
          </p:nvPicPr>
          <p:blipFill>
            <a:blip r:embed="rId6"/>
            <a:stretch/>
          </p:blipFill>
          <p:spPr>
            <a:xfrm>
              <a:off x="3432240" y="1060560"/>
              <a:ext cx="1365120" cy="981000"/>
            </a:xfrm>
            <a:prstGeom prst="rect">
              <a:avLst/>
            </a:prstGeom>
            <a:ln w="0">
              <a:noFill/>
            </a:ln>
          </p:spPr>
        </p:pic>
        <p:sp>
          <p:nvSpPr>
            <p:cNvPr id="208" name=""/>
            <p:cNvSpPr/>
            <p:nvPr/>
          </p:nvSpPr>
          <p:spPr>
            <a:xfrm>
              <a:off x="3809880" y="1293840"/>
              <a:ext cx="60984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CONSEIL</a:t>
              </a:r>
              <a:endParaRPr b="0" lang="en-US" sz="1100" spc="-1" strike="noStrike">
                <a:solidFill>
                  <a:srgbClr val="000000"/>
                </a:solidFill>
                <a:latin typeface="Arial"/>
              </a:endParaRPr>
            </a:p>
          </p:txBody>
        </p:sp>
      </p:grpSp>
      <p:sp>
        <p:nvSpPr>
          <p:cNvPr id="209" name="TextBox 124"/>
          <p:cNvSpPr/>
          <p:nvPr/>
        </p:nvSpPr>
        <p:spPr>
          <a:xfrm>
            <a:off x="4235400" y="2786040"/>
            <a:ext cx="42408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Bilan </a:t>
            </a:r>
            <a:endParaRPr b="0" lang="en-US" sz="700" spc="-1" strike="noStrike">
              <a:solidFill>
                <a:srgbClr val="000000"/>
              </a:solidFill>
              <a:latin typeface="Arial"/>
            </a:endParaRPr>
          </a:p>
        </p:txBody>
      </p:sp>
      <p:sp>
        <p:nvSpPr>
          <p:cNvPr id="210" name="TextBox 125"/>
          <p:cNvSpPr/>
          <p:nvPr/>
        </p:nvSpPr>
        <p:spPr>
          <a:xfrm>
            <a:off x="3852720" y="3498840"/>
            <a:ext cx="1405080" cy="41364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portefeuille-pays, thématiques, transversales, d’impacts, de  processus et de performance</a:t>
            </a:r>
            <a:endParaRPr b="0" lang="en-US" sz="700" spc="-1" strike="noStrike">
              <a:solidFill>
                <a:srgbClr val="000000"/>
              </a:solidFill>
              <a:latin typeface="Arial"/>
            </a:endParaRPr>
          </a:p>
        </p:txBody>
      </p:sp>
      <p:sp>
        <p:nvSpPr>
          <p:cNvPr id="211" name="TextBox 126"/>
          <p:cNvSpPr/>
          <p:nvPr/>
        </p:nvSpPr>
        <p:spPr>
          <a:xfrm>
            <a:off x="4038480" y="3233880"/>
            <a:ext cx="990720" cy="307080"/>
          </a:xfrm>
          <a:prstGeom prst="rect">
            <a:avLst/>
          </a:prstGeom>
          <a:solidFill>
            <a:srgbClr val="48b67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00" spc="-1" strike="noStrike">
                <a:solidFill>
                  <a:srgbClr val="000000"/>
                </a:solidFill>
                <a:latin typeface="Calibri"/>
                <a:ea typeface="Times New Roman"/>
              </a:rPr>
              <a:t>Évaluations de projet, de programme, du</a:t>
            </a:r>
            <a:endParaRPr b="0" lang="en-US" sz="700" spc="-1" strike="noStrike">
              <a:solidFill>
                <a:srgbClr val="000000"/>
              </a:solidFill>
              <a:latin typeface="Arial"/>
            </a:endParaRPr>
          </a:p>
        </p:txBody>
      </p:sp>
      <p:sp>
        <p:nvSpPr>
          <p:cNvPr id="212" name="TextBox 127"/>
          <p:cNvSpPr/>
          <p:nvPr/>
        </p:nvSpPr>
        <p:spPr>
          <a:xfrm>
            <a:off x="4162320" y="2949480"/>
            <a:ext cx="609840" cy="200520"/>
          </a:xfrm>
          <a:prstGeom prst="rect">
            <a:avLst/>
          </a:prstGeom>
          <a:solidFill>
            <a:srgbClr val="9cbb5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global</a:t>
            </a:r>
            <a:endParaRPr b="0" lang="en-US" sz="700" spc="-1" strike="noStrike">
              <a:solidFill>
                <a:srgbClr val="000000"/>
              </a:solidFill>
              <a:latin typeface="Arial"/>
            </a:endParaRPr>
          </a:p>
        </p:txBody>
      </p:sp>
      <p:sp>
        <p:nvSpPr>
          <p:cNvPr id="213" name="TextBox 128"/>
          <p:cNvSpPr/>
          <p:nvPr/>
        </p:nvSpPr>
        <p:spPr>
          <a:xfrm>
            <a:off x="3657600" y="4005360"/>
            <a:ext cx="2057400" cy="642600"/>
          </a:xfrm>
          <a:prstGeom prst="rect">
            <a:avLst/>
          </a:prstGeom>
          <a:solidFill>
            <a:srgbClr val="6d94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Examens de portefeuilles et de programmes, rapports annuels d’exécution de projet, suivi annuel, outils de suivi, examens à mi-parcours</a:t>
            </a:r>
            <a:endParaRPr b="0" lang="en-US" sz="900" spc="-1" strike="noStrike">
              <a:solidFill>
                <a:srgbClr val="000000"/>
              </a:solidFill>
              <a:latin typeface="Arial"/>
            </a:endParaRPr>
          </a:p>
        </p:txBody>
      </p:sp>
      <p:sp>
        <p:nvSpPr>
          <p:cNvPr id="214" name="TextBox 129"/>
          <p:cNvSpPr/>
          <p:nvPr/>
        </p:nvSpPr>
        <p:spPr>
          <a:xfrm>
            <a:off x="3341520" y="4803840"/>
            <a:ext cx="2971800" cy="368280"/>
          </a:xfrm>
          <a:prstGeom prst="rect">
            <a:avLst/>
          </a:prstGeom>
          <a:solidFill>
            <a:srgbClr val="8166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Calibri"/>
                <a:ea typeface="Times New Roman"/>
              </a:rPr>
              <a:t>Indicateurs de projet, suivi, collecte de données, </a:t>
            </a:r>
            <a:br>
              <a:rPr sz="900"/>
            </a:br>
            <a:r>
              <a:rPr b="0" lang="fr-CH" sz="900" spc="-1" strike="noStrike">
                <a:solidFill>
                  <a:srgbClr val="000000"/>
                </a:solidFill>
                <a:latin typeface="Calibri"/>
                <a:ea typeface="Times New Roman"/>
              </a:rPr>
              <a:t>fourniture d’informations</a:t>
            </a:r>
            <a:endParaRPr b="0" lang="en-US" sz="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1212840" y="268200"/>
            <a:ext cx="7937640" cy="804960"/>
          </a:xfrm>
          <a:prstGeom prst="rect">
            <a:avLst/>
          </a:prstGeom>
          <a:ln w="0">
            <a:noFill/>
          </a:ln>
        </p:spPr>
      </p:pic>
      <p:sp>
        <p:nvSpPr>
          <p:cNvPr id="216" name=""/>
          <p:cNvSpPr txBox="1"/>
          <p:nvPr/>
        </p:nvSpPr>
        <p:spPr>
          <a:xfrm>
            <a:off x="1218960" y="1143000"/>
            <a:ext cx="7924680" cy="5410080"/>
          </a:xfrm>
          <a:prstGeom prst="rect">
            <a:avLst/>
          </a:prstGeom>
          <a:noFill/>
          <a:ln w="0">
            <a:noFill/>
          </a:ln>
        </p:spPr>
        <p:txBody>
          <a:bodyPr anchor="t">
            <a:normAutofit/>
          </a:bodyPr>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Conception de plans de </a:t>
            </a:r>
            <a:r>
              <a:rPr b="1" sz="2600" spc="-1" strike="noStrike">
                <a:solidFill>
                  <a:srgbClr val="000000"/>
                </a:solidFill>
                <a:latin typeface="Calibri"/>
              </a:rPr>
              <a:t>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Établissement de plans de S&amp;E assortis de budgets détaillés en vue de l’obtention de l’agrément du directeur général (DG) du FEM dans le cas des projets de grande envergure, et de l’agrément du DG dans le cas des projets de moyenne envergure. Les matrices de planification des projets doivent s’aligner sur les cadres de résultats du domaine d’intervention du FEM inclus dans le GOR de FEM-5.</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Calibri"/>
              </a:rPr>
              <a:t>Mise en œuvre des plans de S&amp;E</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 suivi et la supervision du projet/programme couvrent l’exécution du Plan de S</a:t>
            </a:r>
            <a:r>
              <a:rPr b="0" lang="en-US" sz="1900" spc="-1" strike="noStrike">
                <a:solidFill>
                  <a:srgbClr val="000000"/>
                </a:solidFill>
                <a:latin typeface="Calibri"/>
              </a:rPr>
              <a:t>&amp;E.</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Évaluations de projets/programme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Tous les projets de grande et de moyenne envergure doivent être évalués. Les rapports doivent être transmis au Bureau de l’évaluation du FEM dans les 12 mois qui suivent l’achèvement du projet.</a:t>
            </a:r>
            <a:endParaRPr b="0" lang="en-US" sz="1900" spc="-1" strike="noStrike">
              <a:solidFill>
                <a:srgbClr val="000000"/>
              </a:solidFill>
              <a:latin typeface="Calibri"/>
            </a:endParaRPr>
          </a:p>
          <a:p>
            <a:pPr marL="461880" indent="-461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a:t>
            </a:r>
            <a:endParaRPr b="0" lang="en-US" sz="2600" spc="-1" strike="noStrike">
              <a:solidFill>
                <a:srgbClr val="000000"/>
              </a:solidFill>
              <a:latin typeface="Calibri"/>
            </a:endParaRPr>
          </a:p>
          <a:p>
            <a:pPr lvl="1" marL="861840" indent="-461880">
              <a:lnSpc>
                <a:spcPct val="90000"/>
              </a:lnSpc>
              <a:spcBef>
                <a:spcPts val="4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Les plans de S&amp;E  doivent expliquer comment les Points focaux techniques participeront aux activités de S&amp;E.</a:t>
            </a:r>
            <a:endParaRPr b="0" lang="en-US" sz="1900" spc="-1" strike="noStrike">
              <a:solidFill>
                <a:srgbClr val="000000"/>
              </a:solidFill>
              <a:latin typeface="Calibri"/>
            </a:endParaRPr>
          </a:p>
          <a:p>
            <a:pPr marL="461880" indent="-46188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7"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A3AE-8A3A-435E-9EE1-95FCC3C3D95B}"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212840" y="268200"/>
            <a:ext cx="7937640" cy="804960"/>
          </a:xfrm>
          <a:prstGeom prst="rect">
            <a:avLst/>
          </a:prstGeom>
          <a:ln w="0">
            <a:noFill/>
          </a:ln>
        </p:spPr>
      </p:pic>
      <p:sp>
        <p:nvSpPr>
          <p:cNvPr id="219" name=""/>
          <p:cNvSpPr txBox="1"/>
          <p:nvPr/>
        </p:nvSpPr>
        <p:spPr>
          <a:xfrm>
            <a:off x="1219320" y="1143000"/>
            <a:ext cx="7696080" cy="5486400"/>
          </a:xfrm>
          <a:prstGeom prst="rect">
            <a:avLst/>
          </a:prstGeom>
          <a:noFill/>
          <a:ln w="0">
            <a:noFill/>
          </a:ln>
        </p:spPr>
        <p:txBody>
          <a:bodyPr anchor="t">
            <a:normAutofit fontScale="99000"/>
          </a:bodyPr>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articipation des points focaux opérationnels (PFO)</a:t>
            </a:r>
            <a:endParaRPr b="0" lang="en-US" sz="2600" spc="-1" strike="noStrike">
              <a:solidFill>
                <a:srgbClr val="000000"/>
              </a:solidFill>
              <a:latin typeface="Calibri"/>
            </a:endParaRPr>
          </a:p>
          <a:p>
            <a:pPr lvl="1" marL="623880" indent="-623880">
              <a:spcBef>
                <a:spcPts val="425"/>
              </a:spcBef>
              <a:buClr>
                <a:srgbClr val="2569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lans de S&amp;E doivent indiquer les modalités de participation des PFO</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doivent être informés des activités de S&amp;E, y compris les examens à mi-parcours et les évaluations finales, et recevoir des versions préliminaires de ces documents pour observations ainsi que les rapports finals</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PFO sont invités à contribuer à la réponse de la direction (le cas échéant)</a:t>
            </a:r>
            <a:endParaRPr b="0" lang="en-US" sz="2400" spc="-1" strike="noStrike">
              <a:solidFill>
                <a:srgbClr val="000000"/>
              </a:solidFill>
              <a:latin typeface="Calibri"/>
            </a:endParaRPr>
          </a:p>
          <a:p>
            <a:pPr lvl="1" marL="623880" indent="-623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Les Entités d’exécution du FEM prennent note de l’application de cette exigence dans les projets et programmes financés par le FEM</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B371-B95B-41CC-81D4-49BFF5DD84CF}"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1212840" y="212760"/>
            <a:ext cx="7937640" cy="1019160"/>
          </a:xfrm>
          <a:prstGeom prst="rect">
            <a:avLst/>
          </a:prstGeom>
          <a:ln w="0">
            <a:noFill/>
          </a:ln>
        </p:spPr>
      </p:pic>
      <p:sp>
        <p:nvSpPr>
          <p:cNvPr id="222"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6FE5-8975-4E11-85F3-E2BEE05BAD63}"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3" name="Rectangle 3"/>
          <p:cNvSpPr/>
          <p:nvPr/>
        </p:nvSpPr>
        <p:spPr>
          <a:xfrm>
            <a:off x="1251000" y="1123920"/>
            <a:ext cx="7772400" cy="53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Suivre l’évolution </a:t>
            </a:r>
            <a:r>
              <a:rPr b="0" lang="fr-FR" sz="2400" spc="-1" strike="noStrike">
                <a:solidFill>
                  <a:srgbClr val="000000"/>
                </a:solidFill>
                <a:latin typeface="Calibri"/>
              </a:rPr>
              <a:t>du soutien du FEM à l’échelon national.</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enir les </a:t>
            </a:r>
            <a:r>
              <a:rPr b="1" lang="fr-FR" sz="2400" spc="-1" strike="noStrike">
                <a:solidFill>
                  <a:srgbClr val="000000"/>
                </a:solidFill>
                <a:latin typeface="Calibri"/>
              </a:rPr>
              <a:t>parties prenantes informées </a:t>
            </a:r>
            <a:r>
              <a:rPr b="0" lang="fr-FR" sz="2400" spc="-1" strike="noStrike">
                <a:solidFill>
                  <a:srgbClr val="000000"/>
                </a:solidFill>
                <a:latin typeface="Calibri"/>
              </a:rPr>
              <a:t>et les </a:t>
            </a:r>
            <a:r>
              <a:rPr b="1" lang="fr-FR" sz="2400" spc="-1" strike="noStrike">
                <a:solidFill>
                  <a:srgbClr val="000000"/>
                </a:solidFill>
                <a:latin typeface="Calibri"/>
              </a:rPr>
              <a:t>consulter</a:t>
            </a:r>
            <a:r>
              <a:rPr b="0" lang="fr-FR" sz="2400" spc="-1" strike="noStrike">
                <a:solidFill>
                  <a:srgbClr val="000000"/>
                </a:solidFill>
                <a:latin typeface="Calibri"/>
              </a:rPr>
              <a:t> sur les plans, l’exécution et les résultats des activités du FEM dans le pays.</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ffuser</a:t>
            </a:r>
            <a:r>
              <a:rPr b="0" lang="fr-FR" sz="2400" spc="-1" strike="noStrike">
                <a:solidFill>
                  <a:srgbClr val="000000"/>
                </a:solidFill>
                <a:latin typeface="Calibri"/>
              </a:rPr>
              <a:t> des informations sur le S&amp;E, promouvoir l’exécution des recommandations de l’évaluation et les </a:t>
            </a:r>
            <a:r>
              <a:rPr b="1" lang="fr-FR" sz="2400" spc="-1" strike="noStrike">
                <a:solidFill>
                  <a:srgbClr val="000000"/>
                </a:solidFill>
                <a:latin typeface="Calibri"/>
              </a:rPr>
              <a:t>enseignements tirés</a:t>
            </a:r>
            <a:r>
              <a:rPr b="0" lang="fr-FR"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ider le Bureau de l’évaluation</a:t>
            </a:r>
            <a:r>
              <a:rPr b="0" lang="fr-FR" sz="2400" spc="-1" strike="noStrike">
                <a:solidFill>
                  <a:srgbClr val="000000"/>
                </a:solidFill>
                <a:latin typeface="Calibri"/>
              </a:rPr>
              <a:t>, premier point d’entrée dans un pays, à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Identifier les principales parties prenantes concernées,</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unions, </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Établir les ordres du jour,</a:t>
            </a:r>
            <a:endParaRPr b="0" lang="en-US" sz="2400" spc="-1" strike="noStrike">
              <a:solidFill>
                <a:srgbClr val="000000"/>
              </a:solidFill>
              <a:latin typeface="Arial"/>
            </a:endParaRPr>
          </a:p>
          <a:p>
            <a:pPr lvl="1" marL="743040" indent="-285840">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alibri"/>
                <a:ea typeface="Arial"/>
              </a:rPr>
              <a:t>Coordonner les réponses des pays à ces évaluations.</a:t>
            </a: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1212840" y="109440"/>
            <a:ext cx="9077400" cy="1017720"/>
          </a:xfrm>
          <a:prstGeom prst="rect">
            <a:avLst/>
          </a:prstGeom>
          <a:ln w="0">
            <a:noFill/>
          </a:ln>
        </p:spPr>
      </p:pic>
      <p:sp>
        <p:nvSpPr>
          <p:cNvPr id="225" name="Slide Number Placeholder 3"/>
          <p:cNvSpPr/>
          <p:nvPr/>
        </p:nvSpPr>
        <p:spPr>
          <a:xfrm>
            <a:off x="655308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EFEF-8E32-47B1-A718-138D3DE37400}" type="slidenum">
              <a:rPr b="1" lang="en-US" sz="1800" spc="-1" strike="noStrike">
                <a:solidFill>
                  <a:srgbClr val="502800"/>
                </a:solidFill>
                <a:latin typeface="Calibri"/>
              </a:rPr>
              <a:t>&lt;number&gt;</a:t>
            </a:fld>
            <a:endParaRPr b="0" lang="en-US" sz="1800" spc="-1" strike="noStrike">
              <a:solidFill>
                <a:srgbClr val="000000"/>
              </a:solidFill>
              <a:latin typeface="Arial"/>
            </a:endParaRPr>
          </a:p>
        </p:txBody>
      </p:sp>
      <p:sp>
        <p:nvSpPr>
          <p:cNvPr id="226" name=""/>
          <p:cNvSpPr txBox="1"/>
          <p:nvPr/>
        </p:nvSpPr>
        <p:spPr>
          <a:xfrm>
            <a:off x="1218960" y="1143000"/>
            <a:ext cx="7924680" cy="4983120"/>
          </a:xfrm>
          <a:prstGeom prst="rect">
            <a:avLst/>
          </a:prstGeom>
          <a:noFill/>
          <a:ln w="0">
            <a:noFill/>
          </a:ln>
        </p:spPr>
        <p:txBody>
          <a:bodyPr anchor="t">
            <a:normAutofit/>
          </a:bodyPr>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inquième composante : Renforcer la capacité à surveiller et évaluer les impacts sur l'environnement et l'évolution de la situation en la matière ; doit avoir la priorité dans le plan d’auto-évaluation nationale des capacités à renforcer (ANCR) </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lan de renforcement des capacités doit être formulé en tant que projet de moyenne envergure, ou intégré dans une proposition plus large, sous forme de projet de moyenne ou grande envergure  - dans le cas d’un projet de moyenne envergure, le cofinancement doit être de 1:1</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formation de partenariats régionaux peut être envisagée</a:t>
            </a:r>
            <a:endParaRPr b="0" lang="en-US" sz="2200" spc="-1" strike="noStrike">
              <a:solidFill>
                <a:srgbClr val="000000"/>
              </a:solidFill>
              <a:latin typeface="Calibri"/>
            </a:endParaRPr>
          </a:p>
          <a:p>
            <a:pPr lvl="1" marL="743040" indent="-285840">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 à partir du montant de 44 millions de dollars réservé au renforcement des capacités</a:t>
            </a:r>
            <a:endParaRPr b="0" lang="en-US" sz="22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20:45:39Z</dcterms:created>
  <dc:creator>Soledad</dc:creator>
  <dc:description/>
  <dc:language>en-US</dc:language>
  <cp:lastModifiedBy>wb350798</cp:lastModifiedBy>
  <dcterms:modified xsi:type="dcterms:W3CDTF">2012-03-14T21:49:13Z</dcterms:modified>
  <cp:revision>350</cp:revision>
  <dc:subject/>
  <dc:title>Slide 1</dc:title>
</cp:coreProperties>
</file>