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102F-0DB1-429A-8A0F-928BA5D8A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D1B1-3026-4B2B-B3E2-A73C157B9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07"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4E15-395C-43DC-AE2F-2C31EE372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13"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F7F0-6AD8-4286-B964-FA1B0697D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FCFB-E815-43D7-8A94-9BA36D30A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C7E1-FFBF-487C-A503-4B5597274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1"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5A11-DA20-445D-A3B7-5EFB5CB55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
        <p:nvSpPr>
          <p:cNvPr id="88" name="Subtitle 9"/>
          <p:cNvSpPr/>
          <p:nvPr/>
        </p:nvSpPr>
        <p:spPr>
          <a:xfrm>
            <a:off x="914400" y="38098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séquestration de carbone et conservation de la biodiversité  </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de façon </a:t>
            </a:r>
            <a:r>
              <a:rPr b="0" lang="en-US" sz="3200" spc="-1" strike="noStrike">
                <a:solidFill>
                  <a:srgbClr val="000000"/>
                </a:solidFill>
                <a:latin typeface="Calibri"/>
              </a:rPr>
              <a:t>à</a:t>
            </a:r>
            <a:r>
              <a:rPr b="0" lang="fr-FR" sz="3200" spc="-1" strike="noStrike">
                <a:solidFill>
                  <a:srgbClr val="000000"/>
                </a:solidFill>
                <a:latin typeface="Calibri"/>
              </a:rPr>
              <a:t> 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533520" y="1218960"/>
            <a:ext cx="8229600" cy="43434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ntant decaisses a ce jour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te de risque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3360" y="1500120"/>
            <a:ext cx="7632720" cy="429120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wb350798</cp:lastModifiedBy>
  <dcterms:modified xsi:type="dcterms:W3CDTF">2012-06-06T15:12:39Z</dcterms:modified>
  <cp:revision>110</cp:revision>
  <dc:subject/>
  <dc:title>Results Based Management at the GEF</dc:title>
</cp:coreProperties>
</file>