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1DE-57C4-485E-9CC6-D8A8ED5702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C510-55E0-4609-971E-CAD1843BE7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8E95-8A37-490C-BCBF-F0010ACFF5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806-A52E-4A16-AF08-348BE6D41B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791C-37D6-4CD6-AEC6-8A99BFC83C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8D85-4A83-4CDA-85F7-170FE381984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8243-F415-4B6D-B69D-0D256251FE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7:56Z</dcterms:modified>
  <cp:revision>201</cp:revision>
  <dc:subject/>
  <dc:title>Focal Area and Cross Cutting Strategies – Chemicals</dc:title>
</cp:coreProperties>
</file>