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AD3-8B61-4C59-8940-75E9F63847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A4CF-00C2-4E9B-B4C5-F5A9CC1C73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51EF-4DD7-46BB-ABFD-BA99EBEFA7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C36-FE3C-41E5-B021-4301AB5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A8B-2026-4B69-97C8-B53C8F9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97C-B6A4-4724-B897-01807796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4F1-4ED2-44EC-B03A-60293A88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C6A-164C-4841-A047-8EC0D13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1CD-3E3C-4353-89FF-84018D2E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B76-9EBE-4CA5-9A7A-AAEEB83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02C-C6C0-4C33-ADAF-C21DB2B9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00B-0CF8-48F1-B975-9687C1D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19F-7A6C-48CF-8CD6-4CA98758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4F6-C518-4DEB-B03E-15C0237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578-46B6-48E8-88D9-7CD486C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B50-D750-4B58-BCF2-09C3D6219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July 6 – 8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Dakar, Sen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08-12T15:36:16Z</dcterms:modified>
  <cp:revision>52</cp:revision>
  <dc:subject/>
  <dc:title>GEF Small Grants Program</dc:title>
</cp:coreProperties>
</file>