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922-58D9-488C-A2AB-EE6F0EADC9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AE3-002F-4EC7-A748-CC08663848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8B5-6479-4DFE-B7F7-3FB9DF4DF5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D0C-0810-4C40-8027-EB9FE35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514-B13E-4C13-8BAD-5F2C5D97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7E2-0C33-44DB-B219-36336F71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42D-C4BD-4652-89AF-3A13BC79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252-6E94-4852-A3C4-97F786DE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8CC-4FE8-4963-8544-A89A3D7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BCA-9D8D-4866-94B5-B8631FB1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E26-204E-46F4-80AA-7842A0E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1CB-1D74-4772-8FBD-A26B7971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4FB-C427-4CBF-9A6B-E2A4B94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525-0B7F-4FEA-9127-BBAFD3A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481-D452-4696-A8B7-FE8646A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7054-F1B1-4254-AB8C-AB3B329B0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July 6 – 8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08-12T15:36:16Z</dcterms:modified>
  <cp:revision>52</cp:revision>
  <dc:subject/>
  <dc:title>GEF Small Grants Program</dc:title>
</cp:coreProperties>
</file>