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A92D-F99A-4F62-96DE-C0F05F148F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4123-4476-4F3E-B1FD-E16C28B42F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809D-0AB1-4069-925C-8EF9ACCB1A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75B-EF9E-49D1-9879-A5DF64F6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373-EA59-44D3-BA29-0570B21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82A-A2CF-41C4-B66F-1940CE16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207-4453-4207-BBA2-55C3EC9A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180-AD35-438F-8033-9D081944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6BA-EEC6-4F67-B6D5-0E353D5D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32B-F9B4-407C-8F4D-689717E6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1E9-4CDC-4780-B61B-5E3AF4B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53F-A4AD-4393-A667-DD925E1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B7-ECB5-4FB1-A2FC-0A3E984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26B-20D5-4040-8348-D847B9E4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064-4B8C-497F-BDE6-35C704A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FB9-E7FF-462C-BDA0-541437A5D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  <a:ea typeface="Arial"/>
              </a:rPr>
              <a:t>Programme de microfinancements du F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Cadre financier : Ressources du S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0880" y="190512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les programmes par pays des catégories I et II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les pays ayant une allocation nationale indicative globale STAR égale ou inférieure à 15 millions de dollars, un montant cumulé total maximum de 2,4 millions de dollars, avec un moyenne de 600 000 dollars par an, peut être allou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ys ayant une allocation nationale indicative globale STAR supérieure à 15 millions de dollars ne pourront plus accéder au financement de base du programme de microfinancements et devront financer leurs projets à partir de leurs allocations STAR. Un montant cumulé maximum de 3,6 millions de dollars, avec une moyenne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900 000 dollars par an, peut être allou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ays qui accède nouvellement au programme de microfinancements avec une allocation nationale indicative STAR peut programmer un montant correspondant de financement STAR. A partir de la deuxième année, le pays appliquera les directives ci-dessus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Cadre du Programme de microfinancements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programme appuie les initiatives de proximité concernant l’ensemble des questions ayant trait à l’environnement mondial traitées par le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programme met en œuvre la maxime « penser globalement, agir localement 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‘ « image publique » du FE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mmunautés ciblées par le programme sont souvent les plus pauvres et les plus vulné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s disposent généralement de faibles capacités pour résoudre correctement les problèmes environnementaux mondi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Le fonctionnement du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est mis en œuvre par le PNUD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lan mondial –une équipe de direction générale du programm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lan national – un coordonnateur national et un assist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sont approuvés uniquement sur le plan national / sous-régional par le Comité directeur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Comité directeur national est composé d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Représentants de la société civile et des organisations de proximité (toujours en majorité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Représentants du gouvernement (généralement le point focal des opérations ou son délégué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coordonnateur national assure le secrétariat du Comité directeur nat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fournit des microfinancements à concurrence de 50 000 dollars aux organisations de la société civile et de proxim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est financé par le FEM dans le cadre de  son accord de reconstitution des res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140 millions de dollars au titre de FEM-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Tous les pays peuvent allouer certaines ressources du Système transparent d’allocation des ressources (STAR) au moyen du cadre adopté par le Conseil en 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Résultats du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rogramme est opérationnel depuis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dant ses 18 premières années, le programme a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idé 13 776 projets de proxim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 plus de 300,3 millions de dollars de fin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é plus de 414,2 millions de dollars de cofinancements en liquidités et e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Résultats du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6680" y="2438280"/>
          <a:ext cx="6782040" cy="374508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ques de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s totau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 dol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s moye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 dol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 de proj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financ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 163 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s en liquidi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382 76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 en n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084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 467 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5" descr=""/>
          <p:cNvPicPr/>
          <p:nvPr/>
        </p:nvPicPr>
        <p:blipFill>
          <a:blip r:embed="rId1"/>
          <a:stretch/>
        </p:blipFill>
        <p:spPr>
          <a:xfrm>
            <a:off x="603360" y="1212840"/>
            <a:ext cx="7858080" cy="541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art 4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Politique du FEM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 : Tous les programmes par pays des PEID et des PMA et les programmes par pays opérationnels depuis moins de 5 a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I : Tous les programmes par pays opérationnels depuis 5 à 15 ans 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ubdivisés en programmes opérationnels depuis 5 à 9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9 à 12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2 à 15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grammes opérationnels depuis plus de 15 ans et ayant reçu des financements cumulés inférieurs à 6 millions de dollars avant FEM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II : Tous les programmes par pays opérationnels depuis plus de 15 ans et ayant reçu des financements cumulés supérieurs à 6 millions de dollars avant FEM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Cadre financier : Ressources de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ant en dollars/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ID/P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EID sous-régio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ar pays dans leur première ann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ar pays opérationnels depuis 2-5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a (5-9 a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b (9-12 a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c (12-15 ans et plus de 15 ans, avec financements cumulés  inférieurs à 6 millions de doll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08-12T15:36:33Z</dcterms:modified>
  <cp:revision>73</cp:revision>
  <dc:subject/>
  <dc:title>GEF Small Grants Program</dc:title>
</cp:coreProperties>
</file>