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35D3-31D4-4EB4-AB2E-8DFEDF7E3E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5E95-8053-4E38-9361-07488DA1B5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5F4A-2983-4709-8609-1DD70674F9F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7B1-DA48-4ADA-B8EE-2656CF56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C5B-068B-4E7C-918C-5861FE52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AD6-6E83-47D2-97FD-F541B27F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A19-6C05-4436-9286-23FDAD33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B5C-1E25-4479-B9D0-4A3AA105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7D8-CF1C-47D2-98B9-49904983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A70-A3CD-4791-831C-4CCA803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D56-38D4-4D7C-9582-C5C37D5B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5FB-20DA-42AE-8372-EC1429F9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BCE-1859-4556-B525-5C5113BC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BF6-DF8C-41DE-8F7F-F4E2D72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515-E8F9-472B-91F4-5D452CD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A998-9AD0-4AB1-89F2-224A59258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  <a:ea typeface="Arial"/>
              </a:rPr>
              <a:t>Programme de microfinancements du F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Cadre financier : Ressources du ST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0880" y="190512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les programmes par pays des catégories I et II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les pays ayant une allocation nationale indicative globale STAR égale ou inférieure à 15 millions de dollars, un montant cumulé total maximum de 2,4 millions de dollars, avec un moyenne de 600 000 dollars par an, peut être alloué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ays ayant une allocation nationale indicative globale STAR supérieure à 15 millions de dollars ne pourront plus accéder au financement de base du programme de microfinancements et devront financer leurs projets à partir de leurs allocations STAR. Un montant cumulé maximum de 3,6 millions de dollars, avec une moyenne 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900 000 dollars par an, peut être allou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ays qui accède nouvellement au programme de microfinancements avec une allocation nationale indicative STAR peut programmer un montant correspondant de financement STAR. A partir de la deuxième année, le pays appliquera les directives ci-dessus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Cadre du Programme de microfinancements du F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programme appuie les initiatives de proximité concernant l’ensemble des questions ayant trait à l’environnement mondial traitées par le F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programme met en œuvre la maxime « penser globalement, agir localement 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‘ « image publique » du FEM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communautés ciblées par le programme sont souvent les plus pauvres et les plus vulné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les disposent généralement de faibles capacités pour résoudre correctement les problèmes environnementaux mondi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58ed5"/>
                </a:solidFill>
                <a:latin typeface="Calibri"/>
              </a:rPr>
              <a:t>Le fonctionnement du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programme est mis en œuvre par le PNUD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Plan mondial –une équipe de direction générale du programm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Plan national – un coordonnateur national et un assista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jets sont approuvés uniquement sur le plan national / sous-régional par le Comité directeur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Comité directeur national est composé d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Représentants de la société civile et des organisations de proximité (toujours en majorité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Représentants du gouvernement (généralement le point focal des opérations ou son délégué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Le coordonnateur national assure le secrétariat du Comité directeur natio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programme fournit des microfinancements à concurrence de 50 000 dollars aux organisations de la société civile et de proxim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programme est financé par le FEM dans le cadre de  son accord de reconstitution des res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140 millions de dollars au titre de FEM-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Tous les pays peuvent allouer certaines ressources du Système transparent d’allocation des ressources (STAR) au moyen du cadre adopté par le Conseil en 200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Résultats du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programme est opérationnel depuis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ndant ses 18 premières années, le programme a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idé 13 776 projets de proxim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 plus de 300,3 millions de dollars de fina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bilisé plus de 414,2 millions de dollars de cofinancements en liquidités et en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Résultats du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66680" y="2438280"/>
          <a:ext cx="6782040" cy="374508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915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ques de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s totau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n doll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s moye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n doll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bre de proj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s financ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 163 9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s cofinancements en liquidit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 382 76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s cofinancement en n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084 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s cofinanc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6 467 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rt 5" descr=""/>
          <p:cNvPicPr/>
          <p:nvPr/>
        </p:nvPicPr>
        <p:blipFill>
          <a:blip r:embed="rId1"/>
          <a:stretch/>
        </p:blipFill>
        <p:spPr>
          <a:xfrm>
            <a:off x="603360" y="1212840"/>
            <a:ext cx="7858080" cy="541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hart 4" descr=""/>
          <p:cNvPicPr/>
          <p:nvPr/>
        </p:nvPicPr>
        <p:blipFill>
          <a:blip r:embed="rId1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Politique du FEM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atégorie I : Tous les programmes par pays des PEID et des PMA et les programmes par pays opérationnels depuis moins de 5 a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atégorie II : Tous les programmes par pays opérationnels depuis 5 à 15 ans 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ubdivisés en programmes opérationnels depuis 5 à 9 ans 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9 à 12 ans 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12 à 15 ans 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grammes opérationnels depuis plus de 15 ans et ayant reçu des financements cumulés inférieurs à 6 millions de dollars avant FEM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atégorie III : Tous les programmes par pays opérationnels depuis plus de 15 ans et ayant reçu des financements cumulés supérieurs à 6 millions de dollars avant FEM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Cadre financier : Ressources de 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ant en dollars/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ID/P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mes PEID sous-région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mes par pays dans leur première ann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grammes par pays opérationnels depuis 2-5 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Ia (5-9 a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Ib (9-12 a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égorie IIc (12-15 ans et plus de 15 ans, avec financements cumulés  inférieurs à 6 millions de doll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08-12T15:36:33Z</dcterms:modified>
  <cp:revision>73</cp:revision>
  <dc:subject/>
  <dc:title>GEF Small Grants Program</dc:title>
</cp:coreProperties>
</file>