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777C-2623-4ACB-A0BB-AC26C8E08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33FD-425B-41EB-ACF8-F9742ECDB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12BE1-5CD2-4E27-B66C-44DFB7398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4D53D-DD2E-46B1-908E-E09F5D71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49A3-6751-43B5-91D1-5E83A7D72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40ACE-12D4-44AF-86C8-F8757A791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48E5-2299-4221-9A5C-040C9F99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DD76B-DAE9-475C-986B-8486A7B16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C6594-719C-40A1-BBC8-F1A22220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955B-DBB6-4B6B-8379-F21BC085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92101-3B09-4499-AB9B-8D4640E7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EBE4-8C4A-43D2-83C5-BA2DD516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0E0B-2801-4BBE-B6C1-180143D53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D019-D849-415F-8428-04FCCF92A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104D-793B-4AFD-915A-197D14FC25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July 19 – 21, 2011</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Monrovia, Liberia</a:t>
            </a:r>
            <a:endParaRPr b="0" lang="en-US" sz="28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69D1-F80D-4B0F-974F-F41F289313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B5EC-A638-437B-BE5E-55E1A4C1A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08-31T21:48:08Z</dcterms:modified>
  <cp:revision>24</cp:revision>
  <dc:subject/>
  <dc:title>Focal Area and Cross Cutting Strategies – Chemicals</dc:title>
</cp:coreProperties>
</file>