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255E-CEF6-4518-9AF4-6F52A011953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0DAB-2F3E-48AE-868D-92EBC6D9E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AE74-3368-457D-AC5B-0E160B66F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6CD7-5DD5-432C-BE07-B692DC8FD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81B6-5D8C-4FF7-85FF-B99B9D59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9439-8347-43E0-8DFF-3AF543DE8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B4BC-73CA-4822-A439-5341D7B07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BFCC-D637-46E3-86FF-1165B20C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17EA-27BD-4A17-8257-3EE7E572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A435-C5A1-4D7E-A5E2-B02AC32F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EE98-98D4-4A7E-A171-F39007A9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1EC0-804D-444E-B47D-BDC57C05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9417-1476-442F-974E-6F7D937A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0886-1910-4600-AE31-880B28F1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436C-0B86-419D-A9BE-C49FA7E9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B95F-9F2C-42B7-906D-DE84056F9B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42d"/>
                </a:solidFill>
                <a:latin typeface="Calibri"/>
                <a:ea typeface="Arial"/>
              </a:rPr>
              <a:t>Domaine d'intervention et de stratégies transversales - Substances chimiq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ubtitle 4"/>
          <p:cNvSpPr/>
          <p:nvPr/>
        </p:nvSpPr>
        <p:spPr>
          <a:xfrm>
            <a:off x="1600200" y="3809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</a:rPr>
              <a:t>Atelier Élargi pour la Circon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</a:rPr>
              <a:t>19 au 21 juillet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</a:rPr>
              <a:t>Monrovia, Lib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642d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itle 1"/>
          <p:cNvSpPr/>
          <p:nvPr/>
        </p:nvSpPr>
        <p:spPr>
          <a:xfrm>
            <a:off x="457200" y="2133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Gestion des substances chimiqu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 gestion des substances chimiqu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85640" y="1447560"/>
            <a:ext cx="6553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rend en compte les POP, les substances qui appauvrissement la couche d'ozone, le mercure et la gestion rationnelle des substances chimiques d'une cohérence accr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$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425 millions alloués aux produits chimiques. La répartition des ressources est la suivant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01640" indent="-38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Ps: $375 m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01640" indent="-38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01640" indent="-38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zone: $25 m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01640" indent="-38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01640" indent="-38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rcure et gestion rationnelle des produits chimiques: $ 25 m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01640" indent="-38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01640" indent="-38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30D5-6EBA-4135-8C14-9B80C85B61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1976400" cy="5257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bjectifs du programme « Substances Chimiques » pour l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M-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0520" y="1371240"/>
            <a:ext cx="5715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Objectif 1: Élimination progressive des POP et réduction des rejets de POP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Cinq résultats escomptés de cet objectif sont développés ci-dessous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duction et utilisation des POP contrôlés abandonnées progressiveme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OP exemptés utilisés de manière écologiquement rationnel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éduction des rejets de POP dans la natur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échets de POP prévenus, gérés et éliminés, et sites contaminés par les POP gérés de manière écologiquement rationnelle, 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apacités des pays renforcées pour leur permettre d’abandonner progressivement les POP et d’en réduire les reje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Hands on training Kenia 5 (foto Stefan)"/>
          <p:cNvPicPr/>
          <p:nvPr/>
        </p:nvPicPr>
        <p:blipFill>
          <a:blip r:embed="rId1"/>
          <a:stretch/>
        </p:blipFill>
        <p:spPr>
          <a:xfrm>
            <a:off x="6400800" y="1981080"/>
            <a:ext cx="2514600" cy="2533680"/>
          </a:xfrm>
          <a:prstGeom prst="rect">
            <a:avLst/>
          </a:prstGeom>
          <a:ln w="0">
            <a:noFill/>
          </a:ln>
        </p:spPr>
      </p:pic>
      <p:sp>
        <p:nvSpPr>
          <p:cNvPr id="6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AC64-0490-4C17-A1E6-291F147A23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2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bjectif 2:</a:t>
            </a:r>
            <a:r>
              <a:rPr b="1" lang="en-GB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Élimination progressive des SAO et réduction des rejets de SA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renforcement de la capacité des pays à s’acquitter des obligations du Protocole de Montréal et à éliminer progressivement et à réduire efficacement les rejets de SA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bjectifs du programme «Substances Chimiques » pou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EM-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286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Objectif 3: 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ctivités expérimentales de gestion rationnelle des substances chimiques et de réduction des émissions de merc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Gestion rationnelle des substances chimiques - Les activités sont destinées à soutenir les interventions synergétiques capables de  générer des avantages  plurisectoriels a travers des projets qui contribuent de manière significative à la réalisation des obligations prévues par les conventions pertinentes (y compris la Convention de Stockholm, Convention sur la diversité biologique, Convention sur la lutte contre la désertification, et autres).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276200" indent="-382320">
              <a:lnSpc>
                <a:spcPct val="11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819000" indent="-38232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bjectifs du programme « Substances Chimiques » pour FEM-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6705720" y="4743360"/>
            <a:ext cx="243828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19040" indent="-3826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Objectif 3: 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ctivités expérimentales de gestion rationnelle des substances chimiques et de réduction des émissions de mercure (sui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19040" indent="-38268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Démonstration des activités de réduction du mercure à travers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819000" indent="-38232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La réduction de l'utilisation et de l’exposition du mercure dans l’orpaillage(ASGM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819000" indent="-38232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Le renforcement des capacités de stockage securitaire du mercur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819000" indent="-38232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La réduction des émissions atmosphériques de mercur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819000" indent="-38232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L’améliorer les données et informations scientifiques au niveau nationa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819000" indent="-38232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La gestion des déchets et des sites contaminé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419040" indent="-38268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La mise en œuvre des priorités de la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ICM générant des effets positifs pour l’environnement mondial</a:t>
            </a: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. Les champs d'activités possibles comprennent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276200" indent="-38232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Le plomb dans les peintures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276200" indent="-38232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s dechets electroniqu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276200" indent="-38232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Les produits  chimiques dans les produi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bjectifs du programme « Substances Chimiques » pour le FEM-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42d"/>
                </a:solidFill>
                <a:latin typeface="Calibri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20:58:11Z</dcterms:created>
  <dc:creator>wb350798</dc:creator>
  <dc:description/>
  <dc:language>en-US</dc:language>
  <cp:lastModifiedBy>wb350798</cp:lastModifiedBy>
  <dcterms:modified xsi:type="dcterms:W3CDTF">2011-08-31T21:48:31Z</dcterms:modified>
  <cp:revision>71</cp:revision>
  <dc:subject/>
  <dc:title>Focal Area and Cross Cutting Strategies – Chemicals</dc:title>
</cp:coreProperties>
</file>