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792-F319-4BF8-9CAF-D975B6D553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ABDE-0457-4E76-8E31-3EF1EEAD7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AD3C-5C7D-4B5F-B350-C3969DE3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074-E71C-42A7-AEF2-A7951EC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151-61A8-436E-8F90-21675D1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A8C-C3A4-4006-9185-101C1D7C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746-517F-4E6C-9F0D-821BA769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10D-4514-4FAD-AB04-56727867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60-B68B-4CB5-A2F4-F084620E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A89-9F54-4FE9-902E-D22AE19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C26-784E-431B-90B1-521E2AD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FF0-7C4C-41C1-8517-D2745809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F07-B790-47C8-8AEF-9661FAB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2C5-48C1-4EB0-A3EE-403DD7E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DB7-6164-41A3-82D1-11952A6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1CFB-FAE7-4D5F-93D1-4267DEE6C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1A6-9964-4368-A911-A56124CB7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752-455A-4E20-A90E-78570B3C7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08-31T21:48:31Z</dcterms:modified>
  <cp:revision>71</cp:revision>
  <dc:subject/>
  <dc:title>Focal Area and Cross Cutting Strategies – Chemicals</dc:title>
</cp:coreProperties>
</file>