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774-28F2-4C34-BF92-2B4590B8F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981-C13B-4F9C-9479-C32B11FB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96A-2727-482F-B7FD-B87654EA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443-B10D-4C42-B637-48E40D45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5EDD9-3140-497F-B6B3-986F6B69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2425-6253-47E8-99C5-5E1A639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92DD-C8A0-4DE6-9CCF-1A48DCC3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A910C-6B62-4533-B479-90B36E9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7A67-97F0-4D73-8F61-E3D6762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6DB5-75A4-4B4B-A6F2-83C4171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BA312-E490-4F99-8FCC-FC06DEA3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AA3F4-C69F-4EFA-B197-1F994AC7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7B6B4-EF1B-4D7D-8746-D5D6665B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91809-DB72-487D-A19B-FFCEF9C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139-066E-4EE1-947D-7D01CEB9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A003B-1677-4869-A5CC-5A7599CE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7CFE9-23A5-4D4D-AA46-08042B73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76C1E-61CF-4C2D-8F45-7457E935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1B244-BEEC-4372-980D-FA108908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7B059-B1B5-4B34-AF8A-5D0BBF13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D11AE-94CA-4A07-916E-F81C09B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6DC2B-9D7A-4EEF-ACBE-050100A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9CA54-CB9A-4F13-93FD-CC8E751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94210-6738-4A09-89B9-8C47388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0A2F6-115F-431F-BC66-B7AB8603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4B2-E116-4B6F-AB54-E0EB9AF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38046-B311-4952-B2A6-9155FB06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321BB-8522-4C50-B5D3-22200546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7294-681E-4ED1-A452-FA846F2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26833-CC66-42C4-9727-1146883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FA435-76B3-4673-9104-65EA37B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EE848-CEC4-4CA1-B6DE-E6485BE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A1288-E94A-49F3-BD2D-824B481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358B-5F45-4A16-B037-E66B542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74C3-752B-42EC-A3FC-63A601E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9E07B-6579-4E85-ADC2-3D43342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2E0B-4392-4CBF-B6CF-576B8186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21981-BC4F-4FD2-8833-EBE1650D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D9A61-85A5-4FBE-9341-40DACDA4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F36FE-4A41-4FAC-BD3B-AC2B578F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A12A5-9A61-40D5-9A43-61DF83E8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3E256-3728-4E31-B660-48C26E1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EFDB2-43EB-4BD8-A286-2DD4112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4A16-6BBF-4012-87E1-817E089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60F81-B1B8-4180-AD5A-4DCD5A0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28B70-DF39-4D79-90FE-0F99865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7C0CA-1F8D-4497-9D5F-434A61E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7C6F-BF05-4151-94D9-FE57D86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05BAA-3BF3-4617-9BAF-68C06ED5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0F23-8B3E-419A-8D62-F980562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90D81-38C9-4E2F-A511-19914CA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57B48-1315-40D8-96B7-1A4E2D93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89CB-7043-4BBE-B937-E469B484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098C2-65C8-43D7-B169-38994CAF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D48B0-4AFA-4D60-8A8D-BF77AC7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68564-36A8-4282-A43A-3507E1F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4B6EA-FD57-4D5C-9252-F2B8831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E624-6828-4412-976E-263971A0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D71E-4F59-4F18-9B60-ACBA5A5E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CF688-13F0-4726-B929-DB57424E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21863-1D52-4A16-BB1D-652B7524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88BAE-00FD-48D0-BFD1-AE3D92E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411DD-CB35-4274-8E69-359A472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C2762-1190-4298-B396-62516D6E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D451-4BC6-4991-A603-C520E9DA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A1C18-C8CA-438C-8AA7-9CA566B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17E90-6C3F-49E0-9361-875FFADD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62232-722E-43F4-A0B3-D8EDC7C4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FCDC1-1B02-48C3-8BEB-84186C21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D50B-B26D-446E-B13F-C5D3261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FC254-F418-4C7F-B8C6-43ED0A5B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91293-02E8-401F-8B20-321ED51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DFD78-F9E7-4C5D-B98A-83BBC0C0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CD627-72E6-4062-9860-FB03275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2E9A9-CB2A-4BA7-8BC0-D2737FE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9AF6E-8116-4BFB-AE7D-61E4ECD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BD04B-63DC-4B5C-91FA-C32C00E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8588F-4FFE-4BB7-B1F2-B75F825D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4395A-CBD0-4C6C-8DDE-4E58B26E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EF674-4E04-4801-B364-F5C800B9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499-F1FD-4BB8-BCCF-8F9956A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47D90-B8D1-43F1-989E-4D0B5D1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869B0-E2E1-4D5C-918E-5222468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E9EF2-0AEF-4CCC-B76E-4B9F2A0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B8DC7-B8B7-4E25-92F3-9CC2F1C9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ECC4D-88EE-436E-B10E-CD751FC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F136F-F1BA-47AD-82FF-C653215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414BA-A670-4402-81F4-CADC824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7A192-8243-4CB4-A692-3A48A90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539A-AC93-4BFD-8512-797949B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458F6-5218-44A6-B6EB-2696492C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7FD9-243A-44A9-84CB-D208753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65544-FB95-49AC-AF24-68DE4250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D2688-C050-4D74-8E6D-63FD8945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36F03-93FE-4823-AD5F-527E10B8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EAFFD-409D-4F46-B41A-10F843C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05683-8BFB-46B1-94DF-881D8CE9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7A64A-0F99-437C-95C9-9395C1D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026D5-EC9D-4466-85EA-74F2117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053CC-54D6-45F6-8BE2-EDB3EA0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D72DC-0E4F-46D3-B845-7CAF88A4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36AB4-627D-47D3-8793-BB44092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58BA-8126-47AF-B2F7-24D5273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487D3-E17D-4270-8B7D-D9311D1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D1365-F0B2-4CD8-8B49-319562B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A96F5-5B48-48E0-899C-65CD584E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1A6CB-4FC1-462A-99FA-0D4C8404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3494B-C78A-4C19-9D79-0FFAE9FB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01F2E-110B-43ED-8D79-F036858F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DC3A4-8ADD-4CF2-A6AB-C481FED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0236D-6B2E-40E5-A97F-5F591C81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15688-7FEA-4662-8706-077162D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81C43-587E-48BD-9601-DCB4969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E12-DEC2-4A89-9239-D468D767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5E17-5B68-46D3-AF00-04BD421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90A34-FCB5-4AF6-BCEF-1E7B04F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E74CA-B9F2-4C5E-B8A4-9AF96A1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FF5B0-CC17-435E-B0E0-8B4CCC5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D22A1-6BC2-42D8-A92D-282C706F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7C8CC-7797-4880-9D85-487022FF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27FEA-D7FA-4021-9F0D-C3F4BDEB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55E21-87D2-4A85-A794-16E6D7BA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7A800-7068-48E7-8FAB-000C66D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1254F-5164-4A24-81B6-64EF6E5D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9A761-2A1B-4527-83B2-8E4531D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BB75-D5B3-41D9-B4B1-411078C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1E4A7-5A6D-4124-A32E-13F2E08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BEF4D-B403-4AAA-B769-AAA95F9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17F7F-E98E-4D14-887D-B5229A8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66593-629C-47E3-A71E-A1DD446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6F6BA-EB2D-427C-9D2B-994929B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0D7D8-3B02-4AE5-B85F-7E27D971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561B7-AAEF-4429-A796-58A67E4E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E0F17-6BFC-4C69-9A32-06E9566E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8EC56-93AB-4B00-895A-E3933E7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D27C4-989B-4581-805A-FD7A009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C05-89BD-4418-9065-0F29EF9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1CF3A-3A20-4E29-BF0A-B5FA6839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2CD22-FB7F-42DC-8ABD-2DFF2F86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FD55F-AE55-4F7E-80DC-9E873935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D9B83-175A-41D9-8449-E63967D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E48A7-F43C-4282-BE10-9A2F566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98878-102A-43F4-BB38-B2FB388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B2508-8BA4-490E-A27B-780FC550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5D977-AEE8-4474-A29D-61768EC7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54F72-B669-4248-B7BE-9E1A165E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37740-ABB1-4058-9C5F-25473DE3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DAD3-AE3E-4F5F-864E-8B2989CA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A10C3-B086-49C6-99A9-68D21C94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76533-C8D3-42B8-96B9-3BFE1A18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437FC-2FE4-47D6-B6AC-A6A7C93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A999E-0897-4E1E-8669-0439E6F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98EC9-7B3C-4AA8-875F-B418EE2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CC104-6125-44D1-BA95-A85A1F9B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30C4F-795F-4F40-86B1-D829788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644AA-90C3-48C5-A134-672389F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FAA13-6813-4B31-9BD9-C6A9C7A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7AAEA-090A-4EEB-A2F7-250C7F8A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464F-A950-4928-AE41-0C663732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B75EC-7F69-49DB-B99E-E170A64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98FEA-F20C-47E7-BF9F-869F5DD5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A213D-7120-4E66-AE6A-97C2B2D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E9D97-535F-45B5-A4E1-BC2D622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3374F-6275-49AD-A2FA-6FE66AB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BF2E6-8CAD-4ABE-8501-CBD94CD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33B7A-BC57-41F9-8DA5-F8982A3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1D93B-22BB-4E16-99A6-2C86BC5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DF843-75E9-4729-8210-74C48F2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07A23-9158-4C6E-AE25-D2DF7CF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E773-F463-441F-B742-9FCAD09E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BB330-ADD6-41DB-A4BF-0B98B4F5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ED726-EFFC-44AC-B7AB-825E8B4A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6E96E-C08C-4073-9C8B-086862F4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8DA62-086B-4B76-A5AC-BDE808D9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537EAF-899F-4B79-9990-A990017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11627-8978-427F-86F8-690FCCF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2F7B1-0571-42F6-94D2-85682D3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4627C-1DE4-4E29-817E-3AE89A5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48DD23-93AF-4E6A-B273-CBA6C3C0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DEB33-3709-4174-A01F-9C561C4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DA48-EF34-4131-BA1E-7476862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3B7244-FCE4-426C-88B3-A3DF0F4B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075CF-E5FB-452C-871D-C5C5FFA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89D13-9E0A-4D3A-AAE0-57D6A43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BD253-D254-42BA-8559-59A72BED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1EADE-4059-4D37-8BC5-E1820492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A6DED-ACCE-4E1B-BE6D-B8EC6E70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9E840-FF2F-462E-B412-DC6D8E3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2EEC43-AEF7-479E-8CEF-DC0B660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F9209-2B21-402E-A74C-88AE99C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3D9DB-3F47-424A-A742-3737028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9268-67C9-42F0-A604-C5C7DFD0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FB6D5-1E9B-4C91-A097-6C27649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E4C71-2A67-490B-BF93-853CFC8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81A16-603E-4AD7-80B3-F2C9072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0C540-E440-445A-BAC6-DD0234D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0F94A5-3CD5-4197-B3E5-9C91003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301A9E-751D-4FC7-AA67-87535857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904366-9F67-4162-9EF6-F7DE9958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7DA38E-5D83-4CB9-9258-72E37FCD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79154-816F-46E7-8F64-1B149FA1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A88FF-935E-4A70-8701-1C2A9F6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987B-DFF8-42CB-B13D-839AAD96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B6948-51B9-41FA-BE98-ECB46EC2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E35A4D-C39D-4E81-9369-8B0ECF3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47BDF9-EBF3-4C3D-8C90-4F1B2508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53E7D-222A-4EED-912C-819ECA3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7F81C2-BD90-4B5E-B871-A02CB87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A9D17A-805F-4B2B-8E79-AC3E413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1EF33B-CDD2-47D0-95F1-7908215F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802E0F-716C-4BAF-ABFA-370402D5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887C3-72B8-44E5-A7AE-C94F3732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710F-55C5-4749-AECB-ADA0378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222-531D-484F-B168-DF81287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B884-778E-4471-8C20-2E5AA6C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FF72-60B1-40CB-BDE3-A403920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4BA73-C65D-4B71-A1C3-2B36A61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36F2-D74E-4A0E-BE61-541972D4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F50C-722F-476A-932B-67EE24D4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723E-12ED-4149-8256-8E56B740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1137-6783-4221-B2AF-45FF2511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C56C-665D-42A1-8D7B-454FBC8D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84D3-04C9-4C98-8426-32FE97F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A6B9-EAD1-45FB-B01C-DCC217E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695-3D4D-477E-8DF0-74B83C8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3768-87FD-45B2-8B54-4EE57A5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3CA4-BEF6-45BC-95A0-88E45A0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44B8-2753-42BE-BA38-5CB1DC2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1634-2D61-4C3D-8884-13056AE6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8175-4F5C-407D-A3E0-BB112F7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2637-010A-4F46-93D8-46C4F4B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0C2B-765E-4D07-9B83-F66FF101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BB29-19C1-4D49-B267-10E3D52D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8EC6-B6B5-459C-88A4-5B0F333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C0AA1-5DD9-49F3-8CF0-BFFEEDA6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DD4-FB84-4C99-96BB-5FE132C0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6E0B-112B-4CE9-9875-B5988676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A112-44C0-4591-9A83-528BF85A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479F-BBBD-4B44-9C6A-8BF8918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04CC-52A6-4E50-B0E6-E0EB90F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1CD8-81BF-44A9-861B-6400AAEB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4FFA-7F1B-4D71-80D4-EF6E2CE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A495-BD7B-4833-BE81-C70F7E5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9EF9-768F-41CE-9E98-55EBCA7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FA93-4A3C-43E6-BC50-70FE8BD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4185-F1B5-4D03-B622-9812254A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F87-EB1C-4D8E-B987-3305BE2F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286A-09E0-4A41-ADAF-BE1E9F21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2475-70A3-430B-A67D-AA9CBC73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69C36-BADC-4FE1-9857-31CF6569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0BD8-EBDB-4ABB-AE20-64B1F67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5A9E-BF42-4294-A7B5-764ECDD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96EA-617E-40A2-A35D-B86D477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FE84-7B71-4866-998E-9D552385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FC69-23AF-4752-A4E4-1FBCF9B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A086B-7662-4CF0-82FD-C455435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24004-FD8B-4EBF-AE58-7B3B165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BF6-676C-4031-852B-6176829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AEAA1-7371-4EEA-8A70-19AF392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4280-450C-4502-B965-41722F4A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6969-0A82-406B-B4C2-A94868AC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0C96-A55F-4575-BBC6-83B29EC5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562E-535A-40C2-8BF7-61A195E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745F-D920-4EBD-A044-E56502D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3C13-4E8D-4EE2-9D19-217066CC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190D-DF11-41B8-BB01-D1E20D8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A42D-5933-4C8D-BC48-1DC7553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6451-F47F-4D26-8857-60DC5BE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E75-87F6-4414-B3E2-4BDAFE9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DD54-4E1F-4514-A755-C74F7C2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3534-C811-4689-BB06-AB8C758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3BE6-615F-4418-AA78-C4E51B3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8B09-A286-465A-987D-55C0BB1E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9D5A-D3C0-493E-9CD2-BB2EF2BC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017E-3B86-4432-85D9-704B6C0A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FA6A8-CD7A-49FD-958A-C9C567D3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5FEB-E6AF-4F7B-9B56-AEE31A6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66F9F-0DD4-440B-B929-1D577E6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F41E-BE1C-4B17-9C23-E524C33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03C-64DB-4FC1-812E-2E218C7B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05D24-D3CA-47B8-A660-9E06FE3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8BF1-14DE-442F-8532-28935CC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20700-9F49-4553-B8B1-264643C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47C0A-C4F6-4FEC-9901-723A64E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835B-B4BD-4AF0-974B-40E1EE93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AE8B-1EA4-4B85-BBB4-3CBD29EE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E45A-34DF-432D-8125-FEB2E05D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6A6C3-ED22-498C-BB98-F6D59134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412EB-7EA5-4A25-8331-FEDFBBC6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3672-D2C8-45B6-B717-7C9FDDC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168-CECF-4138-8130-B73DE9D093D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941F-48BD-4A1E-9685-FC39F0A799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652E-416B-4935-A30D-30A3B5B65C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CEF-3113-4025-AFC7-A85C621ECF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7776-13AC-40C9-9C19-308785508D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027-18D2-462F-9BA0-620085004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9D1-FB01-432B-AA1A-5BD27BB57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EDF-2FC9-4B88-9301-289A0BA70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9E11-6823-4B8C-87A3-F0CBAD5D0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A5A-76D6-4847-9756-5C9E34D25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0D4-B2D5-4540-860A-B473B586B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844-7A03-4D3D-9422-BEEB0552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9E42-1C64-4617-BD23-CC3817BE2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C94-C727-4D05-AE92-6F86C8AC0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DC7-903C-4D27-B9C5-E631250AC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EE47-4A89-4AC7-A2EE-D5A766229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4463-02E4-4A58-9C31-6230B4E82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54A-F69F-446A-87B4-DA21CD080E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C83-087C-485C-9DF1-DA50C0E86B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49E7-BBB1-4735-9754-9354815591C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BF8C-6304-430F-A384-F83B1E497F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F3C-7CEF-4F7A-A79A-6A9A69418B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068-C601-4D30-A41F-0547A9CF30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835E-3B76-4811-867C-5AAF7A00F5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08-31T21:49:36Z</dcterms:modified>
  <cp:revision>107</cp:revision>
  <dc:subject/>
  <dc:title>GEF NGO Network</dc:title>
</cp:coreProperties>
</file>