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BB83-408D-4576-9F89-28453654A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A8E-1D25-472E-BC89-0AC23982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318-A1CF-4800-8736-A320A1A3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9F4-2FF4-4971-9BF7-A864722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C35B6-134F-4055-AF65-DD10A7C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0086-9C49-4D06-AC24-21C6F545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E7D9-FC09-449B-BD28-134A6198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229C5-A3DB-4F8F-91D8-10E78B4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71DB-5711-40CF-8077-EA2C9C4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CA498-65D9-42A5-9AE9-5FF3A0DE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60140-216B-4C7F-95C1-60F30CBB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13FC3-E5F3-4E35-8E8F-81E14CE4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85194-96E0-4990-8FB0-44CB4849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9C12D-A6DE-43E3-A615-1E5870AC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DA8-E178-41C8-950E-7B2D83AE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24B24-B6CD-497C-B491-8577D02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E2C2F-834A-4D12-ADA8-4B854D8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BA830-7D08-4B21-BD0A-95BCE0DC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62378-D3E4-4878-92D2-785B018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F0C13-6F2D-4E10-A18B-CDEC014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53E19-0025-4ABE-B122-9F67598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D82A-9541-4987-BCB1-F082A7C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0C17E-1265-4E85-9F6F-72B043B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AC334-354B-42F1-96AA-F8C5520F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B80EC-73D6-4417-AB39-C605825F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CD5-3410-45D9-AD5E-C31E38AA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CC9B8-4ABD-4BC1-890A-E372C921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43EB-6984-45DA-896B-F851E34E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F8E6A-285A-4AC8-8500-9101424A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3AFD3-1FB5-4B84-8549-1A3F5CE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FCCB4-A77C-4163-AB13-5A19652C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522AF-846C-4C87-84D7-314B6AFD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3E4B2-B692-45FA-8DF5-A61A6BBF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30395-A9FF-479B-9B7D-4050510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C96B-D4CF-42BD-89AB-C3ABA29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C7FBE-275C-4520-9852-475E093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36B-0882-484A-B464-FA6AD513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CEB23-116B-4806-91AA-23DFE1E5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33474-111A-40ED-834D-42F837A8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EB6D9-C435-4983-833E-5063C7DB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A6939-0859-44C8-9EF4-95360200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B9151-7AA4-4297-9B1C-BFC9F28C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5A206-5563-4B3C-B62D-44654F6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174EB-A985-4079-B684-61A8FAF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58188-5C80-44F6-AE15-B26DE31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7EC6E-CFEC-44EE-AEB3-B125BB93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DB3C5-26E3-4F5B-B069-2564598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FF1-32F8-4BB7-A244-1279317D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369BD-17FE-4039-8BE1-8FB114B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4A2E9-BBDE-473F-A0A0-80F2ED4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E25FF-D914-4195-B691-4FAEEA74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15A9A-40E2-4854-811A-A254B90E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5443E-1AA7-4E3C-BB62-74702F43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04C4D-CD4E-4606-9FB5-412D632A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EBFC2-4FC1-49E8-9917-ACB7854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E667F-43ED-4A26-AA63-65FA7DC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9D9E2-0AFE-4D58-A2E1-10C37FB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8F60A-8654-4F2C-B1BA-30C55E37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7D10-9036-4252-842E-CAA7E8C2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217CB-5066-4073-B6D6-AA7AA75A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25091-9E3B-4AAE-A34F-E21284B9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83598-FEA3-4E55-94D6-BD6C727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17BF2-D6FF-48A1-AE81-D906542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1CDAD-6321-4B83-A2FE-DFEE6D9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DEBCB-06BF-42B4-9D6D-105920C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04718-D668-472A-AD18-CBD20700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7EC76-5D48-4E37-9CE5-3E628CF1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C0D99-F8DD-42C5-B183-A2F51DB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173D8-E1B2-4A5B-9197-EB6D057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AAF-0A43-4E52-B1BE-C2A64EC9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3B06A-246D-41BB-AC02-523152C7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F87D8-2495-46C7-BDBB-C4BB875D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84302-C6BB-46AF-8D24-301D43A9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4EA7A-3617-4CB4-A9FC-5137C32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4D53D-045F-455D-8EA3-A0BC687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85270-6D56-489F-8B1D-B64BE7A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05ADE-4247-42DF-B72D-3B20C0B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52580-54EF-4886-9212-1CFB30C5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8AE25-7289-4FEB-BE3A-301A25F4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630E9-EE1C-4E6F-AC58-0915BD63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8914-B6EB-48F6-A59C-ACAAD6B1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987B2-94EE-4D64-8FC4-46C4A2E6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2D7A9-6C83-4F8C-8C60-7F7359CD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AF469-1090-4862-96E7-B12F1719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2D305-D680-40B0-A27E-D8546BB8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1DA44-F533-431D-A128-8FEDADE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9903E-DD18-4D29-B98F-8602052E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50E79-6629-450F-8178-C480738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C2307-239C-4507-B9E0-003238C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A5C6C-CE8A-44E5-94BA-AA6608A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0900D-1CCB-4CA3-89AF-92D0E412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E2E-210B-4903-B4A1-BD71CB51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1D04F-3057-4D74-BE15-D54FC795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055C4-308A-457B-88E0-EE5E206F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85352-916F-447D-B07D-53AE2C4F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AB936-B681-4F31-B04D-730A9D1F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6E2AF-CFD2-4E79-8601-CA6C905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0474E-4ACD-4C9A-93FF-F87AB5E3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F8C1E-B2E1-4DEA-AB48-3200832D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A8BC2-BF8C-4942-9ABF-C25CCC4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2BBD0-D34F-47F0-8E14-201CB0B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6974D-7B7F-433D-A530-FC0A922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8806-8E5F-4BB7-88DF-D88FCD4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D5985-81E4-4648-B5AC-B0E1B7C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7D16A-4A29-478F-81FA-5915F6D0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83B3F-CBB1-4748-A913-E41D2A0D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AB7FA-3E23-4068-A15C-8A2A3B12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28D95-95DC-4398-976A-1F770447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303C3-04D3-4D63-93F2-95C3D64F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87336-FD9B-4348-9B92-E315B75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2A5A7-A9DF-4756-ADB1-BA88EA28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6170C-9E1E-45CD-A605-7B7F2E9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49995-A505-47B5-BABA-1A3B3528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982-854F-4DC9-9709-CFE35728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29C5-78F2-48A4-9A9C-5C033F4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16DA5-7E10-43B3-BFF0-6C70038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9DE9A-B0AA-4F67-AF37-04424CB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214D5-3C37-44CD-9315-D9194F5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3BA7D-CA00-445F-8180-76FF5981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514DC-FF79-4DBE-8F69-5C0F28F0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9309F-7C02-43CB-BF19-70552843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A5E67-5F7A-4393-A62E-7AE4B43B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351E7-470A-4498-A33E-5E110680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643B7-05FA-44C8-BCF5-E2EBC725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EA8EB-AFD2-4DF8-8D3D-7BD4E10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A9D-150B-4F9B-9CEA-8801D37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2DD2E-7AFC-4DD6-880E-537DEF90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325DE-5472-4357-AE40-AFBB81A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1E5EB-E502-4275-B59E-A6EB7A2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3FFFE-26DA-4B3E-83C8-EB1903C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2F8F7-B4DA-49F4-BA1B-BA326BE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8547B-5BD9-48B1-BE39-F83AE00B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4CDAC-7054-4581-987E-903E2A80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08541-2B85-4557-B596-DD6EE5E3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C071D-809C-4112-9503-AD72200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5D0F6-39DA-45D0-AB8E-1FE95FBD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0A4C-BB31-49E1-B05E-B2D59B2B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9C729-F823-4E81-B71B-EA61DA27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31F5E-8CD5-4D9F-95B5-306960D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2500B-004D-474C-B5C0-8C2981E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883B0-321B-462F-BE64-79E56311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A33A5-52F9-4C6B-BF50-49C9FC75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C147C-F909-4F4E-B2ED-99DD83D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96742-9B33-41C8-914E-D33DC453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91528-99AA-4A31-9A2C-8CE1F07F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7286C-F610-4668-871E-15E8B0C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CF485-6BF8-4085-AC4A-F743F906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F473-782B-4C90-9BE1-D4A6D256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0CFF2-41E8-416C-AFA5-DEFDFDA6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DE63E-7ED9-43F4-94C1-893A1764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6A90C-43CF-4B5A-A92E-3085F696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45329-C068-4F57-958F-3C52311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C8CEB-8D2F-4B4F-B5FB-6EBD6748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E919B-3436-47DD-A09C-44198DD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4712E-979D-4C86-811F-0189712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70D25-92E5-4D88-BB19-88C4BDF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119A2-0E4F-41B6-BF14-47D83F6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8DE66-A727-45D5-A470-304CE9C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01D-11B3-4F50-B211-3B878F60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CF2A1-C735-4281-B14A-6105A3F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2327B-F836-4D81-A9F5-E378C667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63A5B-4ABD-4C0E-B37E-0603E4A7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E288D-B75A-481C-8900-F1B49E8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56D6E-5B05-4DEB-8359-5364C74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754B0-8581-487D-BF35-A0473AA3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3070D-3503-43FD-BCDA-454B8866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EF408-A97A-453A-9CA3-C7C5B26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6122A-D5AE-4BFF-B4EB-C980768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B9760-DCA2-417C-9141-BFFD9BB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BD94-EA43-497A-8E90-AE71DDC8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B9743-C5CC-41C9-958D-01959073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9CAC1-98CB-4F0C-BEA5-44E1C04E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83313-7357-40CB-98EF-E0BD0ADF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1FDC9-235E-4732-9A2A-16494854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8DB5D5-6BFB-498C-94AD-EE08F243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94B43-7B8A-4C17-9601-C9B3AD4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2BAFC2-F64C-4F53-A1D9-45AAAB5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6E351-C797-459C-8631-2E2B54F0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3C16B-2BF6-4F87-B96B-821612E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EDA3F-71ED-4808-9367-A01191E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A5B1-399E-4B9C-A9CF-3CDD6BD6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E98D37-E8E2-4FC7-9032-E68BAA6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8AAD3-4D62-4D5B-81C6-9C0D759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D1361B-0C70-4859-AE21-46F5A8C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6516E6-E534-427C-B2A2-1DD6A0DD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4B1BC-4478-4B1E-9531-EA51D712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AF471-988E-4BD7-BCF8-A2F12837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78B321-FECA-4406-8009-5BF5E3DA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BE2AA-3B01-422C-9214-DF526ADF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EF4E13-DDFC-42FF-B3C8-F0EA24C7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DDC39B-BDB9-45D5-AB00-24F15C1D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BCF7-2F5C-4312-A277-1C77C7C6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FA716-1843-497C-A724-4C93CB2A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562D2-D18F-42F0-B9EC-8A34CAF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49354-E480-4253-A262-9151677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32786D-1F42-4272-811A-6B6D7F1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E68AA9-9DB4-4448-BD85-00227E8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FF98FF-3939-44F9-8284-98D3122B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BDA506-8818-4562-9FA2-DEE7BFBF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81C0C5-4DA0-41AB-BDD4-DBE67500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865B13-5F56-4EEB-82AB-B616C1A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FF515F-143D-4B44-AC2C-A1486B3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E70D-4C5B-4526-B888-07D2992C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E5772-F705-4E87-B32D-7547E54B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CE16A-A384-4846-9577-9C0A6EF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594406-4DC5-4A1F-981C-B389893A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1A0EC-4D49-420A-9F6A-8D3162A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B1BA9-AC5E-455C-94AE-5178CB0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8A3921-F289-4CAA-B6F1-A600ECA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1689D9-8C73-4E31-A398-2075A43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8ACDD-65B9-4557-8A8B-C3CDE8F8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D132C0-1B27-4D21-BC44-72A4E2B2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A1EB-6C18-4D0D-B2BC-E6EA6E7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B4F-1880-4356-8408-F61679BF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D2AC-CBA5-4798-9DF2-F98D451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602B-6ABD-4D1A-BBFE-8FF30E6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7BC7-330A-42BE-9E40-C32EA28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4830-A77F-4A42-B2DC-AD3C4E92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E2CA-DEF8-4385-9CF7-CEC98A0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A5F1-C1FD-4A3E-A2C3-EEA287F2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5FD7-87BE-4653-9FD8-1EFBBCD7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E789-428A-4437-B76F-584F5F05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5E30-7CD0-49EC-83B0-389787D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0A17-2FE4-41DC-A5B7-E307156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BB5-5E31-45F6-931A-4F81331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6E45-373A-4CCB-82F6-1021DCC2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F171-31B8-4044-97E0-24C1835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FCA2-840F-4687-A2BB-AF431BA1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7506-0134-4727-B060-A18F6E0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A13F-000B-40E4-8B83-8818960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6976-7C1E-4E60-92DD-05CF08C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2035-0EFC-4B9A-9093-7BFEC408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0548D-8C04-4729-95C2-3C31FE02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EEC3-3514-410E-ACBE-412D834D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A4CE-65B0-4B9F-9CDA-319DE963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D2D-0C37-4A46-B8E5-473569C6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EB91C-24C9-4699-8F03-1187258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BA5F1-D910-4256-B417-4EC472C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1E8A-6B58-4340-BAE2-C60FCEC6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BFF9-CAB7-4B5F-B255-DBF5E788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8DAB-6652-4D00-B085-3FFE9628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A7E6-82A0-4BB4-8B78-B94F1B1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9A6B-1988-4693-92A2-7230CFB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3CC3-D789-4D6A-B761-80D62E0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F4C0-F563-48E3-89BE-EBA20D4C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A237-AE6A-4087-8296-67BB3ABB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08A-5112-463D-984E-320CAD5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9D61-264D-480B-8634-1F3D7AE3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C5DEB-929F-4BB6-BC48-73DB0B44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3B96-A17C-42EE-B587-4BD25C0E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9520-FCED-475E-89F5-9F6AC266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6DC6E-2CA5-4AC2-9E87-6F61BD4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D841E-B7D1-4022-B77D-9F11E40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DD742-7EAA-4DA4-AC17-3DA1B12D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1C9A-9A45-4188-ADCE-DEFC7E7F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95C0-355A-41F5-B291-1D57153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A958-D09B-4651-8A97-9EFD2465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446-7AAA-450E-9129-B2A0045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4E96-A432-4833-85BE-DA0C1749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E571-1790-4699-83CD-A804183E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A8350-0504-426D-9F74-7A7B8D8A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FE3C0-B36F-4EE2-9511-83451D82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B246-88D1-4B40-91DF-A5B45FE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92A6-14D1-48BD-A06E-84AA6B3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39E2-86D4-4675-B3F6-55B686A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5A3C-3BAE-4ED0-9060-1D830FF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53C5-79C9-417A-BE8C-40A0541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71F8-B636-4ED2-909B-DCF3C11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D8D-64A6-457D-80AA-23752B3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4331-605E-4CEB-BD38-D043192F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925D-7909-4EDE-A7D8-A4D74A7A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F38E7-7818-4443-8AFD-87E139FB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821F-F114-4B25-A1AA-05CB7D55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06237-F833-4E2F-A85F-FF8B09C0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06F8-D2D9-4EF2-B6E2-21DDB403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15BEB-81C3-4729-8496-6C643EF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BA30B-15A9-44A6-8727-0ACD61B6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3194-7DCB-4AFE-A251-3FCB53F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94FEE-A813-490E-BFE6-9400B6C5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C50-BC98-47A0-ABB5-83AF39A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1048-D014-48CA-91A0-E80FBE6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9ADF-A8D9-45CE-AEE5-5C2884E6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2BD8E-7E5F-45A5-9E88-906ABF4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B3CCB-A965-43C6-9740-14D9D0E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8295-277C-4381-8002-816E575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9B76-A75A-4658-9FF0-81132F28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46DA-372A-49B1-AA8A-8C7693F7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91B96-EE70-43BE-B682-14637C19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629BF-539B-4B66-8771-14D9D0B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E62E1-3F0A-4AF1-9924-2474D8C8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DCA5-575A-4F58-9910-888870F177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86D8-6B43-4E84-8337-96C1EF6AAA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F4F-888E-4498-886C-3098E66382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4CF-BCD4-4C14-ABEB-F20EF91436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D68-2C2D-416F-8FEE-B5138EA011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D0F-65F0-4538-B960-975343D63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F562-DA83-4ACE-88FB-5CBA2178C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623-9B4D-4DD5-9D03-1FEB18057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B53-9389-4497-8978-30E0F7AB4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AAF-FCB0-4512-AF73-B5C9EAAD4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CEFF-6377-4876-9B09-4B81846C2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600-6F8E-445D-9421-516135D31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9A7B-E0CE-4047-AC67-43AB9F51F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E33-EFD4-4992-AB71-E87CF111C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A35-EA24-496D-BAEB-85BF8BE12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869B-556C-46C8-B479-7AF927FC3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C65-514A-4A8A-97CB-7300D1EEC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90C8-D09F-48E1-A7F9-C421A8254E9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172-1477-4734-96A3-E6A2854165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80C0-3012-4232-807B-6D740574959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D123-19B9-481D-B26D-686BFE54AE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F2E-EE91-4F89-B2A1-17770DD67D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B2F7-0EC6-407C-BAED-0BA280D6B3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1DB-8CF4-4705-8401-23F5EDA1DB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08-31T21:49:36Z</dcterms:modified>
  <cp:revision>107</cp:revision>
  <dc:subject/>
  <dc:title>GEF NGO Network</dc:title>
</cp:coreProperties>
</file>