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0FA-ECF7-4B09-9B98-679F2F5AD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DF27-39E1-4688-8215-7D1A66EF5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CAD-3204-432A-AF37-D793136C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ED8-FED9-4902-8827-2F124E5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16BF7-B035-4545-A066-8C0C71BA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4C85B-D9D2-4029-AEDE-FDE82001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B409A-33FC-432E-A122-49446D7A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CD505-A4DE-4DB4-B74D-38324B5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68E13-21BB-4F46-9A3F-02C33C37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42510-6A9D-46CE-995E-2DC4D873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4CF4F-0853-4B0C-9C22-E0A28FA7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4690A-2392-4AAA-A399-E4C0BA5F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ABA49-318C-4CAA-8836-56C32C64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346C1-5BA4-43FB-8042-85DFA0C7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31A-3FCD-4A84-BCB9-1723D4BB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EF711-726E-4878-9F97-0A1E3621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4AEDE-4208-4557-9A19-8DC60545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BEE06-9967-41BC-AD7E-7C058F5E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AEE70-3817-4231-8EFD-D09BF6AE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67E91-6B08-4AA5-8A1F-E8A2143C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3F4D5-8A31-4EAE-96EE-32A1DA29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C0D64-2903-4606-8033-C66E04C5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E9DAF-0549-422E-AE4A-9DDA514C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BDB8C-DF98-4503-91C7-376B0239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9D407-F4D9-4796-B4C3-02C31CCD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E99-E026-4C7B-AEE6-A4DF18A4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7C44B-C082-4317-9669-7B7857FB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70914-EEBC-4537-93AD-A7AD5952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07E16-6074-4E15-A4F5-7806A0FE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6BF1D-EDD2-48D0-8B07-3C10096F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29C13-8CF8-4B84-BF4F-CC86C7D1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9C6AF-CCC7-425A-871E-6F3A0FE2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CB0FA-57B0-49FE-9A27-C5B01084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0A7F7-A8F5-449A-9235-936DE5AB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617EA-16C4-405D-B534-C77D8141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B0368-F018-4498-8B08-A9E9D38D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1227-4BF9-4051-9EEB-8D18D764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CF382-EE20-47E2-86E1-87315012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3DE61-B4DB-474F-A887-067DBA5A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EAC1C-7873-440A-92A6-3CB0BAD1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83F6A-740C-4EC4-B8C9-32246E8E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B42C0-628F-49E5-B47E-C6E60C69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9FD6F-DE7A-4D01-9D26-3B0C216C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6BB73-1F4C-4B4C-BBB5-73D7E30A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88CCA-53C5-4535-8157-47386BFB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26073-05C4-4940-9912-4E4697E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86C23-BA68-4BD8-8E37-1F35CB48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B5C8-E0BD-4C4B-B95A-465D4CD4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AF96F-2635-4208-95A9-2721AE4B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CA75A-2ED4-4FEB-B8B9-B8A9374B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22BC2-3A88-46AB-93FE-783F573F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A0A29-4B5A-4E31-82EE-2B8D6C65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124D6-3587-4EFF-8824-32A70E24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FCF29-9C28-409D-821C-6608D71D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B647A-9196-4994-BEFD-93A4638E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6D564-254E-4993-B27D-FF4DAE7C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0E0A1-CC5A-41C9-BF40-CDE4E159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2F1B5-5C03-4082-8682-31A06B8C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2066-5A9F-40C3-8AFB-CC4086D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FC361-D709-4C66-9AE7-04934170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553E3-E9B7-45E2-A0F9-E2BFA9BC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3948A-A78A-49CD-B4E2-CE78AF61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61309-5702-4C66-8B90-6858573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D758A-A579-49BA-AB2E-0362F1E3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48C92-56FC-4009-B32E-0955FE90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E2551-F387-4E7E-94FC-A5EDF423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39ECC-4248-41A7-A431-43168F78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EA1A9-4757-462F-8AC0-E79612CB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88413-9ACB-4F04-8764-BE080D2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5CC5-EB96-487B-8854-F8656388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D2251-A035-4BBE-B243-8881869A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EAC2D-04CD-4F86-AA44-72C0D595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3B465-C776-462A-8260-C6E0A08C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C3107-3A37-420F-AB2B-709E2A63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B4AA4-6A8E-411D-B43C-B27A9AE7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0BB80-11D7-4C15-8F50-3421F976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75699-EDE2-4811-B82E-6B46DDDB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F7A27-FF4B-470A-B6EA-B3228A5E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42A955-B26A-46E6-8242-50796CE2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1BB84-96A0-4683-B139-81356215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1216-1B96-4495-9885-BB819C68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0B544-829C-43DE-AFF2-98771EB3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9872F-7A47-4F5B-93FE-1C215BB8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D20A1-F0E1-4F52-871B-38151047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3514E-809B-4229-AF06-EAF8DDE3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E6C3D-3030-452C-928B-98CF70AF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5BA89-F38E-4837-B8D6-9CD4D69F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1E46D-8340-41E6-86B8-476E7D34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5C2C3-5F9D-4913-89EE-9E6FA6B8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E787D-3FB2-437D-B6AE-C93FE69A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31DBA-172C-4905-8D84-C31D386C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F65A-5203-4AC1-A236-7B377271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BEE83-E840-4DF9-A12A-5EE89244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1B753-6145-4D4D-9679-5CA1D692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5943F3-2D09-42BE-B865-48D48BA0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C63F8-5F1B-47EB-BCB7-2E396B6A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4F7AF-7E9E-4555-9F1B-7D716BE4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B885C-8805-4B77-BC19-441AC43D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0D436A-B19A-4983-9470-42597CEE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396A6-B528-49E7-965B-9DDAE29A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11A72-6DEA-443E-A37B-084615C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DB530-DA40-4FEA-8BDE-3F0B86D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F2CB-974B-4018-B9C5-E0318654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FEAD8-BA75-48E3-9F6B-D6C88B35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3CAA3-34BD-4EEA-A426-DCDF5539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4AC79A-8468-4C45-82A9-5FE317B8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58D54E-F76C-477E-9E7C-A9FDE1A4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F65258-3510-4CE5-9DA5-B7080C4B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7B965-1142-4C13-A51A-22D9F75C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636DB-CC06-412A-B698-76157108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1AD58-78B3-4E04-B5E0-D97C5D19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71772D-BC83-4E63-B8C4-3EB7A86F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6F8B3-3194-4793-8CCF-51D3F13A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BC3-D294-4865-80BF-84C700DE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2B5F-0FA2-42E2-987C-E93D5FA2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91C4B7-4BDB-4FF3-BA49-D59A6286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238B5C-4829-43CF-A413-DD949DEA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2376B-A31B-48A1-80ED-AB4033C3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F8455-42B5-4876-9BDA-F19CD182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F2439-3B21-4ACB-9B2F-C69497FF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EB5FB-FC2B-40F7-8183-4CFA9A7B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12558-8B4A-451B-8C5B-64C9CC01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BC7A34-50DE-49DB-8326-ADF1277A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4DBDDE-8C95-473E-B8BA-9B3937E1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75032-B2CB-4802-B702-04FD0D26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E1BD-B5F0-45B2-AC64-AF91346B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13BDF5-C534-4E54-A7F2-96310A45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5A6E5B-7433-4FEB-AA07-5259D31B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50CA0D-1C51-4329-A598-14440421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A0053F-6773-4658-A7BC-D349FA60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98E0F3-27BF-438B-80D9-34ABC813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24A72-A2E0-4E55-BDC0-986952FD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907CE-1EBE-4890-9CE7-CEFA6443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BC876-461E-495F-9267-F61F8304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F6690-1D43-43C0-8957-89BCDA5A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06157-9345-417A-A143-6D530029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061F-F670-4644-ADE2-782338AF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F19DB-9E90-4D19-BB41-FC9760B8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82FE4C-E7EA-4558-82FA-CFD8E4E3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2301FE-12CE-452A-930E-366277FE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50981-17B0-4821-B842-57BEE7DD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9EDC1-8D27-4660-8499-465F974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07B5BD-B144-4A40-8AA6-C0014165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38F049-5D6E-4976-B91B-00628BB7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E04962-F4AC-48D7-93C3-D9235AF8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51B6B4-8D3D-4BAF-9143-64A5E21C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F1CD6A-3081-4A4B-B0E3-837EB01E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F90C-53C1-48D4-A549-124407E6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8D87ED-CB4C-4A11-9D06-7B87F47B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90C74-3A26-46C8-B506-D88FF7C5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BC698C-89E2-446D-85DC-D1391842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E2E76-F1B3-4754-B46B-176748C3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16649-5F84-440D-A7F7-AB3159B7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B5E22-D88B-497E-B244-4E409413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AE359-5E40-422D-99AB-D1185AD2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E936C-5406-4DB0-973E-8733C8F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5BC3B7-93EF-43F5-BE8A-744AD8A9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8F03FB-0DD7-4B1C-B8DB-AF8D929D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E5C1-CCE9-4363-AB24-027ABCC0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590A38-12AA-4618-8EC1-F93D59AE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9BB0A6-3006-4917-B432-B7E21253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FDB9C2-9FB5-4C18-A0C8-75311034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368BFD-BB3E-4B26-8B4D-5D272D0B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4088EC-A9DE-4EA3-B292-4B9BBFD7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2B4A7-1E16-4ECE-906E-089FE94B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7ABF23-6C46-4AF7-B63C-C7522C7C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61B6C-4B05-4787-8BA4-EBF1AD3B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5170C-6EEE-4731-9CBB-5D0397BD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FAADD-5C55-4060-923E-7EE84179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B6876-98FA-4C21-97FF-0FAC6D74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E6066D-B808-4204-93D3-92DBE7F8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77D9F0-943D-4F7A-B2AD-1305ED93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5CB010-9306-4014-8C38-946AB1D4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C1D7C3-3D0E-4E12-9A8C-77C7259B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37135E-4F6C-4C68-8C32-6F952BE8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92E6B6-449D-43F1-A620-98691F20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9739E4-D6D9-4215-8FC4-57A8D7BA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63EAB4-3594-4F50-8DFC-0B8EB5B3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1E9BBC-A12B-4A65-A416-81AC509E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5D9853-4299-4DF7-ADEC-3FD8A7C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3B21-0F80-41EC-BA4B-3BC8C7B6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7AE621-0F8C-4D9E-925B-76C3D0C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5BAA95-F50D-4A24-A8DA-3778031E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07271C-353D-435B-8F38-44424DED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844376-0F6A-4EB7-832D-F351AC22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40EAF4-CD4B-4773-96D6-2DF3AC2F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B169D3-5967-452F-A430-DE079B6A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52EE2E-3EEB-4E9C-9357-55AAE2A9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D3E0C8-CA72-46C7-9E48-1B214A82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E391BB-C8F0-46C6-BF46-AE878C95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808AE1-1B46-4837-A6F4-61C02AC3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1B81-2D09-4F8B-810F-BF86C3B5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5730A2-1381-4E83-A151-4C65EB52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9F97B1-5021-4978-B42A-F5A35336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7D151C-D7C8-4A8A-B77C-3E7F732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6EE8AF-5703-4C80-92C7-58E322D6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FF7FF5-ACBB-4880-95F7-48DFB1C5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93B270-76B6-43AD-92DC-E0E08BCA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869F85-F045-490D-A2BF-BB6360B4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0A7579-EE19-4B54-B1C0-26C2422D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417710-E6F6-492E-8112-A9AE878A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D47CB2-A0AB-41F6-9C23-C4C96D4C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7D5D-31C3-49F6-A6D4-4928232C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237137-8651-4764-8363-5D596767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06D368-400D-4BD9-B691-3E0394AC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C074AE-576A-47F8-83FA-E1A447ED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2F9EEF-F10A-499D-A31A-63E4658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1674C4-7FC7-468C-8D67-3C2964EE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A69F9E-D95F-4F86-9B79-D9D00907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B33ED6-E6FD-4BEC-A36F-84D4AB75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7ECED6-9288-4D19-8A8F-B348A9DC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6DB4B4-929C-42D7-904D-5C996FEE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B1D3-B608-441F-B859-EE2AAA3D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F90-377C-496B-9BD9-39DCCAC4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8F61-3D21-4ECD-B963-5EDBEAAD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84C6-47BA-486A-9880-964D88AE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C9AA-12B1-40DF-B70E-7BF5B09E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A01ED-2479-4B82-9BBF-D9DAD221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26C5-265C-4975-A39C-2AF15BB1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F6074-A460-43C1-8CB5-910E73EF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7242-1E15-4EC2-A6FF-69732CB0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B539-4B21-497F-8C5A-F4037ADC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F4120-537F-444E-B033-55A6A003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7E3C7-ACF0-481C-A4A9-37855F3B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A46-370B-4A02-8024-A732F4A4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AE8C-DB1E-45B9-B8CB-552B9579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82F83-C855-407A-8095-AB214D76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B55DA-580F-429B-A957-D87F8374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AC7D-B0B9-4851-9CE4-FF2CF84A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A562C-EAC3-4920-8AF2-FE94EA52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CA19-9B0F-4359-B5E8-26887B5C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881E-2EFC-46BD-AB24-30D59FE3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4C2E-F053-42BE-9C34-33F02B9A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67EBA-29B7-4D1F-B73A-051D69F4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87083-EFB2-4590-B24F-C0021E23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16D-D6BC-434F-897E-FABBE305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7210-9508-4C4A-ADF1-44B1B587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8A488-8F4B-49B7-846E-DEB93E3A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BEACA-721D-4BA5-BF9F-73E3A990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05E5-09C3-40B2-98A3-F9C6A9BC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E8B11-2676-48F0-9F62-6D9A1BD2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C818-5012-4966-B31D-1BCF1FB6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4F9BE-7661-434F-A680-F3020AFE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56B2B-87E1-4A9A-8207-66A179DE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271E2-ECE1-41AE-9539-FC3B86CC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8BEE-BD15-47D3-84ED-EDF40856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637-E5BE-404E-8E85-B4A43095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69A82-F2A1-4A06-A42D-3A8D828F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D5B0C-9968-45C7-9B6A-CB0CB5F2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0C917-4C47-4987-86A1-C58C9BFF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F5B0D-1328-4E72-BC1D-0F4588C6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B220F-7FEC-4B9A-894F-10B7170D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9D9DB-528B-481B-AA0A-A6C98D54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3F4F7-706D-456E-91F1-EC32F04A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2E71F-C781-4BFB-9ED8-A6C3A7ED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3C267-D7A8-42F7-9077-B18BC2C1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6ED3C-DFC1-4DEB-B133-C4547258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052-62D0-4573-9FCF-A43B7EB9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8B740-A5F8-4911-B239-B22A2836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E7B0A-2EAE-4F98-9C08-E5810822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F8F89-DFD3-4859-B619-414B1376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2F9DF-5788-418B-857F-2757A422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AF108-7628-4E76-B524-891D7C0B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8FEFC-464A-4223-B7B9-2A3960B0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73B96-1B54-4158-8627-792DC099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5DED9-E5DB-465E-B708-2BC7B31D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C7B3C-51FF-4FB3-B4D3-2AFB8D22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BCD61-E03E-4292-9A96-4B4195ED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64B-453D-40EA-B736-C30AE2C0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016F9-4CB7-4C58-B5B5-A9B36954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F615A-3A21-401D-AD68-4E3A3230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4B264-CEB2-4DA4-993D-06188584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8A34E-5E3E-4677-9145-6E98FC08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E1B3A-79AF-4D17-A709-56CA68DF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B4F21-ADB5-41AB-A24C-1BA89F50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5F39D-0C35-4F5D-8DD1-0B5D67A0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55630-3B17-42D5-AB2D-3951D7B1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26C44-7C9E-431D-9BDA-D9B71EC5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9A552-68C7-47F8-9856-20FDCB61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AA4-C56A-45BB-AA56-CE7863A9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2BBF1-E399-4D95-9B70-3CEB797D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D025A-4E02-46F3-B6D7-BF0483F1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9C62A-575A-4483-B87A-5B3995C3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BB38D-A40E-4711-9FBD-6F21372D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59E98-72AC-4055-8BDC-1CD7DC83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2F7DF-3DAE-4B3B-AB65-9D1C8E2E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4DBE4-68AC-4EE6-AD46-E63BB65E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4D388-CB83-4524-B16C-49F5992F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0ED86-F8E6-4417-89B2-563F0727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648FD-EB76-4028-9D47-52CFFE37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490B-70E1-4DA4-86F6-710FAF1936C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C0E7-55D8-4867-B75F-E3C2B569CA1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8B3A-C39E-42B4-9082-61BCCAB1E12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763B-29AA-48B1-A408-93EF5CA15EF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4A52-690C-4326-B843-3862AFC641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13DC-1623-4E41-9500-75D3414B0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5E9E-45F8-4971-861C-9B72A85D5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2C8C-86A6-45A1-90FA-BA5CB26033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7019-86BE-4285-B39A-66EC807F8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4CC8-0FEC-450E-9AD9-E725C03EA4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5140-B651-4671-B540-B9BE2C16F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8096-14CA-4C5D-BDAA-E94523361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9776-C8BE-4929-AFD3-F4B767053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D870-FCF2-4966-943B-98EE997929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5801-E37F-411F-B098-5FEEE569BB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1134-6B93-41D0-93F2-A166EB335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70A9-A4BC-4371-A000-BE94DF55C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3061-38F6-465A-A6D0-080E40C989A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5A7D-1911-4CA4-96D8-CE2EC307DC1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4DDA-1FDA-42AC-86DF-7D0A2BD794F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DA0C-34F3-418A-BF6F-B1E58D1A1E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1216-143F-48E7-8201-ADAABC66106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0E00-4D9B-4AC5-A9D7-FAA9230C14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ADE3-7DB4-4E07-BFB4-34EA81F6A0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FEM : Approche stratégique du renforcement des capacit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19 au 21 juille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Quatre modes d’intervention ont été définis pour développer les capacités des pays en vue de la mise en oeuvre  des conventions issues de Rio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(Décision 2003 C/22.8 du Conseil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oévaluation nationale des capacités à renfor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CR)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nforcement des éléments liés au développement des capacités dans les projets du FEM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ts ciblés de développement des capacités (CD, anciennement CB-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mes spécifiques  visant à répondre aux besoins essentiels des PMA et des PEID en matière de renforcement des capacité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bjectifs stratégiques de développement des capacités intersectorielles pendant FEM-5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(44 millions d’USD disponibles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Développer la capacité des parties concernées à prendre part à l’action engagée, au moyen d’un processus consultati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Produire, exploiter et diffuser des informations et des connaissa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r  les capacités d’élaboration de politiques et de lois afin d’obtenir des effets positifs à l’échelle mondia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r les capacités de gestion et de mise en œuvre des directives définies par les conven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Renforcer l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apacités de suivi et d’évaluation des impacts environnementaux et des tendances de l’environne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igences applicables à l’ensemble des projets 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38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Être conforme aux objectifs stratégiques de développement des capacités  transsectoriel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Être plurisectoriel (profiter à au moins trois domaines d’intervention)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s priorités doivent être définies dans le cadre d’un processus d’auto-évaluation des capacités à renforcer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orter un cofinancement, à hauteur d’un ratio de 1:1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 peut s’agir de projets à part entière ou de projets de moyenne enverg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123720" y="2209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erci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1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08-31T21:49:54Z</dcterms:modified>
  <cp:revision>108</cp:revision>
  <dc:subject/>
  <dc:title>GEF NGO Network</dc:title>
</cp:coreProperties>
</file>