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4D96-3EDA-4B26-900F-B3D729973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2D63-7B5A-4D8B-B94E-3AF49BC7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E2D-7DC0-4AC7-A71E-1C6F420A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ED5-B83E-4272-8B2E-9B557308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0DCBF-A2E1-4584-9416-612F495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415AD-097C-4BFE-8A1D-600F86F9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D3CDD-60E2-4659-B87B-0E82F006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9FADE-D41A-418B-967F-6CD4A38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2100F-9E9B-4D3E-A911-486CDB4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BB9C5-2032-4A73-BCA5-A3C19F2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3C3EF-48E2-4B76-A41D-670871F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DBC53-5CF3-4401-BE3F-A10E97F7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6BCAD-8AA8-40D8-9C6C-7BEF7F65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F2817-D55F-45BC-848E-E709809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5F6-DF6D-4316-8B75-1EEACF4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150B6-D237-40CC-995E-AA1F765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7A014-54DF-4422-B08A-D0A7E71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5178A-A88A-402B-82D3-4BD2A465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F9A69-E69C-4C86-A9C3-6B458720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53AB5-3524-451D-B39F-E54E3301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B8AD6-680E-43BF-AAD8-4A18CAD1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0353-B414-4CFA-AA5C-881D91BA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5596-6E93-4FA2-BA0B-A1ACB2D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E45F6-67A5-4E14-8501-B8136EC0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9990C-AD3D-4D9C-8095-65DCD1C4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0B2-4B25-437F-9E82-CCE82019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E8290-70C2-493E-A24B-1D7AD796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DE680-42A1-4646-A388-FD4B7A41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E682-08EA-40CB-A16D-160FFD94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5D37-17F9-400B-A96C-B8352D62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600F1-BBF7-4361-BD30-330DD3F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DF8AC-B667-43BE-BB90-9608C1DA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95228-B169-4C70-B958-19B7645C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BA16C-D557-4DE5-8B6A-DD2285F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F2F66-357A-48FC-BB3B-EC8C32E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B326F-8ACF-4883-A1C5-2AE2A42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3093-CFBD-4803-87B7-ED651226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9BAAD-068A-4CA5-A439-122D6EF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CE6D1-042E-4CE9-9A66-D81C9898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5A2C-0915-48E8-BACA-36818421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F2776-A1DA-455B-BEAA-2E353B31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8C043-DB06-4164-BEC8-49B733F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9CF68-19C6-4982-81F7-FD2267D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22FE9-D502-46EB-B96D-74B25B64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2735E-B896-42DA-B159-4760B9A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271AA-1313-4DF1-8755-B43C8EC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75DAF-1690-4A54-A719-38A199A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411-9852-4A70-A9E0-A7685FEC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6FD96-52BD-48BA-BB48-4D53DDA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06165-3E08-4C81-8222-B9FBEBDD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75010-F1F6-49E6-B26B-F20F9FB0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BE83-5FCC-45EF-BBC5-86C5FEDF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77033-A3C4-4016-B354-4B4EA105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D36C9-CC5D-4A39-9082-2307C97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7BCFE-9521-4B36-968C-50116D9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A8C96-137E-4B1C-9C7C-7AD5ED9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EECA4-FC98-400B-88D2-15BC5857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9C5B7-775C-480F-B439-5C142ED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F536-DD89-4305-A566-7FC3529E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D7910-DDC7-440D-902D-074D3337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D1099-D9D6-448B-9EA3-4185922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8BBB4-27B4-46C8-AE4E-A47DC16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30B1D-3AAA-4645-AB19-5773E83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73F73-A62B-466C-86A4-47E7517A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4CA41-0E84-4000-8FC9-52A1EF87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2DBA0-6F4B-486B-8637-93CC3229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5C5CB-6AA7-4BD1-8512-738384DF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4ED4B-2FAD-41EA-B15D-AB4BC3AE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3B046-346A-4536-8E86-494290F9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28A0-4BA3-4B1D-BB93-E7CCE09C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F494D-CB44-4273-B93B-0211857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EADF4-A33F-42B9-9306-2A48BD6F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BC3B5-C611-490F-BA0A-7E4196F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44F62-B1DD-4CD7-89DF-E7FC6F86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996AF-5AB7-4DF9-BE95-F4DC3D90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70B09-5270-4278-94EB-4F6E81D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B8114-BFC8-41E3-B7E5-265B027D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1823F-5F2C-4AC8-A3E6-A12A6554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97C49-9005-46D8-AEDC-0891005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8641F-A5D9-4F6F-A177-ACA374A2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AA14-7862-44AC-8778-D1A5B849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FCAFC-0D99-46FB-8EED-2EE65945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EB242-D858-498D-AB87-E7433AF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EA40D-4AF8-4175-9AC0-4637EBF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7011A-94E5-4CA4-9B03-03950607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3CC70-AF81-4DD5-B313-241A5C6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C489F-D8C8-49F0-9379-B9706F8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0A89F-010B-4F22-B64E-EC8F6ED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D7E59-B327-4171-B13E-77DB09A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85987-7668-4CAA-AB2C-F990DF74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09ACC-BE89-4087-80D8-6BEC25DF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399-C81A-4046-9FF2-F4EA3D7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5E63B-42BF-44F6-86ED-5C1B7B12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B2797-A71C-4864-AF51-DC80EC2E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FFDDF-1C81-4D43-8FDB-00DCEBF9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25BF3-D14D-4282-9FFE-DD836E8A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C5FFF-66D5-46B5-8178-EDAF0BA3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A1F3F-19E4-4662-8E05-C5109A82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2708A-CB6B-4929-B450-68D6503D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E8A3D-CBD8-4ED5-A4CD-573FD70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CDF67-6692-4CEE-BC52-92B32C8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E011F-CCD3-414B-967B-A1041308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7AFC-B32D-41DE-B356-F01B991C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48375-E9CD-4D5E-8EAC-5ECE0B1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F8D64-E810-4C04-8030-715C6A87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372B2-9FFF-4355-BF60-860F54FF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77226-F924-4AA8-B478-96878BB6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CA992-4D39-4A48-B9E7-B2870B5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7BFF0-6A8E-49CB-9918-0C757E9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71725-D3BA-4EE7-A707-57EC772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8EA3A-DCFE-4246-AE16-7038BA0A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00708-B1C7-4D03-B50E-3BC1C154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7E412-8BAF-4729-8F4E-8EB45F6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B54-58C3-41D7-A73A-EF5127CC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00CC-9AD0-4A9A-82A3-817B3F5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5511C-CD8B-4CC3-8FFD-46A8C33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7ED08-E5E4-4FE7-8E35-D462080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BFDCB-4D88-45CC-BA20-DC2FC314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DF91B-EB12-467C-BB35-14092B73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278B1-7AE1-4BF3-A5FF-75BFF775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02C86-E7F6-48B9-9B60-43564D3B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DFC13-93FD-4E95-99F0-88EF1806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43184-416D-479A-926D-12043F5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F9AF8-DF17-486D-8DC1-9C95490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A427B-21E1-451B-9D28-3F390372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EC85-1211-47F3-9BEE-9E10E9C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B7730-C4C3-4B71-B1AD-20E30949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3E893-EFC6-4167-AED6-F4018D03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B1053-4837-4338-8A94-2FC389B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A19765-3C1A-454C-B9B3-45DC141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9E8BD-9727-4384-B893-CB2C4C4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9D833-B2CF-487F-8803-99F99E11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E7219-20E8-4496-B0A9-EAFE5C32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EF7C3-D73D-469D-8C7A-8713AE4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416C3-3E09-46D8-94DF-CF8DD54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7E61E-2C10-4C0A-AB4A-8EB2E349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160-14BB-41F0-A818-D85427F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06BB9-05D4-4D30-888B-C60A806B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EA040-9A60-4AD5-8D1C-94617DF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1C89E-3188-42A8-A999-EA52D53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30954D-F3C9-4A62-BD4B-225E0818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71322-4206-478E-A17D-43B09E9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A7D545-52FC-4749-96B5-71A92CD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41422-DF34-47CF-A8E9-7E22476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28722-2F47-4834-8154-9F3AE9D6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BABDA-523D-4FB9-97D8-13A7B6CB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AA107-F37A-4D32-8D66-0D86B851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E863-8F06-4283-BCE9-7B26EB53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9D9BF-513C-41A4-95F0-45239A0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CE381-D414-4448-9A4F-CB6EB391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7BF69-53F8-4C80-BBED-A380F4E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32A84-783E-453C-8960-6CCDEA2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EFE22-F833-40CB-B92F-228E4ED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E766E-55F5-4E02-BA51-4FF0785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3DA71-FAF0-47C3-B2D1-07B28CD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7F195-9559-4542-BDF6-761E86B0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C0E74-B5BF-420E-9850-CC02D41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835CB-6F5F-4651-94FD-9A4F317A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D4CA-B26F-4FA1-A19D-CB6EB1E2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40E46-5A34-4480-9C85-D20B119C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183EC-0C7C-4B02-8EA5-9643298B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16BF2-E71F-4926-AD34-F647EDF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AF04F-D178-48C4-8227-829E548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2C1C0-D69A-4824-B1E8-D268A78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5260B-D515-4F46-9B85-BF4E2A13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2C673-32DA-4614-8EE7-1E7DEB3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5BD71-79B1-4D8E-984C-ABFB9A82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FE9A5-4EF7-46CD-91BE-99D9E53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5F98C-5AB0-4EAD-BEB4-508A28EF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1569-23E7-40D4-A4E2-C27F3618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99B93-ECC2-4459-AA50-97F683A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F3AEA-A8E0-4428-9F1B-69EC4C3E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3355D-2124-4A66-99B8-1BC48AAE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94AB8-7561-46E4-A126-ED9392D5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76F76-83E9-43BB-81E3-F1BD5759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95C64-0842-44D0-BFAB-DDA25621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FC89B-700A-4624-840A-130827CE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092E8-BC74-458E-81E2-9C4A55F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D5453D-3355-4085-9E91-08CDC4A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F7AE16-61EF-4053-8ED2-1CE3DEF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BC4F-C22B-475F-BA0F-A8B25870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EEDEB4-C0FF-4150-A5CF-85B2091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9A864-4B21-4C21-B1F1-7E6ED03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0E4635-402A-48B4-A69F-4052178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DD842-531C-4A17-994F-4C129169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14ED51-EB4D-4392-BFB5-EE64FF85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70508A-A2CB-4D93-9D6F-D2F74E56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645B0-72A3-4F66-BA8D-7308AD4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A2AC4-C08E-4E1B-8A77-98054465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C88BEF-0FE5-4167-80D3-4355F7F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3E91C7-63B8-4D9B-9C06-0337C21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81A7-7225-4BB0-B23C-152611D7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326EBA-2201-4433-B747-08ADA720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5C36B-6717-4D1D-BB11-7F3FE38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5082CB-C299-454E-BCD7-F88BAF8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D88C4D-7D54-46D6-8CEC-429E872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E4913-076E-4E49-A730-306A550C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80DEAF-4EC6-4D36-B10E-4C0C1799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282B76-D71D-402F-A912-6076CC7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18CEC-E159-4E6D-9D58-9A6A66C1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A8E805-D188-4593-B0F0-27128409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C01A8-D6B1-4959-80AF-D124555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4911-E010-47EE-BA18-1A0E4D4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0AD071-051F-4D9D-9AB0-19D15039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95BEE2-0994-4E12-AD35-CD7FF89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00EEEC-2D9C-4A59-AD98-6D3424C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4A466-EEE3-4BC5-B88B-0DC6CCE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541FD-DC86-447A-AF9B-560DF14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F2EC85-80B7-458D-A7AB-E6E61AEE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BAFB85-41C8-43EB-AA67-8F5C0F37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1BE5FC-5499-49C3-B8EE-F29A0EAC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6D4C3C-4391-4E36-A33A-8421F446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68C0-028A-443B-8B93-0A3323AC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8B1-70AB-4837-8F08-D131C59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4982-207C-49B0-AD20-494587F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F955-32F0-4D01-B10A-EB42094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FED4-112E-4806-BA2C-0493A721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335A-4E9A-4CA6-9065-A1DC9AD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B689-6392-4514-8ADE-403DAA9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8BFF-98C2-4DD6-BA2A-AD0F555F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6D89-921A-4488-B436-E93E19C0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35D5-BEDD-4796-992B-F88076E5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423D-CA0A-4C97-9017-21824AA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0678-FCF5-45CA-AC4D-887DD13A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0C6-86F9-4E69-A23A-858AF6E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B391-5864-4233-930D-E4DD05C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6A8A-4558-45F0-BB4B-B510F5A1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7EBE-677E-4924-9DEB-2DD0CB4A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B9DD-C01A-40EC-AE0A-350F019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2FD6-EA9C-4858-8258-BA0F17A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1BC1-E0BD-400F-9829-F418DEB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0F2F-A2F3-4458-9BE2-CD622FD4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963C-4F8A-4D82-B699-8C501610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5820-5AEC-4B8A-9F77-0AC8E049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5B00-6929-4205-A6C9-D9C1921E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84B-DCCD-4438-A4AD-99C69301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9C21D-8832-4451-B4CD-96460520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0C27-219C-4A76-A434-E2F6DE5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A7AA-9D70-485E-A49D-B2259A5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1BAD-7DD1-42B9-ACBE-9E463A7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DE43-C90D-4583-8E13-28545315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40CC-7F5F-452E-BC87-9755FF08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733C-675F-4CA0-9185-498E86E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AC1C-BCDA-41CF-8E03-E7265E1D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4EF9-9A15-4434-817D-B11C07AF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0AB1-E306-44C3-A352-BE9346E2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29D-8909-4212-9E6E-49BA7317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5D28-05CB-4847-BA13-31F7D4D3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3E36-1A91-4B15-A2C6-2C7CDEFB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733C-1DE3-4245-A110-9277953F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A61C-B42E-442C-BDDB-0D8E9ED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18A6-9204-4FBB-AC05-5B1A5020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1E40-862D-4448-BE54-64CCF04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35F28-73F5-4F89-8F3D-A4E8CB8A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3107-D2C7-4561-9D3A-7D943AA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6DA4-23AA-4DF8-85D8-2B66BBA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AA8ED-0239-4E55-BEFE-E3FD84D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8EE-31A5-4D1E-94E9-A79761B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A9D3-514F-401F-8CAB-78E3BA56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1B77F-4B37-49E3-8976-7B92B2FE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E162-EC8F-4107-AB0B-C032876C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3B4A-93C9-4E94-A891-FD5B8C28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F682-C5D8-4767-86F1-8863CFFD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D0BB9-8E61-41B3-9A50-F4615727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563BC-20D5-49E6-9559-57FC8AD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9548-1727-49ED-9123-DC299EC3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68B4-7465-492A-8DC1-571A8F4C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3ADAD-AABE-42E3-806C-3CD3961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688-24F6-4933-984C-38754F1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7DA52-F8B0-4A31-8510-7E1A482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450A7-CBD5-4963-8454-0628BE6C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0DAE-229B-4B4D-BC18-E01B36B1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60197-D998-48E1-9AE9-EADD4CDB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A60D-42C7-42AF-81B4-D143016D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15B6-C68A-4289-87E7-7FAA948C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5D58-B710-4B8C-BBB3-8F466FE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241FC-CBE4-41F2-AE38-C0DDCE74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BBF39-5EB0-4198-8E63-537F5DE8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A37B9-EF8B-4ACB-8C46-F63D60BC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FAD-7B7C-4201-B8E8-2E747DE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0D58-1939-45E2-BFAA-53B48C3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66D6-B219-4BD2-8C98-CAEF770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D4093-DD95-4718-AD2A-3E31D21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7CD07-72BF-4B98-A2CE-B07E528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555B-8EA3-45DC-A3DC-094EA6E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F565-228C-4764-A731-ADD64271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B33D-471B-47FC-8D81-CFEA455E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A6C6D-C5EE-40ED-8CC4-37AB8717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49D21-5FBB-4AC4-9407-346514B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BE55-6716-42AC-B2D1-D973787F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67E-2ACE-42BE-8C53-D6E53FA157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9F16-0B58-49F4-BB3A-FEC60EDC41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665F-9F6B-43A6-B222-DC8EA9E06C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DB40-A90E-4785-AA04-F3CE7019B6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E4E-3F19-44F5-8DB0-47DDC400F15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C8F9-215A-4D0D-B84F-4C73E9C4D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6AFC-2B18-4CC7-9A71-CDDB28908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219A-2D75-4166-9DDB-0B16A33D0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4B5B-EF18-4C13-A8C7-D49BFEB47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516-5436-4676-BEAC-009316484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C09-6619-470B-90C1-D6A402DBB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777-7EE3-4A9E-A4E0-F635B1B29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B2B-EAFC-4DC2-880A-5BCB86BE8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42B4-1594-47C6-8F94-E87BB7E75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E3D5-A59C-49FE-A8CE-06D1D4C23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A4E-F43F-476B-8295-AD201E8DA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6F81-FCDA-4C02-B5B9-612B4D70A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AD0-BE8E-41C2-978D-2B52038315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798D-365C-4291-9A07-F61CC77EB5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A365-5311-4F15-857C-55AB02F1348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B39D-24C8-4457-99F5-464AD2099E7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F2CB-F851-4E1E-802E-2A6042D4F2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40B-FD64-4FF6-A1C9-4CA497CC3A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19A-6A7F-4A9B-A32D-82462FD4804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FEM : Approche stratégique du renforcement des capacit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19 au 21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Quatre modes d’intervention ont été définis pour développer les capacités des pays en vue de la mise en oeuvre  des conventions issues de Rio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(Décision 2003 C/22.8 du Conseil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oévaluation nationale des capacités à renfor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CR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forcement des éléments liés au développement des capacités dans les projets du FEM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ts ciblés de développement des capacités (CD, anciennement CB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es spécifiques  visant à répondre aux besoins essentiels des PMA et des PEID en matière de renforcement des capacité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bjectifs stratégiques de développement des capacités intersectorielles pendant FEM-5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(44 millions d’USD disponibles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Développer la capacité des parties concernées à prendre part à l’action engagée, au moyen d’un processus consultati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Produire, exploiter et diffuser des informations et des connaiss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 les capacités d’élaboration de politiques et de lois afin d’obtenir des effets positifs à l’échelle mondia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les capacités de gestion et de mise en œuvre des directives définies par les conven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nforcer l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s de suivi et d’évaluation des impacts environnementaux et des tendances de l’environne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igences applicables à l’ensemble des projets 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conforme aux objectifs stratégiques de développement des capacités  transsectoriel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plurisectoriel (profiter à au moins trois domaines d’intervention)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s priorités doivent être définies dans le cadre d’un processus d’auto-évaluation des capacités à renforcer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orter un cofinancement, à hauteur d’un ratio de 1:1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 peut s’agir de projets à part entière ou de projets de moyenne enverg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123720" y="2209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rci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1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08-31T21:49:54Z</dcterms:modified>
  <cp:revision>108</cp:revision>
  <dc:subject/>
  <dc:title>GEF NGO Network</dc:title>
</cp:coreProperties>
</file>