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55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8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4.jpeg" ContentType="image/jpeg"/>
  <Override PartName="/ppt/media/image40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3.png" ContentType="image/png"/>
  <Override PartName="/ppt/media/image53.jpeg" ContentType="image/jpeg"/>
  <Override PartName="/ppt/media/image44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36.png" ContentType="image/png"/>
  <Override PartName="/ppt/media/image48.png" ContentType="image/png"/>
  <Override PartName="/ppt/media/image13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42.png" ContentType="image/png"/>
  <Override PartName="/ppt/media/image54.png" ContentType="image/png"/>
  <Override PartName="/ppt/media/image31.png" ContentType="image/png"/>
  <Override PartName="/ppt/media/image30.png" ContentType="image/png"/>
  <Override PartName="/ppt/media/image49.png" ContentType="image/png"/>
  <Override PartName="/ppt/media/image12.png" ContentType="image/png"/>
  <Override PartName="/ppt/media/image50.png" ContentType="image/png"/>
  <Override PartName="/ppt/media/image11.wmf" ContentType="image/x-wmf"/>
  <Override PartName="/ppt/media/image26.png" ContentType="image/png"/>
  <Override PartName="/ppt/media/image3.png" ContentType="image/png"/>
  <Override PartName="/ppt/media/image33.png" ContentType="image/png"/>
  <Override PartName="/ppt/media/image37.png" ContentType="image/png"/>
  <Override PartName="/ppt/media/image7.png" ContentType="image/png"/>
  <Override PartName="/ppt/media/image8.png" ContentType="image/png"/>
  <Override PartName="/ppt/media/image3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9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10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11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6B0EE-2AF8-46DE-8D38-E624110BE6E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6C22A-6F01-445C-ADE0-222B389FC66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A0361-8258-4898-82BE-E9CEAAA4DC2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AD87A-2153-47C6-9523-D47AD90DF65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AFDDF-6C19-4B9E-8744-7AA63DC8C98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0F98D-F521-482C-95CB-7D5D1EF2B98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8CAE4-1B0F-4590-8FDA-57B18CFAC7B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Date Placeholder 4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C265A-A0D3-4189-B101-0B9A2DEE6856}" type="datetime">
              <a:rPr b="0" lang="en-US" sz="13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ooter Placeholder 5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kar, Seneg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3F59E-5CB0-4B9C-BC4D-533953763CA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ate Placeholder 4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7536-57D2-40D3-ADA9-7A75EA8A326F}" type="datetime">
              <a:rPr b="0" lang="en-US" sz="13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ooter Placeholder 5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kar, Seneg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DEE4B-D61F-4DC9-B4DE-439744F8B28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CFBFE-79F7-4E3C-B4DB-54D813BF67F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0A4F-320E-47B7-A183-01B7A03C5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64E2-C43E-42F8-BFB0-777F61811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73BC-2968-4EEB-92E8-1A6ECE7DC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8706-D9C1-4155-B193-0F1A6AD5C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537C4-E4BB-41B5-8ACA-8D897E387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47BCF-06C3-4155-93EE-6F1563F74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B6123-B9F5-4541-B8CD-5D373317D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7AC68-0D57-4A31-A5F0-7DD6DA164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90A19-5DD6-4A52-88C8-5A248BD60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736D1-DB47-4D72-A8C7-FA683ECDF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A4C0F-C147-47CA-BFFD-2A09F677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F2A6-983E-4230-9561-94ACD29FB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C2C5A-E035-4B92-A668-EA4F1384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12002-7689-4B9A-9C6C-30523B28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81700-12F0-4AA4-A7E2-FDA4A8A93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6D3F9-2314-4862-B6E9-E6E6B59E9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AF89E-258E-4F68-988A-78AA5987F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757F62-E1A0-4B91-BBA5-994D78A417C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BAADD9-86B1-4C03-8F50-094C57BA838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C0B0EA-25C4-4632-9206-FD86AE8FE7F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38424E-EC03-4952-9349-73396C67207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CD987C-6BDF-4107-97DC-71D2E885CB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AF9D-A0CF-4A46-9C80-2595D91DF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4F6FF0-033E-4EEE-8435-C4AC6A888EA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B76849-7868-4278-A734-ABFDAD373FC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A6BCC2-E46A-41EC-9028-00BB2300339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2C2340-0B3A-4789-BAAC-B001B56B1E7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AF9DC5-9133-4FB0-A7A0-69CD97ACE0D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6A62F5-6B0E-42F0-B3A3-8E941BB55F1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579939-13C0-4BE6-A2A5-A31E11B625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B158-9E95-4724-80F9-DB4C8E6E2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18BF-813A-4110-9802-825342EE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7556-6CEB-4A28-81B7-5450EC428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8472-5973-4444-A329-F46C7861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467A-F0FB-4679-903A-E6B5EF37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03BE-AACA-4CB4-A3A5-B68798FF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4C163-AC5A-4F20-964B-A2913685CD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BE96B-9392-40EC-8590-F05E88E1B0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A3504-6438-4BC6-84BB-986502F72D2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E337D-EFD5-4DEC-864C-79A43D0E64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6"/>
          <p:cNvSpPr/>
          <p:nvPr/>
        </p:nvSpPr>
        <p:spPr>
          <a:xfrm>
            <a:off x="0" y="0"/>
            <a:ext cx="16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-6480" y="-6480"/>
            <a:ext cx="1231920" cy="6870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9"/>
          <p:cNvSpPr/>
          <p:nvPr/>
        </p:nvSpPr>
        <p:spPr>
          <a:xfrm>
            <a:off x="0" y="0"/>
            <a:ext cx="1219320" cy="152280"/>
          </a:xfrm>
          <a:prstGeom prst="rect">
            <a:avLst/>
          </a:prstGeom>
          <a:solidFill>
            <a:srgbClr val="50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10"/>
          <p:cNvSpPr/>
          <p:nvPr/>
        </p:nvSpPr>
        <p:spPr>
          <a:xfrm>
            <a:off x="0" y="228600"/>
            <a:ext cx="1219320" cy="1440"/>
          </a:xfrm>
          <a:prstGeom prst="line">
            <a:avLst/>
          </a:prstGeom>
          <a:ln w="3168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1219320" y="0"/>
            <a:ext cx="7924680" cy="1522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12"/>
          <p:cNvSpPr/>
          <p:nvPr/>
        </p:nvSpPr>
        <p:spPr>
          <a:xfrm>
            <a:off x="990720" y="228600"/>
            <a:ext cx="8153280" cy="1440"/>
          </a:xfrm>
          <a:prstGeom prst="line">
            <a:avLst/>
          </a:prstGeom>
          <a:ln w="2844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5028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EFA7A-AAFA-4484-A5C7-48F24185642A}" type="slidenum">
              <a:rPr b="1" lang="en-US" sz="24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image" Target="../media/image32.png"/><Relationship Id="rId14" Type="http://schemas.openxmlformats.org/officeDocument/2006/relationships/image" Target="../media/image33.png"/><Relationship Id="rId15" Type="http://schemas.openxmlformats.org/officeDocument/2006/relationships/image" Target="../media/image34.png"/><Relationship Id="rId16" Type="http://schemas.openxmlformats.org/officeDocument/2006/relationships/image" Target="../media/image35.png"/><Relationship Id="rId17" Type="http://schemas.openxmlformats.org/officeDocument/2006/relationships/image" Target="../media/image36.png"/><Relationship Id="rId18" Type="http://schemas.openxmlformats.org/officeDocument/2006/relationships/image" Target="../media/image37.png"/><Relationship Id="rId19" Type="http://schemas.openxmlformats.org/officeDocument/2006/relationships/image" Target="../media/image38.png"/><Relationship Id="rId20" Type="http://schemas.openxmlformats.org/officeDocument/2006/relationships/image" Target="../media/image39.png"/><Relationship Id="rId21" Type="http://schemas.openxmlformats.org/officeDocument/2006/relationships/image" Target="../media/image40.png"/><Relationship Id="rId22" Type="http://schemas.openxmlformats.org/officeDocument/2006/relationships/image" Target="../media/image41.png"/><Relationship Id="rId23" Type="http://schemas.openxmlformats.org/officeDocument/2006/relationships/image" Target="../media/image42.png"/><Relationship Id="rId24" Type="http://schemas.openxmlformats.org/officeDocument/2006/relationships/image" Target="../media/image43.png"/><Relationship Id="rId25" Type="http://schemas.openxmlformats.org/officeDocument/2006/relationships/image" Target="../media/image44.png"/><Relationship Id="rId26" Type="http://schemas.openxmlformats.org/officeDocument/2006/relationships/image" Target="../media/image45.png"/><Relationship Id="rId2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hyperlink" Target="http://www.climate-eval.org/" TargetMode="External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3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gefeo.org/" TargetMode="External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80720" y="1600200"/>
            <a:ext cx="5410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5400" spc="-1" strike="noStrike">
                <a:solidFill>
                  <a:srgbClr val="31859c"/>
                </a:solidFill>
                <a:latin typeface="Calibri"/>
              </a:rPr>
              <a:t>M&amp;E in the GEF</a:t>
            </a:r>
            <a:r>
              <a:rPr b="1" lang="en-US" sz="4400" spc="-1" strike="noStrike">
                <a:solidFill>
                  <a:srgbClr val="31859c"/>
                </a:solidFill>
                <a:latin typeface="Calibri"/>
              </a:rPr>
              <a:t>	</a:t>
            </a:r>
            <a:br>
              <a:rPr sz="4000"/>
            </a:b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Subtitle 2" descr=""/>
          <p:cNvPicPr/>
          <p:nvPr/>
        </p:nvPicPr>
        <p:blipFill>
          <a:blip r:embed="rId2"/>
          <a:stretch/>
        </p:blipFill>
        <p:spPr>
          <a:xfrm>
            <a:off x="1444680" y="2401920"/>
            <a:ext cx="6334200" cy="32432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4"/>
          <p:cNvSpPr/>
          <p:nvPr/>
        </p:nvSpPr>
        <p:spPr>
          <a:xfrm>
            <a:off x="7696080" y="0"/>
            <a:ext cx="2590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3"/>
          <a:stretch/>
        </p:blipFill>
        <p:spPr>
          <a:xfrm>
            <a:off x="5334120" y="233280"/>
            <a:ext cx="3581280" cy="1100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1219320" y="1440000"/>
            <a:ext cx="68580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management response is required for all evaluation reports presented to the GEF Council by the GEF E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F Council takes into account both the evaluation and the management response when taking a deci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F EO reports on implementation of decisions annually (Management Action Recor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Country Portfolio Evaluations countries have the opportunity to provide their perspective to Council as we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6463F-E5F3-4041-A52B-16159182BAEB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Fifth Overall Performance Study</a:t>
            </a:r>
            <a:br>
              <a:rPr sz="4000"/>
            </a:b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 (OPS5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359D9-DA67-452B-90C7-F9E288E90C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1218960" y="137160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assess the extent to which the GEF is achieving its objec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As laid down in the GEF Instrument and reviews by the Assembl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As developed and adopted by the GEF Council in operational policies and programs for GEF financed activit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And to identify potential improv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966E-961D-446F-A514-7E1DA3EDB7EE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olidation and strengthening of the four streams of evaluative evi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untry Portfolio Evalua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up to 15 during GEF-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mpact Evalua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International Waters, Climate Change and other focal are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formance Evalua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APR continued and strengthened as well as independent process review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ematic Evalua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focal area strategies and adap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jor element of OPS5 will be a meta-evalu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2F589-8EAB-4EFA-AC4E-0BD9D8761306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Title 1" descr=""/>
          <p:cNvPicPr/>
          <p:nvPr/>
        </p:nvPicPr>
        <p:blipFill>
          <a:blip r:embed="rId1"/>
          <a:stretch/>
        </p:blipFill>
        <p:spPr>
          <a:xfrm>
            <a:off x="1122480" y="268200"/>
            <a:ext cx="8113680" cy="8049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 txBox="1"/>
          <p:nvPr/>
        </p:nvSpPr>
        <p:spPr>
          <a:xfrm>
            <a:off x="1219320" y="1143000"/>
            <a:ext cx="761976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ndat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Support for the creation of an environment that enables necessary changes to take pl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And…require constant attention and adjust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Testing of approaches that are intended to lead to GEBs if adopted on a broader sca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vest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Broader implementation of results of foundational and demonstration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66"/>
          <p:cNvGrpSpPr/>
          <p:nvPr/>
        </p:nvGrpSpPr>
        <p:grpSpPr>
          <a:xfrm>
            <a:off x="5257800" y="2625840"/>
            <a:ext cx="2514600" cy="1108080"/>
            <a:chOff x="5257800" y="2625840"/>
            <a:chExt cx="2514600" cy="1108080"/>
          </a:xfrm>
        </p:grpSpPr>
        <p:grpSp>
          <p:nvGrpSpPr>
            <p:cNvPr id="180" name="Oval 45"/>
            <p:cNvGrpSpPr/>
            <p:nvPr/>
          </p:nvGrpSpPr>
          <p:grpSpPr>
            <a:xfrm>
              <a:off x="5257800" y="2625840"/>
              <a:ext cx="2514600" cy="1108080"/>
              <a:chOff x="5257800" y="2625840"/>
              <a:chExt cx="2514600" cy="1108080"/>
            </a:xfrm>
          </p:grpSpPr>
          <p:pic>
            <p:nvPicPr>
              <p:cNvPr id="181" name="Oval 45" descr=""/>
              <p:cNvPicPr/>
              <p:nvPr/>
            </p:nvPicPr>
            <p:blipFill>
              <a:blip r:embed="rId1"/>
              <a:stretch/>
            </p:blipFill>
            <p:spPr>
              <a:xfrm>
                <a:off x="5257800" y="2625840"/>
                <a:ext cx="2514600" cy="110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" name=""/>
              <p:cNvSpPr/>
              <p:nvPr/>
            </p:nvSpPr>
            <p:spPr>
              <a:xfrm>
                <a:off x="5914800" y="2908800"/>
                <a:ext cx="1203480" cy="50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Group 33"/>
            <p:cNvGrpSpPr/>
            <p:nvPr/>
          </p:nvGrpSpPr>
          <p:grpSpPr>
            <a:xfrm>
              <a:off x="5604840" y="2902680"/>
              <a:ext cx="1823400" cy="546840"/>
              <a:chOff x="5604840" y="2902680"/>
              <a:chExt cx="1823400" cy="546840"/>
            </a:xfrm>
          </p:grpSpPr>
          <p:pic>
            <p:nvPicPr>
              <p:cNvPr id="184" name="Oval 7" descr=""/>
              <p:cNvPicPr/>
              <p:nvPr/>
            </p:nvPicPr>
            <p:blipFill>
              <a:blip r:embed="rId2"/>
              <a:stretch/>
            </p:blipFill>
            <p:spPr>
              <a:xfrm>
                <a:off x="5604840" y="2902680"/>
                <a:ext cx="1713240" cy="28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5" name="Oval 7" descr=""/>
              <p:cNvPicPr/>
              <p:nvPr/>
            </p:nvPicPr>
            <p:blipFill>
              <a:blip r:embed="rId3"/>
              <a:stretch/>
            </p:blipFill>
            <p:spPr>
              <a:xfrm>
                <a:off x="5674320" y="3038040"/>
                <a:ext cx="1463400" cy="276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6" name="Oval 7" descr=""/>
              <p:cNvPicPr/>
              <p:nvPr/>
            </p:nvPicPr>
            <p:blipFill>
              <a:blip r:embed="rId4"/>
              <a:stretch/>
            </p:blipFill>
            <p:spPr>
              <a:xfrm>
                <a:off x="5604840" y="3173400"/>
                <a:ext cx="1823400" cy="276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7" name="Rectangle 62"/>
            <p:cNvSpPr/>
            <p:nvPr/>
          </p:nvSpPr>
          <p:spPr>
            <a:xfrm>
              <a:off x="5646600" y="2764080"/>
              <a:ext cx="1748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1" lang="en-US" sz="1100" spc="-1" strike="noStrike">
                  <a:solidFill>
                    <a:srgbClr val="006600"/>
                  </a:solidFill>
                  <a:latin typeface="Arial"/>
                </a:rPr>
                <a:t>BEHAVIORAL CHANG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Box 71"/>
          <p:cNvSpPr/>
          <p:nvPr/>
        </p:nvSpPr>
        <p:spPr>
          <a:xfrm>
            <a:off x="6553080" y="4938840"/>
            <a:ext cx="2362320" cy="276480"/>
          </a:xfrm>
          <a:prstGeom prst="rect">
            <a:avLst/>
          </a:prstGeom>
          <a:noFill/>
          <a:ln w="93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Calibri"/>
              </a:rPr>
              <a:t>IMP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68"/>
          <p:cNvSpPr/>
          <p:nvPr/>
        </p:nvSpPr>
        <p:spPr>
          <a:xfrm>
            <a:off x="3465360" y="4818240"/>
            <a:ext cx="3316320" cy="552240"/>
          </a:xfrm>
          <a:prstGeom prst="rightArrow">
            <a:avLst>
              <a:gd name="adj1" fmla="val 50000"/>
              <a:gd name="adj2" fmla="val 49821"/>
            </a:avLst>
          </a:prstGeom>
          <a:solidFill>
            <a:srgbClr val="ffffff"/>
          </a:solidFill>
          <a:ln w="93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Calibri"/>
              </a:rPr>
              <a:t>INTERMEDIATE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75"/>
          <p:cNvSpPr/>
          <p:nvPr/>
        </p:nvSpPr>
        <p:spPr>
          <a:xfrm>
            <a:off x="152280" y="4818240"/>
            <a:ext cx="3886200" cy="552240"/>
          </a:xfrm>
          <a:prstGeom prst="rightArrow">
            <a:avLst>
              <a:gd name="adj1" fmla="val 50000"/>
              <a:gd name="adj2" fmla="val 49814"/>
            </a:avLst>
          </a:prstGeom>
          <a:solidFill>
            <a:srgbClr val="ffffff"/>
          </a:solidFill>
          <a:ln w="93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Calibri"/>
              </a:rPr>
              <a:t>INSTITUTIONAL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Right Triangle 8"/>
          <p:cNvGrpSpPr/>
          <p:nvPr/>
        </p:nvGrpSpPr>
        <p:grpSpPr>
          <a:xfrm>
            <a:off x="3597120" y="3078000"/>
            <a:ext cx="5370840" cy="1762200"/>
            <a:chOff x="3597120" y="3078000"/>
            <a:chExt cx="5370840" cy="1762200"/>
          </a:xfrm>
        </p:grpSpPr>
        <p:pic>
          <p:nvPicPr>
            <p:cNvPr id="192" name="Right Triangle 8" descr=""/>
            <p:cNvPicPr/>
            <p:nvPr/>
          </p:nvPicPr>
          <p:blipFill>
            <a:blip r:embed="rId5"/>
            <a:stretch/>
          </p:blipFill>
          <p:spPr>
            <a:xfrm>
              <a:off x="3597120" y="3078000"/>
              <a:ext cx="537084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 rot="16200000">
              <a:off x="7196040" y="3344400"/>
              <a:ext cx="817560" cy="17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TextBox 38"/>
          <p:cNvSpPr/>
          <p:nvPr/>
        </p:nvSpPr>
        <p:spPr>
          <a:xfrm>
            <a:off x="457200" y="87300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00"/>
                </a:solidFill>
                <a:latin typeface="Calibri"/>
              </a:rPr>
              <a:t>FOUNDATIONAL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39"/>
          <p:cNvSpPr/>
          <p:nvPr/>
        </p:nvSpPr>
        <p:spPr>
          <a:xfrm>
            <a:off x="2971800" y="87300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00"/>
                </a:solidFill>
                <a:latin typeface="Calibri"/>
              </a:rPr>
              <a:t>DEMONSTRA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74"/>
          <p:cNvSpPr/>
          <p:nvPr/>
        </p:nvSpPr>
        <p:spPr>
          <a:xfrm>
            <a:off x="5370480" y="8730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00"/>
                </a:solidFill>
                <a:latin typeface="Calibri"/>
              </a:rPr>
              <a:t>INVESTMENT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itle 1"/>
          <p:cNvSpPr/>
          <p:nvPr/>
        </p:nvSpPr>
        <p:spPr>
          <a:xfrm>
            <a:off x="646200" y="34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c00000"/>
                </a:solidFill>
                <a:latin typeface="Calibri"/>
              </a:rPr>
              <a:t>Generic GEF Theory of Chang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02"/>
          <p:cNvSpPr/>
          <p:nvPr/>
        </p:nvSpPr>
        <p:spPr>
          <a:xfrm rot="20556600">
            <a:off x="5468400" y="3611160"/>
            <a:ext cx="359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31511f"/>
                </a:solidFill>
                <a:latin typeface="Calibri"/>
              </a:rPr>
              <a:t>Stress re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66"/>
          <p:cNvGrpSpPr/>
          <p:nvPr/>
        </p:nvGrpSpPr>
        <p:grpSpPr>
          <a:xfrm>
            <a:off x="3998880" y="3522960"/>
            <a:ext cx="5063760" cy="1201320"/>
            <a:chOff x="3998880" y="3522960"/>
            <a:chExt cx="5063760" cy="1201320"/>
          </a:xfrm>
        </p:grpSpPr>
        <p:grpSp>
          <p:nvGrpSpPr>
            <p:cNvPr id="200" name="Right Triangle 21"/>
            <p:cNvGrpSpPr/>
            <p:nvPr/>
          </p:nvGrpSpPr>
          <p:grpSpPr>
            <a:xfrm>
              <a:off x="3998880" y="3548160"/>
              <a:ext cx="4993560" cy="1176120"/>
              <a:chOff x="3998880" y="3548160"/>
              <a:chExt cx="4993560" cy="1176120"/>
            </a:xfrm>
          </p:grpSpPr>
          <p:pic>
            <p:nvPicPr>
              <p:cNvPr id="201" name="Right Triangle 21" descr=""/>
              <p:cNvPicPr/>
              <p:nvPr/>
            </p:nvPicPr>
            <p:blipFill>
              <a:blip r:embed="rId6"/>
              <a:stretch/>
            </p:blipFill>
            <p:spPr>
              <a:xfrm>
                <a:off x="3998880" y="3548160"/>
                <a:ext cx="4993560" cy="1176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" name=""/>
              <p:cNvSpPr/>
              <p:nvPr/>
            </p:nvSpPr>
            <p:spPr>
              <a:xfrm rot="16200000">
                <a:off x="7446600" y="3478680"/>
                <a:ext cx="538200" cy="162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TextBox 105"/>
            <p:cNvSpPr/>
            <p:nvPr/>
          </p:nvSpPr>
          <p:spPr>
            <a:xfrm rot="20793000">
              <a:off x="5831640" y="3895920"/>
              <a:ext cx="3242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Calibri"/>
                </a:rPr>
                <a:t>Change in environmental stat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69"/>
          <p:cNvGrpSpPr/>
          <p:nvPr/>
        </p:nvGrpSpPr>
        <p:grpSpPr>
          <a:xfrm>
            <a:off x="7148520" y="5257800"/>
            <a:ext cx="1700280" cy="387360"/>
            <a:chOff x="7148520" y="5257800"/>
            <a:chExt cx="1700280" cy="387360"/>
          </a:xfrm>
        </p:grpSpPr>
        <p:grpSp>
          <p:nvGrpSpPr>
            <p:cNvPr id="205" name="Straight Connector 5"/>
            <p:cNvGrpSpPr/>
            <p:nvPr/>
          </p:nvGrpSpPr>
          <p:grpSpPr>
            <a:xfrm>
              <a:off x="7148520" y="5266440"/>
              <a:ext cx="357840" cy="378720"/>
              <a:chOff x="7148520" y="5266440"/>
              <a:chExt cx="357840" cy="378720"/>
            </a:xfrm>
          </p:grpSpPr>
          <p:pic>
            <p:nvPicPr>
              <p:cNvPr id="206" name="Straight Connector 5" descr=""/>
              <p:cNvPicPr/>
              <p:nvPr/>
            </p:nvPicPr>
            <p:blipFill>
              <a:blip r:embed="rId7"/>
              <a:stretch/>
            </p:blipFill>
            <p:spPr>
              <a:xfrm>
                <a:off x="7148520" y="5266440"/>
                <a:ext cx="357840" cy="37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"/>
              <p:cNvSpPr/>
              <p:nvPr/>
            </p:nvSpPr>
            <p:spPr>
              <a:xfrm rot="9339600">
                <a:off x="7224480" y="5335920"/>
                <a:ext cx="215640" cy="24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TextBox 78"/>
            <p:cNvSpPr/>
            <p:nvPr/>
          </p:nvSpPr>
          <p:spPr>
            <a:xfrm>
              <a:off x="7460640" y="5257800"/>
              <a:ext cx="138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</a:rPr>
                <a:t>Adaptive management / Learnin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65"/>
          <p:cNvGrpSpPr/>
          <p:nvPr/>
        </p:nvGrpSpPr>
        <p:grpSpPr>
          <a:xfrm>
            <a:off x="4191120" y="4058280"/>
            <a:ext cx="4910040" cy="720720"/>
            <a:chOff x="4191120" y="4058280"/>
            <a:chExt cx="4910040" cy="720720"/>
          </a:xfrm>
        </p:grpSpPr>
        <p:sp>
          <p:nvSpPr>
            <p:cNvPr id="210" name="Right Triangle 33"/>
            <p:cNvSpPr/>
            <p:nvPr/>
          </p:nvSpPr>
          <p:spPr>
            <a:xfrm rot="16200000">
              <a:off x="6244200" y="2017080"/>
              <a:ext cx="653760" cy="4760280"/>
            </a:xfrm>
            <a:prstGeom prst="rtTriangle">
              <a:avLst/>
            </a:prstGeom>
            <a:solidFill>
              <a:srgbClr val="9bbb59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Box 90"/>
            <p:cNvSpPr/>
            <p:nvPr/>
          </p:nvSpPr>
          <p:spPr>
            <a:xfrm rot="21133200">
              <a:off x="5797080" y="4280040"/>
              <a:ext cx="3300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Calibri"/>
                </a:rPr>
                <a:t>Environmentally sustainable develop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23"/>
          <p:cNvGrpSpPr/>
          <p:nvPr/>
        </p:nvGrpSpPr>
        <p:grpSpPr>
          <a:xfrm>
            <a:off x="152280" y="3211560"/>
            <a:ext cx="2352960" cy="1395360"/>
            <a:chOff x="152280" y="3211560"/>
            <a:chExt cx="2352960" cy="1395360"/>
          </a:xfrm>
        </p:grpSpPr>
        <p:grpSp>
          <p:nvGrpSpPr>
            <p:cNvPr id="213" name="Oval 36"/>
            <p:cNvGrpSpPr/>
            <p:nvPr/>
          </p:nvGrpSpPr>
          <p:grpSpPr>
            <a:xfrm>
              <a:off x="152280" y="3211560"/>
              <a:ext cx="2352960" cy="1395360"/>
              <a:chOff x="152280" y="3211560"/>
              <a:chExt cx="2352960" cy="1395360"/>
            </a:xfrm>
          </p:grpSpPr>
          <p:pic>
            <p:nvPicPr>
              <p:cNvPr id="214" name="Oval 36" descr=""/>
              <p:cNvPicPr/>
              <p:nvPr/>
            </p:nvPicPr>
            <p:blipFill>
              <a:blip r:embed="rId8"/>
              <a:stretch/>
            </p:blipFill>
            <p:spPr>
              <a:xfrm>
                <a:off x="152280" y="3211560"/>
                <a:ext cx="2352960" cy="139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538560" y="3432960"/>
                <a:ext cx="1585800" cy="91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Oval 4"/>
            <p:cNvSpPr/>
            <p:nvPr/>
          </p:nvSpPr>
          <p:spPr>
            <a:xfrm>
              <a:off x="530640" y="3257640"/>
              <a:ext cx="1585800" cy="30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120" rIns="15120" tIns="15120" bIns="1512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KNOWLEDGE &amp; INFORMA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Group 24"/>
          <p:cNvGrpSpPr/>
          <p:nvPr/>
        </p:nvGrpSpPr>
        <p:grpSpPr>
          <a:xfrm>
            <a:off x="152280" y="1611360"/>
            <a:ext cx="2352960" cy="1395360"/>
            <a:chOff x="152280" y="1611360"/>
            <a:chExt cx="2352960" cy="1395360"/>
          </a:xfrm>
        </p:grpSpPr>
        <p:grpSp>
          <p:nvGrpSpPr>
            <p:cNvPr id="218" name="Oval 39"/>
            <p:cNvGrpSpPr/>
            <p:nvPr/>
          </p:nvGrpSpPr>
          <p:grpSpPr>
            <a:xfrm>
              <a:off x="152280" y="1611360"/>
              <a:ext cx="2352960" cy="1395360"/>
              <a:chOff x="152280" y="1611360"/>
              <a:chExt cx="2352960" cy="1395360"/>
            </a:xfrm>
          </p:grpSpPr>
          <p:pic>
            <p:nvPicPr>
              <p:cNvPr id="219" name="Oval 39" descr=""/>
              <p:cNvPicPr/>
              <p:nvPr/>
            </p:nvPicPr>
            <p:blipFill>
              <a:blip r:embed="rId9"/>
              <a:stretch/>
            </p:blipFill>
            <p:spPr>
              <a:xfrm>
                <a:off x="152280" y="1611360"/>
                <a:ext cx="2352960" cy="139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0" name=""/>
              <p:cNvSpPr/>
              <p:nvPr/>
            </p:nvSpPr>
            <p:spPr>
              <a:xfrm>
                <a:off x="538560" y="1835640"/>
                <a:ext cx="1585800" cy="91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Oval 4"/>
            <p:cNvSpPr/>
            <p:nvPr/>
          </p:nvSpPr>
          <p:spPr>
            <a:xfrm>
              <a:off x="530640" y="1660320"/>
              <a:ext cx="1585800" cy="30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120" rIns="15120" tIns="15120" bIns="1512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GOVERNANCE FRAMEWORK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Oval 41"/>
          <p:cNvGrpSpPr/>
          <p:nvPr/>
        </p:nvGrpSpPr>
        <p:grpSpPr>
          <a:xfrm>
            <a:off x="158760" y="2004840"/>
            <a:ext cx="1268280" cy="811440"/>
            <a:chOff x="158760" y="2004840"/>
            <a:chExt cx="1268280" cy="811440"/>
          </a:xfrm>
        </p:grpSpPr>
        <p:pic>
          <p:nvPicPr>
            <p:cNvPr id="223" name="Oval 41" descr=""/>
            <p:cNvPicPr/>
            <p:nvPr/>
          </p:nvPicPr>
          <p:blipFill>
            <a:blip r:embed="rId10"/>
            <a:stretch/>
          </p:blipFill>
          <p:spPr>
            <a:xfrm>
              <a:off x="158760" y="2004840"/>
              <a:ext cx="1268280" cy="8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388800" y="2144880"/>
              <a:ext cx="81468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1511f"/>
                  </a:solidFill>
                  <a:latin typeface="Calibri"/>
                </a:rPr>
                <a:t>Policy, legal &amp; regulatory framework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Oval 42"/>
          <p:cNvGrpSpPr/>
          <p:nvPr/>
        </p:nvGrpSpPr>
        <p:grpSpPr>
          <a:xfrm>
            <a:off x="244440" y="3535200"/>
            <a:ext cx="1200240" cy="914400"/>
            <a:chOff x="244440" y="3535200"/>
            <a:chExt cx="1200240" cy="914400"/>
          </a:xfrm>
        </p:grpSpPr>
        <p:pic>
          <p:nvPicPr>
            <p:cNvPr id="226" name="Oval 42" descr=""/>
            <p:cNvPicPr/>
            <p:nvPr/>
          </p:nvPicPr>
          <p:blipFill>
            <a:blip r:embed="rId11"/>
            <a:stretch/>
          </p:blipFill>
          <p:spPr>
            <a:xfrm>
              <a:off x="244440" y="3535200"/>
              <a:ext cx="120024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463680" y="3687840"/>
              <a:ext cx="7668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1511f"/>
                  </a:solidFill>
                  <a:latin typeface="Calibri"/>
                </a:rPr>
                <a:t>Information-sharing &amp; acces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Oval 43"/>
          <p:cNvGrpSpPr/>
          <p:nvPr/>
        </p:nvGrpSpPr>
        <p:grpSpPr>
          <a:xfrm>
            <a:off x="1158840" y="3565440"/>
            <a:ext cx="1260360" cy="622440"/>
            <a:chOff x="1158840" y="3565440"/>
            <a:chExt cx="1260360" cy="622440"/>
          </a:xfrm>
        </p:grpSpPr>
        <p:pic>
          <p:nvPicPr>
            <p:cNvPr id="229" name="Oval 43" descr=""/>
            <p:cNvPicPr/>
            <p:nvPr/>
          </p:nvPicPr>
          <p:blipFill>
            <a:blip r:embed="rId12"/>
            <a:stretch/>
          </p:blipFill>
          <p:spPr>
            <a:xfrm>
              <a:off x="1158840" y="3565440"/>
              <a:ext cx="126036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1386000" y="3676680"/>
              <a:ext cx="80964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1511f"/>
                  </a:solidFill>
                  <a:latin typeface="Calibri"/>
                </a:rPr>
                <a:t>Awareness-raisin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Straight Connector 5"/>
          <p:cNvGrpSpPr/>
          <p:nvPr/>
        </p:nvGrpSpPr>
        <p:grpSpPr>
          <a:xfrm>
            <a:off x="2298600" y="2876400"/>
            <a:ext cx="451080" cy="446400"/>
            <a:chOff x="2298600" y="2876400"/>
            <a:chExt cx="451080" cy="446400"/>
          </a:xfrm>
        </p:grpSpPr>
        <p:pic>
          <p:nvPicPr>
            <p:cNvPr id="232" name="Straight Connector 5" descr=""/>
            <p:cNvPicPr/>
            <p:nvPr/>
          </p:nvPicPr>
          <p:blipFill>
            <a:blip r:embed="rId13"/>
            <a:stretch/>
          </p:blipFill>
          <p:spPr>
            <a:xfrm>
              <a:off x="2298600" y="2876400"/>
              <a:ext cx="451080" cy="4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 rot="639000">
              <a:off x="2368440" y="2957400"/>
              <a:ext cx="2509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Straight Connector 5"/>
          <p:cNvGrpSpPr/>
          <p:nvPr/>
        </p:nvGrpSpPr>
        <p:grpSpPr>
          <a:xfrm>
            <a:off x="6205680" y="2359080"/>
            <a:ext cx="420480" cy="414360"/>
            <a:chOff x="6205680" y="2359080"/>
            <a:chExt cx="420480" cy="414360"/>
          </a:xfrm>
        </p:grpSpPr>
        <p:pic>
          <p:nvPicPr>
            <p:cNvPr id="235" name="Straight Connector 5" descr=""/>
            <p:cNvPicPr/>
            <p:nvPr/>
          </p:nvPicPr>
          <p:blipFill>
            <a:blip r:embed="rId14"/>
            <a:stretch/>
          </p:blipFill>
          <p:spPr>
            <a:xfrm>
              <a:off x="6205680" y="2359080"/>
              <a:ext cx="42048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 rot="9339600">
              <a:off x="6294240" y="2430360"/>
              <a:ext cx="25704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Straight Connector 5"/>
          <p:cNvGrpSpPr/>
          <p:nvPr/>
        </p:nvGrpSpPr>
        <p:grpSpPr>
          <a:xfrm>
            <a:off x="6278400" y="3597120"/>
            <a:ext cx="414360" cy="395280"/>
            <a:chOff x="6278400" y="3597120"/>
            <a:chExt cx="414360" cy="395280"/>
          </a:xfrm>
        </p:grpSpPr>
        <p:pic>
          <p:nvPicPr>
            <p:cNvPr id="238" name="Straight Connector 5" descr=""/>
            <p:cNvPicPr/>
            <p:nvPr/>
          </p:nvPicPr>
          <p:blipFill>
            <a:blip r:embed="rId15"/>
            <a:stretch/>
          </p:blipFill>
          <p:spPr>
            <a:xfrm>
              <a:off x="6278400" y="3597120"/>
              <a:ext cx="41436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 rot="9339600">
              <a:off x="6364440" y="3669840"/>
              <a:ext cx="25704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Oval 58"/>
          <p:cNvGrpSpPr/>
          <p:nvPr/>
        </p:nvGrpSpPr>
        <p:grpSpPr>
          <a:xfrm>
            <a:off x="1085760" y="2004840"/>
            <a:ext cx="1408320" cy="811440"/>
            <a:chOff x="1085760" y="2004840"/>
            <a:chExt cx="1408320" cy="811440"/>
          </a:xfrm>
        </p:grpSpPr>
        <p:pic>
          <p:nvPicPr>
            <p:cNvPr id="241" name="Oval 58" descr=""/>
            <p:cNvPicPr/>
            <p:nvPr/>
          </p:nvPicPr>
          <p:blipFill>
            <a:blip r:embed="rId16"/>
            <a:stretch/>
          </p:blipFill>
          <p:spPr>
            <a:xfrm>
              <a:off x="1085760" y="2004840"/>
              <a:ext cx="1408320" cy="8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1333440" y="2146320"/>
              <a:ext cx="91440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1511f"/>
                  </a:solidFill>
                  <a:latin typeface="Calibri"/>
                </a:rPr>
                <a:t>Administrative reform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65"/>
          <p:cNvGrpSpPr/>
          <p:nvPr/>
        </p:nvGrpSpPr>
        <p:grpSpPr>
          <a:xfrm>
            <a:off x="4989600" y="1177920"/>
            <a:ext cx="2514600" cy="1219320"/>
            <a:chOff x="4989600" y="1177920"/>
            <a:chExt cx="2514600" cy="1219320"/>
          </a:xfrm>
        </p:grpSpPr>
        <p:grpSp>
          <p:nvGrpSpPr>
            <p:cNvPr id="244" name="Group 29"/>
            <p:cNvGrpSpPr/>
            <p:nvPr/>
          </p:nvGrpSpPr>
          <p:grpSpPr>
            <a:xfrm>
              <a:off x="4989600" y="1177920"/>
              <a:ext cx="2460960" cy="1219320"/>
              <a:chOff x="4989600" y="1177920"/>
              <a:chExt cx="2460960" cy="1219320"/>
            </a:xfrm>
          </p:grpSpPr>
          <p:grpSp>
            <p:nvGrpSpPr>
              <p:cNvPr id="245" name="Oval 46"/>
              <p:cNvGrpSpPr/>
              <p:nvPr/>
            </p:nvGrpSpPr>
            <p:grpSpPr>
              <a:xfrm>
                <a:off x="4989600" y="1177920"/>
                <a:ext cx="2460960" cy="1219320"/>
                <a:chOff x="4989600" y="1177920"/>
                <a:chExt cx="2460960" cy="1219320"/>
              </a:xfrm>
            </p:grpSpPr>
            <p:pic>
              <p:nvPicPr>
                <p:cNvPr id="246" name="Oval 46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4989600" y="1177920"/>
                  <a:ext cx="2460960" cy="121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7" name=""/>
                <p:cNvSpPr/>
                <p:nvPr/>
              </p:nvSpPr>
              <p:spPr>
                <a:xfrm>
                  <a:off x="5393160" y="1375920"/>
                  <a:ext cx="1661760" cy="79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8" name="Oval 4"/>
              <p:cNvSpPr/>
              <p:nvPr/>
            </p:nvSpPr>
            <p:spPr>
              <a:xfrm>
                <a:off x="5262480" y="1290240"/>
                <a:ext cx="1907640" cy="19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5120" rIns="15120" tIns="15120" bIns="1512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524"/>
                  </a:spcAft>
                  <a:tabLst>
                    <a:tab algn="l" pos="0"/>
                    <a:tab algn="l" pos="533520"/>
                    <a:tab algn="l" pos="1066680"/>
                    <a:tab algn="l" pos="1600200"/>
                    <a:tab algn="l" pos="2133720"/>
                    <a:tab algn="l" pos="2666880"/>
                    <a:tab algn="l" pos="3200400"/>
                    <a:tab algn="l" pos="3733920"/>
                    <a:tab algn="l" pos="4267080"/>
                    <a:tab algn="l" pos="4800600"/>
                    <a:tab algn="l" pos="5334120"/>
                    <a:tab algn="l" pos="5867280"/>
                    <a:tab algn="l" pos="6400800"/>
                    <a:tab algn="l" pos="6934320"/>
                    <a:tab algn="l" pos="7467480"/>
                    <a:tab algn="l" pos="8001000"/>
                    <a:tab algn="l" pos="8534520"/>
                    <a:tab algn="l" pos="9067680"/>
                    <a:tab algn="l" pos="9601200"/>
                    <a:tab algn="l" pos="101347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Calibri"/>
                  </a:rPr>
                  <a:t>SCA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Oval 48"/>
            <p:cNvGrpSpPr/>
            <p:nvPr/>
          </p:nvGrpSpPr>
          <p:grpSpPr>
            <a:xfrm>
              <a:off x="5004720" y="1408680"/>
              <a:ext cx="1455480" cy="451080"/>
              <a:chOff x="5004720" y="1408680"/>
              <a:chExt cx="1455480" cy="451080"/>
            </a:xfrm>
          </p:grpSpPr>
          <p:pic>
            <p:nvPicPr>
              <p:cNvPr id="250" name="Oval 48" descr=""/>
              <p:cNvPicPr/>
              <p:nvPr/>
            </p:nvPicPr>
            <p:blipFill>
              <a:blip r:embed="rId18"/>
              <a:stretch/>
            </p:blipFill>
            <p:spPr>
              <a:xfrm>
                <a:off x="5004720" y="1408680"/>
                <a:ext cx="1455480" cy="45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"/>
              <p:cNvSpPr/>
              <p:nvPr/>
            </p:nvSpPr>
            <p:spPr>
              <a:xfrm>
                <a:off x="5260680" y="1497960"/>
                <a:ext cx="94896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1511f"/>
                    </a:solidFill>
                    <a:latin typeface="Calibri"/>
                  </a:rPr>
                  <a:t>Mainstreamin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Oval 49"/>
            <p:cNvGrpSpPr/>
            <p:nvPr/>
          </p:nvGrpSpPr>
          <p:grpSpPr>
            <a:xfrm>
              <a:off x="5076360" y="1676880"/>
              <a:ext cx="1157400" cy="487800"/>
              <a:chOff x="5076360" y="1676880"/>
              <a:chExt cx="1157400" cy="487800"/>
            </a:xfrm>
          </p:grpSpPr>
          <p:pic>
            <p:nvPicPr>
              <p:cNvPr id="253" name="Oval 49" descr=""/>
              <p:cNvPicPr/>
              <p:nvPr/>
            </p:nvPicPr>
            <p:blipFill>
              <a:blip r:embed="rId19"/>
              <a:stretch/>
            </p:blipFill>
            <p:spPr>
              <a:xfrm>
                <a:off x="5076360" y="1676880"/>
                <a:ext cx="1157400" cy="48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4" name=""/>
              <p:cNvSpPr/>
              <p:nvPr/>
            </p:nvSpPr>
            <p:spPr>
              <a:xfrm>
                <a:off x="5291640" y="1766880"/>
                <a:ext cx="738360" cy="26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1511f"/>
                    </a:solidFill>
                    <a:latin typeface="Calibri"/>
                  </a:rPr>
                  <a:t>Scaling-up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Oval 57"/>
            <p:cNvGrpSpPr/>
            <p:nvPr/>
          </p:nvGrpSpPr>
          <p:grpSpPr>
            <a:xfrm>
              <a:off x="5601240" y="1902600"/>
              <a:ext cx="1527120" cy="493920"/>
              <a:chOff x="5601240" y="1902600"/>
              <a:chExt cx="1527120" cy="493920"/>
            </a:xfrm>
          </p:grpSpPr>
          <p:pic>
            <p:nvPicPr>
              <p:cNvPr id="256" name="Oval 57" descr=""/>
              <p:cNvPicPr/>
              <p:nvPr/>
            </p:nvPicPr>
            <p:blipFill>
              <a:blip r:embed="rId20"/>
              <a:stretch/>
            </p:blipFill>
            <p:spPr>
              <a:xfrm>
                <a:off x="5601240" y="1902600"/>
                <a:ext cx="1527120" cy="493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7" name=""/>
              <p:cNvSpPr/>
              <p:nvPr/>
            </p:nvSpPr>
            <p:spPr>
              <a:xfrm>
                <a:off x="5868000" y="1995840"/>
                <a:ext cx="1001880" cy="26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1511f"/>
                    </a:solidFill>
                    <a:latin typeface="Calibri"/>
                  </a:rPr>
                  <a:t>Market chang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Oval 60"/>
            <p:cNvGrpSpPr/>
            <p:nvPr/>
          </p:nvGrpSpPr>
          <p:grpSpPr>
            <a:xfrm>
              <a:off x="6048720" y="1524600"/>
              <a:ext cx="1455480" cy="457200"/>
              <a:chOff x="6048720" y="1524600"/>
              <a:chExt cx="1455480" cy="457200"/>
            </a:xfrm>
          </p:grpSpPr>
          <p:pic>
            <p:nvPicPr>
              <p:cNvPr id="259" name="Oval 60" descr=""/>
              <p:cNvPicPr/>
              <p:nvPr/>
            </p:nvPicPr>
            <p:blipFill>
              <a:blip r:embed="rId21"/>
              <a:stretch/>
            </p:blipFill>
            <p:spPr>
              <a:xfrm>
                <a:off x="6048720" y="1524600"/>
                <a:ext cx="1455480" cy="45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"/>
              <p:cNvSpPr/>
              <p:nvPr/>
            </p:nvSpPr>
            <p:spPr>
              <a:xfrm>
                <a:off x="6304680" y="1609560"/>
                <a:ext cx="948960" cy="24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1511f"/>
                    </a:solidFill>
                    <a:latin typeface="Calibri"/>
                  </a:rPr>
                  <a:t>Replica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1" name="Oval 61"/>
          <p:cNvGrpSpPr/>
          <p:nvPr/>
        </p:nvGrpSpPr>
        <p:grpSpPr>
          <a:xfrm>
            <a:off x="1085760" y="4005360"/>
            <a:ext cx="1121040" cy="547560"/>
            <a:chOff x="1085760" y="4005360"/>
            <a:chExt cx="1121040" cy="547560"/>
          </a:xfrm>
        </p:grpSpPr>
        <p:pic>
          <p:nvPicPr>
            <p:cNvPr id="262" name="Oval 61" descr=""/>
            <p:cNvPicPr/>
            <p:nvPr/>
          </p:nvPicPr>
          <p:blipFill>
            <a:blip r:embed="rId22"/>
            <a:stretch/>
          </p:blipFill>
          <p:spPr>
            <a:xfrm>
              <a:off x="1085760" y="4005360"/>
              <a:ext cx="112104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1290600" y="4103640"/>
              <a:ext cx="71280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1511f"/>
                  </a:solidFill>
                  <a:latin typeface="Calibri"/>
                </a:rPr>
                <a:t>Knowledge genera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69"/>
          <p:cNvGrpSpPr/>
          <p:nvPr/>
        </p:nvGrpSpPr>
        <p:grpSpPr>
          <a:xfrm>
            <a:off x="2819520" y="1447920"/>
            <a:ext cx="2286000" cy="3159000"/>
            <a:chOff x="2819520" y="1447920"/>
            <a:chExt cx="2286000" cy="3159000"/>
          </a:xfrm>
        </p:grpSpPr>
        <p:grpSp>
          <p:nvGrpSpPr>
            <p:cNvPr id="265" name="Group 8"/>
            <p:cNvGrpSpPr/>
            <p:nvPr/>
          </p:nvGrpSpPr>
          <p:grpSpPr>
            <a:xfrm>
              <a:off x="2819520" y="1447920"/>
              <a:ext cx="2286000" cy="3159000"/>
              <a:chOff x="2819520" y="1447920"/>
              <a:chExt cx="2286000" cy="3159000"/>
            </a:xfrm>
          </p:grpSpPr>
          <p:grpSp>
            <p:nvGrpSpPr>
              <p:cNvPr id="266" name="Oval 16"/>
              <p:cNvGrpSpPr/>
              <p:nvPr/>
            </p:nvGrpSpPr>
            <p:grpSpPr>
              <a:xfrm>
                <a:off x="2819520" y="1447920"/>
                <a:ext cx="2286000" cy="3159000"/>
                <a:chOff x="2819520" y="1447920"/>
                <a:chExt cx="2286000" cy="3159000"/>
              </a:xfrm>
            </p:grpSpPr>
            <p:pic>
              <p:nvPicPr>
                <p:cNvPr id="267" name="Oval 16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2819520" y="1447920"/>
                  <a:ext cx="2286000" cy="315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8" name=""/>
                <p:cNvSpPr/>
                <p:nvPr/>
              </p:nvSpPr>
              <p:spPr>
                <a:xfrm>
                  <a:off x="3194280" y="1927440"/>
                  <a:ext cx="1542600" cy="215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9" name="Oval 4"/>
              <p:cNvSpPr/>
              <p:nvPr/>
            </p:nvSpPr>
            <p:spPr>
              <a:xfrm>
                <a:off x="3072960" y="1701360"/>
                <a:ext cx="177048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5120" rIns="15120" tIns="15120" bIns="1512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476"/>
                  </a:spcAft>
                  <a:tabLst>
                    <a:tab algn="l" pos="0"/>
                    <a:tab algn="l" pos="533520"/>
                    <a:tab algn="l" pos="1066680"/>
                    <a:tab algn="l" pos="1600200"/>
                    <a:tab algn="l" pos="2133720"/>
                    <a:tab algn="l" pos="2666880"/>
                    <a:tab algn="l" pos="3200400"/>
                    <a:tab algn="l" pos="3733920"/>
                    <a:tab algn="l" pos="4267080"/>
                    <a:tab algn="l" pos="4800600"/>
                    <a:tab algn="l" pos="5334120"/>
                    <a:tab algn="l" pos="5867280"/>
                    <a:tab algn="l" pos="6400800"/>
                    <a:tab algn="l" pos="6934320"/>
                    <a:tab algn="l" pos="7467480"/>
                    <a:tab algn="l" pos="8001000"/>
                    <a:tab algn="l" pos="8534520"/>
                    <a:tab algn="l" pos="9067680"/>
                    <a:tab algn="l" pos="9601200"/>
                    <a:tab algn="l" pos="10134720"/>
                    <a:tab algn="l" pos="1066788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Calibri"/>
                  </a:rPr>
                  <a:t>IMPLEMENTING STRATEGI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Oval 18"/>
            <p:cNvGrpSpPr/>
            <p:nvPr/>
          </p:nvGrpSpPr>
          <p:grpSpPr>
            <a:xfrm>
              <a:off x="2913840" y="2042280"/>
              <a:ext cx="1255680" cy="700920"/>
              <a:chOff x="2913840" y="2042280"/>
              <a:chExt cx="1255680" cy="700920"/>
            </a:xfrm>
          </p:grpSpPr>
          <p:pic>
            <p:nvPicPr>
              <p:cNvPr id="271" name="Oval 18" descr=""/>
              <p:cNvPicPr/>
              <p:nvPr/>
            </p:nvPicPr>
            <p:blipFill>
              <a:blip r:embed="rId24"/>
              <a:stretch/>
            </p:blipFill>
            <p:spPr>
              <a:xfrm>
                <a:off x="2913840" y="2042280"/>
                <a:ext cx="1255680" cy="70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2" name=""/>
              <p:cNvSpPr/>
              <p:nvPr/>
            </p:nvSpPr>
            <p:spPr>
              <a:xfrm>
                <a:off x="3138840" y="2162880"/>
                <a:ext cx="808200" cy="41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31511f"/>
                    </a:solidFill>
                    <a:latin typeface="Calibri"/>
                  </a:rPr>
                  <a:t>Technologies &amp; approache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Oval 23"/>
            <p:cNvGrpSpPr/>
            <p:nvPr/>
          </p:nvGrpSpPr>
          <p:grpSpPr>
            <a:xfrm>
              <a:off x="2834640" y="2633760"/>
              <a:ext cx="1414440" cy="768240"/>
              <a:chOff x="2834640" y="2633760"/>
              <a:chExt cx="1414440" cy="768240"/>
            </a:xfrm>
          </p:grpSpPr>
          <p:pic>
            <p:nvPicPr>
              <p:cNvPr id="274" name="Oval 23" descr=""/>
              <p:cNvPicPr/>
              <p:nvPr/>
            </p:nvPicPr>
            <p:blipFill>
              <a:blip r:embed="rId25"/>
              <a:stretch/>
            </p:blipFill>
            <p:spPr>
              <a:xfrm>
                <a:off x="2834640" y="2633760"/>
                <a:ext cx="1414440" cy="768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5" name=""/>
              <p:cNvSpPr/>
              <p:nvPr/>
            </p:nvSpPr>
            <p:spPr>
              <a:xfrm>
                <a:off x="3085200" y="2764080"/>
                <a:ext cx="916200" cy="46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31511f"/>
                    </a:solidFill>
                    <a:latin typeface="Calibri"/>
                  </a:rPr>
                  <a:t>Organizational structures &amp; arrangement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Oval 59"/>
            <p:cNvGrpSpPr/>
            <p:nvPr/>
          </p:nvGrpSpPr>
          <p:grpSpPr>
            <a:xfrm>
              <a:off x="3749040" y="2176560"/>
              <a:ext cx="1341000" cy="981360"/>
              <a:chOff x="3749040" y="2176560"/>
              <a:chExt cx="1341000" cy="981360"/>
            </a:xfrm>
          </p:grpSpPr>
          <p:pic>
            <p:nvPicPr>
              <p:cNvPr id="277" name="Oval 59" descr=""/>
              <p:cNvPicPr/>
              <p:nvPr/>
            </p:nvPicPr>
            <p:blipFill>
              <a:blip r:embed="rId26"/>
              <a:stretch/>
            </p:blipFill>
            <p:spPr>
              <a:xfrm>
                <a:off x="3749040" y="2176560"/>
                <a:ext cx="1341000" cy="98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8" name=""/>
              <p:cNvSpPr/>
              <p:nvPr/>
            </p:nvSpPr>
            <p:spPr>
              <a:xfrm>
                <a:off x="3989880" y="2338200"/>
                <a:ext cx="868320" cy="61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31511f"/>
                    </a:solidFill>
                    <a:latin typeface="Calibri"/>
                  </a:rPr>
                  <a:t>Financial mechanisms for adoption &amp; sustainability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Rectangle 68"/>
            <p:cNvSpPr/>
            <p:nvPr/>
          </p:nvSpPr>
          <p:spPr>
            <a:xfrm>
              <a:off x="3127320" y="3429360"/>
              <a:ext cx="18277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31511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1511f"/>
                  </a:solidFill>
                  <a:latin typeface="Arial"/>
                </a:rPr>
                <a:t>Promoting champion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1511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1511f"/>
                  </a:solidFill>
                  <a:latin typeface="Arial"/>
                </a:rPr>
                <a:t>Building on promising initiativ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1511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1511f"/>
                  </a:solidFill>
                  <a:latin typeface="Arial"/>
                </a:rPr>
                <a:t>Raising profile of initiativ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1511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1511f"/>
                  </a:solidFill>
                  <a:latin typeface="Arial"/>
                </a:rPr>
                <a:t>Removal of barrier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1511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1511f"/>
                  </a:solidFill>
                  <a:latin typeface="Arial"/>
                </a:rPr>
                <a:t>Innova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ree quality assurance advis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Recognized experts from developed, newly emerging, and developing n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Ongoing advice and comments to the replenishment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ference grou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Formed by staff from the GEF Agencies independent evaluation off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To provide peer reviews of sub-studies and other deliver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Will provide time to allow for meaningful review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4C97A-A055-46F6-BF7D-417A423E09B5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rst report: end of 20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A meta-evaluation approach, drawing on existing GEF evalu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al report: end of 2013 or early 20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inal report will be tackled trough separate evaluation stu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0B5AA-1AB8-4CE4-A5D9-C5EC82CDFCA5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1212840" y="42840"/>
            <a:ext cx="7937640" cy="11271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 txBox="1"/>
          <p:nvPr/>
        </p:nvSpPr>
        <p:spPr>
          <a:xfrm>
            <a:off x="1219320" y="1219320"/>
            <a:ext cx="6858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levance of GEF to conventions guid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tings on outcomes and sustainability of finished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tings of progress toward impact of finished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ends in catalytic role of GEF (foundation, demonstration and/or investment project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ends in ownership and country drivenn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tter understanding of GEF longer term impa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ends in performance issues such as cofunding, management costs, quality at entry and supervi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ends in the implementation and achievements of the focal areas of the GE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723888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884C6-A51C-4BE8-B3D8-6F8BD67E5119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1212840" y="128520"/>
            <a:ext cx="7937640" cy="117648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 txBox="1"/>
          <p:nvPr/>
        </p:nvSpPr>
        <p:spPr>
          <a:xfrm>
            <a:off x="1218960" y="11430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ends in global environmental problems and the relevance of GEF -- will include the emergence of new financ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more in-depth look at focal area strategies and at the existing impact evide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verage of the reform process: GEF project cycle and modalities, direct access, STAR, Paragraph 2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overnance of the GEF, donor performance and resources mobil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role of the private sector and civil societ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oss-cutting policies: gender, participation, safegurads, and knowledge sha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pdate of the SGP evaluation (since 200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role of STA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6AFD7-78FD-4391-894C-19051207F869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1219320" y="1218960"/>
            <a:ext cx="68580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RBM, Monitoring &amp; Evalu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&amp;E in the GEF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&amp;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levels and responsible Ag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M&amp;E Polic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nimum requir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le of the Focal Poi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Fifth Overall Performance Study (OPS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jective of the Overall Performance Stud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valuation streams &amp; OPS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ory of 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ent of OPS5 repo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Knowledge Sharing and Community of Pract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Questions &amp; Answ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B5D7D-003A-41ED-A9D2-9353931977EC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S5 audience includ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replenishment participa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GEF Counc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Through the Assembly the members of GE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dings will be shared with other GEF part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GEF Secretari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GEF Ag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STA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NGO Net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Project proponents and oth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3F313-F5CB-4856-BE88-10277A363B9D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 txBox="1"/>
          <p:nvPr/>
        </p:nvSpPr>
        <p:spPr>
          <a:xfrm>
            <a:off x="1219320" y="1439640"/>
            <a:ext cx="6858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&amp;E contributes to knowledge building and organizational improv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1859c"/>
                </a:solidFill>
                <a:latin typeface="Calibri"/>
              </a:rPr>
              <a:t>Findings and lessons should be accessible to target audiences in a user-friendly wa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1859c"/>
                </a:solidFill>
                <a:latin typeface="Calibri"/>
              </a:rPr>
              <a:t>Evaluation reports should be subject to a dynamic dissemination strate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nowledge sharing enables partners to capitalize on lessons learned from experienc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urpose of KM in the GEF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1859c"/>
                </a:solidFill>
                <a:latin typeface="Calibri"/>
              </a:rPr>
              <a:t>Promotion of a culture of lear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1859c"/>
                </a:solidFill>
                <a:latin typeface="Calibri"/>
              </a:rPr>
              <a:t>Application of lessons lear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1859c"/>
                </a:solidFill>
                <a:latin typeface="Calibri"/>
              </a:rPr>
              <a:t>Feedback to new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ED82E-5FC2-485D-922A-971B24C501CD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Title 1" descr=""/>
          <p:cNvPicPr/>
          <p:nvPr/>
        </p:nvPicPr>
        <p:blipFill>
          <a:blip r:embed="rId1"/>
          <a:stretch/>
        </p:blipFill>
        <p:spPr>
          <a:xfrm>
            <a:off x="1212840" y="244440"/>
            <a:ext cx="7937640" cy="82872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 txBox="1"/>
          <p:nvPr/>
        </p:nvSpPr>
        <p:spPr>
          <a:xfrm>
            <a:off x="1218960" y="1447920"/>
            <a:ext cx="6629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8440" indent="-56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unity of practice on evaluation of climate change and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aring best practices on climate change and development evalu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00+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line tools for particip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25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Website: </a:t>
            </a:r>
            <a:r>
              <a:rPr b="0" lang="en-US" sz="17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climate-eval.or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Linkedin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Social med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News let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Blo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65DE4-70B0-4526-84FE-08EC9ECD1082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1" descr=""/>
          <p:cNvPicPr/>
          <p:nvPr/>
        </p:nvPicPr>
        <p:blipFill>
          <a:blip r:embed="rId3"/>
          <a:stretch/>
        </p:blipFill>
        <p:spPr>
          <a:xfrm>
            <a:off x="7772400" y="380880"/>
            <a:ext cx="1036800" cy="1024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Title 1" descr=""/>
          <p:cNvPicPr/>
          <p:nvPr/>
        </p:nvPicPr>
        <p:blipFill>
          <a:blip r:embed="rId1"/>
          <a:stretch/>
        </p:blipFill>
        <p:spPr>
          <a:xfrm>
            <a:off x="1212840" y="244440"/>
            <a:ext cx="7937640" cy="8287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 txBox="1"/>
          <p:nvPr/>
        </p:nvSpPr>
        <p:spPr>
          <a:xfrm>
            <a:off x="1218960" y="11430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national Conference in Alexandria in 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ld Bank publication (book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Calibri"/>
              </a:rPr>
              <a:t>Evaluating Climate Change and Development</a:t>
            </a: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 (van den Berg and Feinstein, 200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ectronic library (400+ repor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bin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u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Meta-Evaluation of Mitigation Stu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Adaptation Framework for M&amp;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3 more underw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nership – SEA Change , ID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SIDA, FOEN, GEF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0AE8B-5697-4BE4-87F3-48293EE40073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1" descr=""/>
          <p:cNvPicPr/>
          <p:nvPr/>
        </p:nvPicPr>
        <p:blipFill>
          <a:blip r:embed="rId2"/>
          <a:stretch/>
        </p:blipFill>
        <p:spPr>
          <a:xfrm>
            <a:off x="7772400" y="380880"/>
            <a:ext cx="1036800" cy="10242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344160" cy="7172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0" y="137124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1859c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gefeo.o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5"/>
          <p:cNvSpPr/>
          <p:nvPr/>
        </p:nvSpPr>
        <p:spPr>
          <a:xfrm>
            <a:off x="84240" y="6357960"/>
            <a:ext cx="5871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EFB4F-1F33-46E5-A934-D1C7DF960679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6D5D5-5391-4168-95E1-7A467367D332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pic>
        <p:nvPicPr>
          <p:cNvPr id="146" name="Title 1" descr=""/>
          <p:cNvPicPr/>
          <p:nvPr/>
        </p:nvPicPr>
        <p:blipFill>
          <a:blip r:embed="rId2"/>
          <a:stretch/>
        </p:blipFill>
        <p:spPr>
          <a:xfrm>
            <a:off x="1219320" y="195120"/>
            <a:ext cx="7931160" cy="878040"/>
          </a:xfrm>
          <a:prstGeom prst="rect">
            <a:avLst/>
          </a:prstGeom>
          <a:ln w="0">
            <a:noFill/>
          </a:ln>
        </p:spPr>
      </p:pic>
      <p:sp>
        <p:nvSpPr>
          <p:cNvPr id="147" name="Content Placeholder 2"/>
          <p:cNvSpPr/>
          <p:nvPr/>
        </p:nvSpPr>
        <p:spPr>
          <a:xfrm>
            <a:off x="1219320" y="1440000"/>
            <a:ext cx="68580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Result based management - setting goals and objectives, monitoring, learning and decision ma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Evaluation is a “reality check” on RB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RBM, especially monitoring, tell whether the organization is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  <a:ea typeface="Verdana"/>
              </a:rPr>
              <a:t>“on trac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Evaluation could tell whether the organization is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  <a:ea typeface="Verdana"/>
              </a:rPr>
              <a:t>“on the right trac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1219320" y="1440000"/>
            <a:ext cx="6858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1859c"/>
                </a:solidFill>
                <a:latin typeface="Calibri"/>
              </a:rPr>
              <a:t>Two overarching objectiv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mot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ccountabili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or the achievement of GEF objectives through the assessment of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resul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effectivenes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process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performance</a:t>
            </a:r>
            <a:r>
              <a:rPr b="0" lang="en-US" sz="2000" spc="-1" strike="noStrike">
                <a:solidFill>
                  <a:srgbClr val="31859c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 the partners involved in GEF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mot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earn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eedback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knowledge sharing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results and lessons learned among the GEF and its partners as a basis for decision making on policies, strategies, program management, programs, and projects; and to improv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knowledg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ED5A6-A28D-4A06-8600-D05FB9D22FFB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152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B4BF2-B23D-42A4-B280-739D103057CD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Content Placeholder 4" descr=""/>
          <p:cNvPicPr/>
          <p:nvPr/>
        </p:nvPicPr>
        <p:blipFill>
          <a:blip r:embed="rId2"/>
          <a:stretch/>
        </p:blipFill>
        <p:spPr>
          <a:xfrm>
            <a:off x="1143000" y="1066680"/>
            <a:ext cx="7391520" cy="5791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1219320" y="1294920"/>
            <a:ext cx="6858000" cy="570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sign of M&amp;E Pla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leted and fully budgeted M&amp;E plans by CEO endorsement for FSPs, and CEO approval for MS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log frames should align with GEF Focal Area result frameworks contained in the GEF-5 RB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mplementation of M&amp;E Pla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/program monitoring and supervision will include execution of the M&amp;E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ject/Program Evalu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FSPs and MSPs will be evalu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ports should be sent to the GEF EO within 12 months of project comple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ngagement of Operational Focal Poi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&amp;E plans should explain how GEF OFPs will be engaged in M&amp;E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C6601-F016-4813-B790-D56B5237F2A3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1219320" y="1440000"/>
            <a:ext cx="6858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</a:rPr>
              <a:t>Engagement of Operational Focal Poi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&amp;E plans should include how OFPs will be engag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Ps will be informed on M&amp;E activities, including Mid-Term Reviews and Terminal Evaluations, receiving drafts for comments and final repo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Ps will be invited to contribute to the management response (where applic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F Agencies keep track of the application of this requirement in their GEF financed projects and progra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>
              <a:spcBef>
                <a:spcPts val="451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48B5F-2DB3-4205-9928-4321811C991D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 txBox="1"/>
          <p:nvPr/>
        </p:nvSpPr>
        <p:spPr>
          <a:xfrm>
            <a:off x="1219320" y="1439640"/>
            <a:ext cx="6858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Keep track of GEF suppor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t the national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eep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akeholders inform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sult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 plans, implementation and results of GEF activities in the count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isseminat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&amp;E information, promoting use of evaluation recommendations an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essons lear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ssist the Evaluation Offi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s the first point of entry into a count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Identify major relevant stakehold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Coordinate meeting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Assist with agend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Coordinate country responses to these evalu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95590-5802-4495-A544-E8AA6E966664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Title 1" descr=""/>
          <p:cNvPicPr/>
          <p:nvPr/>
        </p:nvPicPr>
        <p:blipFill>
          <a:blip r:embed="rId1"/>
          <a:stretch/>
        </p:blipFill>
        <p:spPr>
          <a:xfrm>
            <a:off x="1152360" y="268200"/>
            <a:ext cx="8052120" cy="8049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1219320" y="1294920"/>
            <a:ext cx="6858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component: enhancing capacities to monitor and evaluate environmental impacts and trends (should be identified as a priority in the NCSA capacity developmen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ction pla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pacity development plan should b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mulated as a Medium-Size Pro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 integrated into a broader proposal that would be formulated as MSP or FSP (if MSP it should have 1:1 cofundin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ment of regional partnerships could be conside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nding available from $44m set-aside for capacit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EF977-C969-44A2-A6F3-830647DD603E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8T20:45:39Z</dcterms:created>
  <dc:creator>Soledad</dc:creator>
  <dc:description/>
  <dc:language>en-US</dc:language>
  <cp:lastModifiedBy>wb350798</cp:lastModifiedBy>
  <dcterms:modified xsi:type="dcterms:W3CDTF">2012-06-06T14:57:19Z</dcterms:modified>
  <cp:revision>352</cp:revision>
  <dc:subject/>
  <dc:title>Slide 1</dc:title>
</cp:coreProperties>
</file>