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08F2-FB6A-4B63-8453-D15CCC9C300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FCAF-0B20-4AA5-A004-A68AD1031B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DBA5-74A8-4CF1-95A6-D9861BAD1B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E884-5E4F-4290-BA7F-F16EEF3ED4B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EBAA-5DCC-4453-BCF4-FF2889E5ACD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5034-667A-4312-9418-70CE8EAE6F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05D6-567F-4BCE-A856-7747C8F3D4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8849-25E8-4302-A78F-8418FB560890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F61D-1DB7-41AF-AFA4-D9DC0B13639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A724-B2A3-43A8-8BEC-61FA06095EDE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EA6C-B21F-4C01-BAC2-D4ADE2BAC07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404-7FAD-4164-8FBB-2ABDA0E0D77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A68-9D70-4330-9C24-04816047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F72-9D9A-471F-B4A8-541CBDDA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BD7-A842-44CD-BD42-426F5EF4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F05-C8E6-4EA6-A592-A93126A9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372D-CA3B-471D-8A25-EDC54C88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5BA5-221D-491C-8637-34822AA0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AED4-F223-4138-AFBF-35FEC041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92A3-FDD0-45C9-8555-4EE86999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A51F-266B-4CD8-B273-6E3EAC22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42C0-E137-4F32-8B6D-59A7B8A5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2809-7D17-470D-AF6C-258ECBDC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4D4-5DF0-417B-B22C-928B4BD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788F-5CD4-4444-B8CB-ED9CA04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6DA9-5216-43DD-AFC8-807FE4F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EEA3-BAF9-46FA-B392-4D3B683E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B108-DCDC-4070-95E2-93E979BB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3C67-25C2-48FE-B1BE-03CC0566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D9521-0833-4A9E-BCD1-4A1F100FBC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9BAA5-F7C8-4598-8AE2-AC34775CBC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E589E-439F-451E-979A-6FFC1C2A70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F7F60-166C-484E-A461-D6128A2C5C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298AA-C501-494D-BCA1-10DE8E513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32E-CB39-4EA1-87D2-D69DC3B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9A4ED-7160-4485-B51D-2BFFF42F3C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0A61A-0C97-417D-9488-CBFBD88800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6F8E7-B15C-49A3-A8A0-69F7567895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5E10A-E2B9-4A79-8DDE-4DF61A171B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502A2-A57B-4AC8-B04E-A7F9177A9D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85106-1731-4F2B-866A-9BAEE69DEF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3AC1E-677B-4782-85B3-6C70508B9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168-89C2-43CB-984A-50A2FC9E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07E-17EC-4EAA-BF09-BE2B4C8F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45C-E76F-491F-827D-5C8568CF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ABD-BE44-40ED-B7D4-0FFD837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915-E160-474A-AA7B-0E961C1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C6A-7565-4253-A449-7E0720C5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299-950A-4CB6-B85C-94E8DFE50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3449-7799-4505-B32E-A834FBAD1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01B-8360-4E69-BD1A-CAFB29097A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9F43-09A4-4EC1-8499-329034314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30AB-5E3E-4652-A524-8166AFEE5FDC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3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160020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401920"/>
            <a:ext cx="6334200" cy="3243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untry Portfolio Evaluations countries have the opportunity to provide their perspective to Council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BD70-8175-4FE0-867D-4B0CD436D12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(OPS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29B7-F6AE-42EC-9FDC-89A4A83DB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89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sess the extent to which the GEF is achieving its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laid down in the GEF Instrument and reviews by the Assemb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developed and adopted by the GEF Council in operational policies and programs for GEF financed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nd to identify potential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0674-50F9-4AB7-B92F-1030691C3A9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element of OPS5 will be a meta-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79E4-8776-4630-AF2C-3E4DFFC6FD4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114300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upport for the creation of an environment that enables necessary changes to tak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nd…require constant attention and adju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esting of approaches that are intended to lead to GEBs if adopted on a broader 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roader implementation of results of foundational and demonstr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66"/>
          <p:cNvGrpSpPr/>
          <p:nvPr/>
        </p:nvGrpSpPr>
        <p:grpSpPr>
          <a:xfrm>
            <a:off x="5257800" y="2625840"/>
            <a:ext cx="2514600" cy="1108080"/>
            <a:chOff x="5257800" y="2625840"/>
            <a:chExt cx="2514600" cy="1108080"/>
          </a:xfrm>
        </p:grpSpPr>
        <p:grpSp>
          <p:nvGrpSpPr>
            <p:cNvPr id="180" name="Oval 45"/>
            <p:cNvGrpSpPr/>
            <p:nvPr/>
          </p:nvGrpSpPr>
          <p:grpSpPr>
            <a:xfrm>
              <a:off x="5257800" y="2625840"/>
              <a:ext cx="2514600" cy="1108080"/>
              <a:chOff x="5257800" y="2625840"/>
              <a:chExt cx="2514600" cy="1108080"/>
            </a:xfrm>
          </p:grpSpPr>
          <p:pic>
            <p:nvPicPr>
              <p:cNvPr id="181" name="Oval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2625840"/>
                <a:ext cx="251460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5914800" y="2908800"/>
                <a:ext cx="12034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3"/>
            <p:cNvGrpSpPr/>
            <p:nvPr/>
          </p:nvGrpSpPr>
          <p:grpSpPr>
            <a:xfrm>
              <a:off x="5604840" y="2902680"/>
              <a:ext cx="1823400" cy="546840"/>
              <a:chOff x="5604840" y="2902680"/>
              <a:chExt cx="1823400" cy="546840"/>
            </a:xfrm>
          </p:grpSpPr>
          <p:pic>
            <p:nvPicPr>
              <p:cNvPr id="184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4840" y="2902680"/>
                <a:ext cx="1713240" cy="28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4320" y="3038040"/>
                <a:ext cx="146340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604840" y="3173400"/>
                <a:ext cx="1823400" cy="27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Rectangle 62"/>
            <p:cNvSpPr/>
            <p:nvPr/>
          </p:nvSpPr>
          <p:spPr>
            <a:xfrm>
              <a:off x="5646600" y="2764080"/>
              <a:ext cx="174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006600"/>
                  </a:solidFill>
                  <a:latin typeface="Arial"/>
                </a:rPr>
                <a:t>BEHAVIORAL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71"/>
          <p:cNvSpPr/>
          <p:nvPr/>
        </p:nvSpPr>
        <p:spPr>
          <a:xfrm>
            <a:off x="6553080" y="4938840"/>
            <a:ext cx="2362320" cy="2764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8"/>
          <p:cNvSpPr/>
          <p:nvPr/>
        </p:nvSpPr>
        <p:spPr>
          <a:xfrm>
            <a:off x="3465360" y="4818240"/>
            <a:ext cx="3316320" cy="5522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TERMEDIAT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5"/>
          <p:cNvSpPr/>
          <p:nvPr/>
        </p:nvSpPr>
        <p:spPr>
          <a:xfrm>
            <a:off x="152280" y="4818240"/>
            <a:ext cx="3886200" cy="5522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STITU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ight Triangle 8"/>
          <p:cNvGrpSpPr/>
          <p:nvPr/>
        </p:nvGrpSpPr>
        <p:grpSpPr>
          <a:xfrm>
            <a:off x="3597120" y="3078000"/>
            <a:ext cx="5370840" cy="1762200"/>
            <a:chOff x="3597120" y="3078000"/>
            <a:chExt cx="5370840" cy="1762200"/>
          </a:xfrm>
        </p:grpSpPr>
        <p:pic>
          <p:nvPicPr>
            <p:cNvPr id="192" name="Right Triangle 8" descr=""/>
            <p:cNvPicPr/>
            <p:nvPr/>
          </p:nvPicPr>
          <p:blipFill>
            <a:blip r:embed="rId5"/>
            <a:stretch/>
          </p:blipFill>
          <p:spPr>
            <a:xfrm>
              <a:off x="3597120" y="3078000"/>
              <a:ext cx="537084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7196040" y="3344400"/>
              <a:ext cx="817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8"/>
          <p:cNvSpPr/>
          <p:nvPr/>
        </p:nvSpPr>
        <p:spPr>
          <a:xfrm>
            <a:off x="457200" y="873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FOUNDA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9"/>
          <p:cNvSpPr/>
          <p:nvPr/>
        </p:nvSpPr>
        <p:spPr>
          <a:xfrm>
            <a:off x="2971800" y="8730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DEMONSTRA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4"/>
          <p:cNvSpPr/>
          <p:nvPr/>
        </p:nvSpPr>
        <p:spPr>
          <a:xfrm>
            <a:off x="5370480" y="873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INVESTMENT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46200" y="3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Generic GEF Theory of 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2"/>
          <p:cNvSpPr/>
          <p:nvPr/>
        </p:nvSpPr>
        <p:spPr>
          <a:xfrm rot="20556600">
            <a:off x="5468400" y="3611160"/>
            <a:ext cx="35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31511f"/>
                </a:solidFill>
                <a:latin typeface="Calibri"/>
              </a:rPr>
              <a:t>Stres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6"/>
          <p:cNvGrpSpPr/>
          <p:nvPr/>
        </p:nvGrpSpPr>
        <p:grpSpPr>
          <a:xfrm>
            <a:off x="3998880" y="3522960"/>
            <a:ext cx="5063760" cy="1201320"/>
            <a:chOff x="3998880" y="3522960"/>
            <a:chExt cx="5063760" cy="1201320"/>
          </a:xfrm>
        </p:grpSpPr>
        <p:grpSp>
          <p:nvGrpSpPr>
            <p:cNvPr id="200" name="Right Triangle 21"/>
            <p:cNvGrpSpPr/>
            <p:nvPr/>
          </p:nvGrpSpPr>
          <p:grpSpPr>
            <a:xfrm>
              <a:off x="3998880" y="3548160"/>
              <a:ext cx="4993560" cy="1176120"/>
              <a:chOff x="3998880" y="3548160"/>
              <a:chExt cx="4993560" cy="1176120"/>
            </a:xfrm>
          </p:grpSpPr>
          <p:pic>
            <p:nvPicPr>
              <p:cNvPr id="201" name="Right Triangl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8880" y="3548160"/>
                <a:ext cx="49935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6200000">
                <a:off x="7446600" y="3478680"/>
                <a:ext cx="538200" cy="16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105"/>
            <p:cNvSpPr/>
            <p:nvPr/>
          </p:nvSpPr>
          <p:spPr>
            <a:xfrm rot="20793000">
              <a:off x="5831640" y="3895920"/>
              <a:ext cx="32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Calibri"/>
                </a:rPr>
                <a:t>Change in environmental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9"/>
          <p:cNvGrpSpPr/>
          <p:nvPr/>
        </p:nvGrpSpPr>
        <p:grpSpPr>
          <a:xfrm>
            <a:off x="7148520" y="5257800"/>
            <a:ext cx="1700280" cy="387360"/>
            <a:chOff x="7148520" y="5257800"/>
            <a:chExt cx="1700280" cy="387360"/>
          </a:xfrm>
        </p:grpSpPr>
        <p:grpSp>
          <p:nvGrpSpPr>
            <p:cNvPr id="205" name="Straight Connector 5"/>
            <p:cNvGrpSpPr/>
            <p:nvPr/>
          </p:nvGrpSpPr>
          <p:grpSpPr>
            <a:xfrm>
              <a:off x="7148520" y="5266440"/>
              <a:ext cx="357840" cy="378720"/>
              <a:chOff x="7148520" y="5266440"/>
              <a:chExt cx="357840" cy="378720"/>
            </a:xfrm>
          </p:grpSpPr>
          <p:pic>
            <p:nvPicPr>
              <p:cNvPr id="206" name="Straight Connector 5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8520" y="5266440"/>
                <a:ext cx="35784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9339600">
                <a:off x="7224480" y="5335920"/>
                <a:ext cx="21564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78"/>
            <p:cNvSpPr/>
            <p:nvPr/>
          </p:nvSpPr>
          <p:spPr>
            <a:xfrm>
              <a:off x="7460640" y="5257800"/>
              <a:ext cx="13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daptive management / Lear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65"/>
          <p:cNvGrpSpPr/>
          <p:nvPr/>
        </p:nvGrpSpPr>
        <p:grpSpPr>
          <a:xfrm>
            <a:off x="4191120" y="4058280"/>
            <a:ext cx="4910040" cy="720720"/>
            <a:chOff x="4191120" y="4058280"/>
            <a:chExt cx="4910040" cy="720720"/>
          </a:xfrm>
        </p:grpSpPr>
        <p:sp>
          <p:nvSpPr>
            <p:cNvPr id="210" name="Right Triangle 33"/>
            <p:cNvSpPr/>
            <p:nvPr/>
          </p:nvSpPr>
          <p:spPr>
            <a:xfrm rot="16200000">
              <a:off x="6244200" y="2017080"/>
              <a:ext cx="653760" cy="4760280"/>
            </a:xfrm>
            <a:prstGeom prst="rtTriangl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90"/>
            <p:cNvSpPr/>
            <p:nvPr/>
          </p:nvSpPr>
          <p:spPr>
            <a:xfrm rot="21133200">
              <a:off x="5797080" y="4280040"/>
              <a:ext cx="33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Calibri"/>
                </a:rPr>
                <a:t>Environmentally sustainabl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52280" y="3211560"/>
            <a:ext cx="2352960" cy="1395360"/>
            <a:chOff x="152280" y="3211560"/>
            <a:chExt cx="2352960" cy="1395360"/>
          </a:xfrm>
        </p:grpSpPr>
        <p:grpSp>
          <p:nvGrpSpPr>
            <p:cNvPr id="213" name="Oval 36"/>
            <p:cNvGrpSpPr/>
            <p:nvPr/>
          </p:nvGrpSpPr>
          <p:grpSpPr>
            <a:xfrm>
              <a:off x="152280" y="3211560"/>
              <a:ext cx="2352960" cy="1395360"/>
              <a:chOff x="152280" y="3211560"/>
              <a:chExt cx="2352960" cy="1395360"/>
            </a:xfrm>
          </p:grpSpPr>
          <p:pic>
            <p:nvPicPr>
              <p:cNvPr id="21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280" y="32115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38560" y="343296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4"/>
            <p:cNvSpPr/>
            <p:nvPr/>
          </p:nvSpPr>
          <p:spPr>
            <a:xfrm>
              <a:off x="530640" y="325764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KNOWLEDGE &amp; INFOR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152280" y="1611360"/>
            <a:ext cx="2352960" cy="1395360"/>
            <a:chOff x="152280" y="1611360"/>
            <a:chExt cx="2352960" cy="1395360"/>
          </a:xfrm>
        </p:grpSpPr>
        <p:grpSp>
          <p:nvGrpSpPr>
            <p:cNvPr id="218" name="Oval 39"/>
            <p:cNvGrpSpPr/>
            <p:nvPr/>
          </p:nvGrpSpPr>
          <p:grpSpPr>
            <a:xfrm>
              <a:off x="152280" y="1611360"/>
              <a:ext cx="2352960" cy="1395360"/>
              <a:chOff x="152280" y="1611360"/>
              <a:chExt cx="2352960" cy="1395360"/>
            </a:xfrm>
          </p:grpSpPr>
          <p:pic>
            <p:nvPicPr>
              <p:cNvPr id="219" name="Oval 3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280" y="16113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38560" y="183564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4"/>
            <p:cNvSpPr/>
            <p:nvPr/>
          </p:nvSpPr>
          <p:spPr>
            <a:xfrm>
              <a:off x="530640" y="166032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GOVERNANCE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Oval 41"/>
          <p:cNvGrpSpPr/>
          <p:nvPr/>
        </p:nvGrpSpPr>
        <p:grpSpPr>
          <a:xfrm>
            <a:off x="158760" y="2004840"/>
            <a:ext cx="1268280" cy="811440"/>
            <a:chOff x="158760" y="2004840"/>
            <a:chExt cx="1268280" cy="811440"/>
          </a:xfrm>
        </p:grpSpPr>
        <p:pic>
          <p:nvPicPr>
            <p:cNvPr id="223" name="Oval 41" descr=""/>
            <p:cNvPicPr/>
            <p:nvPr/>
          </p:nvPicPr>
          <p:blipFill>
            <a:blip r:embed="rId10"/>
            <a:stretch/>
          </p:blipFill>
          <p:spPr>
            <a:xfrm>
              <a:off x="158760" y="2004840"/>
              <a:ext cx="12682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88800" y="2144880"/>
              <a:ext cx="8146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Policy, legal &amp; regulatory frame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Oval 42"/>
          <p:cNvGrpSpPr/>
          <p:nvPr/>
        </p:nvGrpSpPr>
        <p:grpSpPr>
          <a:xfrm>
            <a:off x="244440" y="3535200"/>
            <a:ext cx="1200240" cy="914400"/>
            <a:chOff x="244440" y="3535200"/>
            <a:chExt cx="1200240" cy="914400"/>
          </a:xfrm>
        </p:grpSpPr>
        <p:pic>
          <p:nvPicPr>
            <p:cNvPr id="226" name="Oval 42" descr=""/>
            <p:cNvPicPr/>
            <p:nvPr/>
          </p:nvPicPr>
          <p:blipFill>
            <a:blip r:embed="rId11"/>
            <a:stretch/>
          </p:blipFill>
          <p:spPr>
            <a:xfrm>
              <a:off x="244440" y="3535200"/>
              <a:ext cx="1200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3680" y="3687840"/>
              <a:ext cx="766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Information-sharing &amp; 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43"/>
          <p:cNvGrpSpPr/>
          <p:nvPr/>
        </p:nvGrpSpPr>
        <p:grpSpPr>
          <a:xfrm>
            <a:off x="1158840" y="3565440"/>
            <a:ext cx="1260360" cy="622440"/>
            <a:chOff x="1158840" y="3565440"/>
            <a:chExt cx="1260360" cy="622440"/>
          </a:xfrm>
        </p:grpSpPr>
        <p:pic>
          <p:nvPicPr>
            <p:cNvPr id="229" name="Oval 43" descr=""/>
            <p:cNvPicPr/>
            <p:nvPr/>
          </p:nvPicPr>
          <p:blipFill>
            <a:blip r:embed="rId12"/>
            <a:stretch/>
          </p:blipFill>
          <p:spPr>
            <a:xfrm>
              <a:off x="1158840" y="3565440"/>
              <a:ext cx="1260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386000" y="3676680"/>
              <a:ext cx="8096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wareness-rai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Straight Connector 5"/>
          <p:cNvGrpSpPr/>
          <p:nvPr/>
        </p:nvGrpSpPr>
        <p:grpSpPr>
          <a:xfrm>
            <a:off x="2298600" y="2876400"/>
            <a:ext cx="451080" cy="446400"/>
            <a:chOff x="2298600" y="2876400"/>
            <a:chExt cx="451080" cy="446400"/>
          </a:xfrm>
        </p:grpSpPr>
        <p:pic>
          <p:nvPicPr>
            <p:cNvPr id="232" name="Straight Connector 5" descr=""/>
            <p:cNvPicPr/>
            <p:nvPr/>
          </p:nvPicPr>
          <p:blipFill>
            <a:blip r:embed="rId13"/>
            <a:stretch/>
          </p:blipFill>
          <p:spPr>
            <a:xfrm>
              <a:off x="2298600" y="287640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639000">
              <a:off x="2368440" y="2957400"/>
              <a:ext cx="25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Straight Connector 5"/>
          <p:cNvGrpSpPr/>
          <p:nvPr/>
        </p:nvGrpSpPr>
        <p:grpSpPr>
          <a:xfrm>
            <a:off x="6205680" y="2359080"/>
            <a:ext cx="420480" cy="414360"/>
            <a:chOff x="6205680" y="2359080"/>
            <a:chExt cx="420480" cy="414360"/>
          </a:xfrm>
        </p:grpSpPr>
        <p:pic>
          <p:nvPicPr>
            <p:cNvPr id="235" name="Straight Connector 5" descr=""/>
            <p:cNvPicPr/>
            <p:nvPr/>
          </p:nvPicPr>
          <p:blipFill>
            <a:blip r:embed="rId14"/>
            <a:stretch/>
          </p:blipFill>
          <p:spPr>
            <a:xfrm>
              <a:off x="6205680" y="2359080"/>
              <a:ext cx="4204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9339600">
              <a:off x="6294240" y="2430360"/>
              <a:ext cx="257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Straight Connector 5"/>
          <p:cNvGrpSpPr/>
          <p:nvPr/>
        </p:nvGrpSpPr>
        <p:grpSpPr>
          <a:xfrm>
            <a:off x="6278400" y="3597120"/>
            <a:ext cx="414360" cy="395280"/>
            <a:chOff x="6278400" y="3597120"/>
            <a:chExt cx="414360" cy="395280"/>
          </a:xfrm>
        </p:grpSpPr>
        <p:pic>
          <p:nvPicPr>
            <p:cNvPr id="238" name="Straight Connector 5" descr=""/>
            <p:cNvPicPr/>
            <p:nvPr/>
          </p:nvPicPr>
          <p:blipFill>
            <a:blip r:embed="rId15"/>
            <a:stretch/>
          </p:blipFill>
          <p:spPr>
            <a:xfrm>
              <a:off x="6278400" y="3597120"/>
              <a:ext cx="414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9339600">
              <a:off x="6364440" y="3669840"/>
              <a:ext cx="257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Oval 58"/>
          <p:cNvGrpSpPr/>
          <p:nvPr/>
        </p:nvGrpSpPr>
        <p:grpSpPr>
          <a:xfrm>
            <a:off x="1085760" y="2004840"/>
            <a:ext cx="1408320" cy="811440"/>
            <a:chOff x="1085760" y="2004840"/>
            <a:chExt cx="1408320" cy="811440"/>
          </a:xfrm>
        </p:grpSpPr>
        <p:pic>
          <p:nvPicPr>
            <p:cNvPr id="241" name="Oval 58" descr=""/>
            <p:cNvPicPr/>
            <p:nvPr/>
          </p:nvPicPr>
          <p:blipFill>
            <a:blip r:embed="rId16"/>
            <a:stretch/>
          </p:blipFill>
          <p:spPr>
            <a:xfrm>
              <a:off x="1085760" y="2004840"/>
              <a:ext cx="14083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33440" y="2146320"/>
              <a:ext cx="914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dministrative re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5"/>
          <p:cNvGrpSpPr/>
          <p:nvPr/>
        </p:nvGrpSpPr>
        <p:grpSpPr>
          <a:xfrm>
            <a:off x="4989600" y="1177920"/>
            <a:ext cx="2514600" cy="1219320"/>
            <a:chOff x="4989600" y="1177920"/>
            <a:chExt cx="2514600" cy="1219320"/>
          </a:xfrm>
        </p:grpSpPr>
        <p:grpSp>
          <p:nvGrpSpPr>
            <p:cNvPr id="244" name="Group 29"/>
            <p:cNvGrpSpPr/>
            <p:nvPr/>
          </p:nvGrpSpPr>
          <p:grpSpPr>
            <a:xfrm>
              <a:off x="4989600" y="1177920"/>
              <a:ext cx="2460960" cy="1219320"/>
              <a:chOff x="4989600" y="1177920"/>
              <a:chExt cx="2460960" cy="1219320"/>
            </a:xfrm>
          </p:grpSpPr>
          <p:grpSp>
            <p:nvGrpSpPr>
              <p:cNvPr id="245" name="Oval 46"/>
              <p:cNvGrpSpPr/>
              <p:nvPr/>
            </p:nvGrpSpPr>
            <p:grpSpPr>
              <a:xfrm>
                <a:off x="4989600" y="1177920"/>
                <a:ext cx="2460960" cy="1219320"/>
                <a:chOff x="4989600" y="1177920"/>
                <a:chExt cx="2460960" cy="1219320"/>
              </a:xfrm>
            </p:grpSpPr>
            <p:pic>
              <p:nvPicPr>
                <p:cNvPr id="246" name="Oval 4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89600" y="1177920"/>
                  <a:ext cx="2460960" cy="121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5393160" y="1375920"/>
                  <a:ext cx="166176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Oval 4"/>
              <p:cNvSpPr/>
              <p:nvPr/>
            </p:nvSpPr>
            <p:spPr>
              <a:xfrm>
                <a:off x="5262480" y="1290240"/>
                <a:ext cx="19076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SC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Oval 48"/>
            <p:cNvGrpSpPr/>
            <p:nvPr/>
          </p:nvGrpSpPr>
          <p:grpSpPr>
            <a:xfrm>
              <a:off x="5004720" y="1408680"/>
              <a:ext cx="1455480" cy="451080"/>
              <a:chOff x="5004720" y="1408680"/>
              <a:chExt cx="1455480" cy="451080"/>
            </a:xfrm>
          </p:grpSpPr>
          <p:pic>
            <p:nvPicPr>
              <p:cNvPr id="250" name="Oval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4720" y="1408680"/>
                <a:ext cx="14554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60680" y="1497960"/>
                <a:ext cx="948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instream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Oval 49"/>
            <p:cNvGrpSpPr/>
            <p:nvPr/>
          </p:nvGrpSpPr>
          <p:grpSpPr>
            <a:xfrm>
              <a:off x="5076360" y="1676880"/>
              <a:ext cx="1157400" cy="487800"/>
              <a:chOff x="5076360" y="1676880"/>
              <a:chExt cx="1157400" cy="487800"/>
            </a:xfrm>
          </p:grpSpPr>
          <p:pic>
            <p:nvPicPr>
              <p:cNvPr id="253" name="Oval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76360" y="1676880"/>
                <a:ext cx="11574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291640" y="1766880"/>
                <a:ext cx="738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Scaling-u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Oval 57"/>
            <p:cNvGrpSpPr/>
            <p:nvPr/>
          </p:nvGrpSpPr>
          <p:grpSpPr>
            <a:xfrm>
              <a:off x="5601240" y="1902600"/>
              <a:ext cx="1527120" cy="493920"/>
              <a:chOff x="5601240" y="1902600"/>
              <a:chExt cx="1527120" cy="493920"/>
            </a:xfrm>
          </p:grpSpPr>
          <p:pic>
            <p:nvPicPr>
              <p:cNvPr id="256" name="Oval 5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01240" y="1902600"/>
                <a:ext cx="152712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868000" y="1995840"/>
                <a:ext cx="1001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rket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Oval 60"/>
            <p:cNvGrpSpPr/>
            <p:nvPr/>
          </p:nvGrpSpPr>
          <p:grpSpPr>
            <a:xfrm>
              <a:off x="6048720" y="1524600"/>
              <a:ext cx="1455480" cy="457200"/>
              <a:chOff x="6048720" y="1524600"/>
              <a:chExt cx="1455480" cy="457200"/>
            </a:xfrm>
          </p:grpSpPr>
          <p:pic>
            <p:nvPicPr>
              <p:cNvPr id="259" name="Oval 6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8720" y="1524600"/>
                <a:ext cx="1455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6304680" y="1609560"/>
                <a:ext cx="9489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Oval 61"/>
          <p:cNvGrpSpPr/>
          <p:nvPr/>
        </p:nvGrpSpPr>
        <p:grpSpPr>
          <a:xfrm>
            <a:off x="1085760" y="4005360"/>
            <a:ext cx="1121040" cy="547560"/>
            <a:chOff x="1085760" y="4005360"/>
            <a:chExt cx="1121040" cy="547560"/>
          </a:xfrm>
        </p:grpSpPr>
        <p:pic>
          <p:nvPicPr>
            <p:cNvPr id="262" name="Oval 61" descr=""/>
            <p:cNvPicPr/>
            <p:nvPr/>
          </p:nvPicPr>
          <p:blipFill>
            <a:blip r:embed="rId22"/>
            <a:stretch/>
          </p:blipFill>
          <p:spPr>
            <a:xfrm>
              <a:off x="1085760" y="4005360"/>
              <a:ext cx="11210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0600" y="4103640"/>
              <a:ext cx="71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Knowledge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9"/>
          <p:cNvGrpSpPr/>
          <p:nvPr/>
        </p:nvGrpSpPr>
        <p:grpSpPr>
          <a:xfrm>
            <a:off x="2819520" y="1447920"/>
            <a:ext cx="2286000" cy="3159000"/>
            <a:chOff x="2819520" y="1447920"/>
            <a:chExt cx="2286000" cy="3159000"/>
          </a:xfrm>
        </p:grpSpPr>
        <p:grpSp>
          <p:nvGrpSpPr>
            <p:cNvPr id="265" name="Group 8"/>
            <p:cNvGrpSpPr/>
            <p:nvPr/>
          </p:nvGrpSpPr>
          <p:grpSpPr>
            <a:xfrm>
              <a:off x="2819520" y="1447920"/>
              <a:ext cx="2286000" cy="3159000"/>
              <a:chOff x="2819520" y="1447920"/>
              <a:chExt cx="2286000" cy="3159000"/>
            </a:xfrm>
          </p:grpSpPr>
          <p:grpSp>
            <p:nvGrpSpPr>
              <p:cNvPr id="266" name="Oval 16"/>
              <p:cNvGrpSpPr/>
              <p:nvPr/>
            </p:nvGrpSpPr>
            <p:grpSpPr>
              <a:xfrm>
                <a:off x="2819520" y="1447920"/>
                <a:ext cx="2286000" cy="3159000"/>
                <a:chOff x="2819520" y="1447920"/>
                <a:chExt cx="2286000" cy="3159000"/>
              </a:xfrm>
            </p:grpSpPr>
            <p:pic>
              <p:nvPicPr>
                <p:cNvPr id="267" name="Oval 1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819520" y="1447920"/>
                  <a:ext cx="2286000" cy="315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3194280" y="1927440"/>
                  <a:ext cx="1542600" cy="21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Oval 4"/>
              <p:cNvSpPr/>
              <p:nvPr/>
            </p:nvSpPr>
            <p:spPr>
              <a:xfrm>
                <a:off x="3072960" y="1701360"/>
                <a:ext cx="177048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IMPLEMENTING 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Oval 18"/>
            <p:cNvGrpSpPr/>
            <p:nvPr/>
          </p:nvGrpSpPr>
          <p:grpSpPr>
            <a:xfrm>
              <a:off x="2913840" y="2042280"/>
              <a:ext cx="1255680" cy="700920"/>
              <a:chOff x="2913840" y="2042280"/>
              <a:chExt cx="1255680" cy="700920"/>
            </a:xfrm>
          </p:grpSpPr>
          <p:pic>
            <p:nvPicPr>
              <p:cNvPr id="271" name="Oval 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13840" y="2042280"/>
                <a:ext cx="125568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138840" y="2162880"/>
                <a:ext cx="80820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Technologies &amp; approach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Oval 23"/>
            <p:cNvGrpSpPr/>
            <p:nvPr/>
          </p:nvGrpSpPr>
          <p:grpSpPr>
            <a:xfrm>
              <a:off x="2834640" y="2633760"/>
              <a:ext cx="1414440" cy="768240"/>
              <a:chOff x="2834640" y="2633760"/>
              <a:chExt cx="1414440" cy="768240"/>
            </a:xfrm>
          </p:grpSpPr>
          <p:pic>
            <p:nvPicPr>
              <p:cNvPr id="274" name="Oval 23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34640" y="2633760"/>
                <a:ext cx="141444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085200" y="2764080"/>
                <a:ext cx="91620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Organizational structures &amp; arrange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Oval 59"/>
            <p:cNvGrpSpPr/>
            <p:nvPr/>
          </p:nvGrpSpPr>
          <p:grpSpPr>
            <a:xfrm>
              <a:off x="3749040" y="2176560"/>
              <a:ext cx="1341000" cy="981360"/>
              <a:chOff x="3749040" y="2176560"/>
              <a:chExt cx="1341000" cy="981360"/>
            </a:xfrm>
          </p:grpSpPr>
          <p:pic>
            <p:nvPicPr>
              <p:cNvPr id="277" name="Oval 59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49040" y="2176560"/>
                <a:ext cx="134100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89880" y="2338200"/>
                <a:ext cx="868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Financial mechanisms for adoption &amp; sustainabil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8"/>
            <p:cNvSpPr/>
            <p:nvPr/>
          </p:nvSpPr>
          <p:spPr>
            <a:xfrm>
              <a:off x="3127320" y="3429360"/>
              <a:ext cx="182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Promoting champ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Building on promising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aising profile of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emoval of barr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quality assurance ad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cognized experts from developed, newly emerging, and developing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Ongoing advice and comments to the replenish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Formed by staff from the GEF Agencies independent evaluation o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o provide peer reviews of sub-studies and other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ill provide time to allow for meaningful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AA3-4C1B-416B-A71C-853E6B1ACEF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port: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 meta-evaluation approach, drawing on existing GEF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report: end of 2013 or early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al report will be tackled trough separate evalu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2F0D-058D-4235-AE7F-56C843FF9C9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212840" y="42840"/>
            <a:ext cx="7937640" cy="1127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219320" y="121932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ce of GEF to conventions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n outcomes and sustainability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f progress toward impact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catalytic role of GEF (foundation, demonstration and/or investment projec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GEF longer term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performance issues such as cofunding, management costs, quality at entry and super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the implementation and achievements of the focal areas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86AA-D242-4271-BC32-E1FF02D8B51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1212840" y="128520"/>
            <a:ext cx="7937640" cy="1176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the relevance of GEF -- will include the emergence of new fina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in-depth look at focal area strategies and at the existing impact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 of the GEF, donor performance and resources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the private sector and civil soci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utting policies: gender, participation, safegurads, and knowledge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the SGP evaluation (since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F167-670A-483C-9220-714EE1B686C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&amp;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and responsible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fth Overall Performance Study (OPS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of the Overall Performanc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streams &amp; OPS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of OPS5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Knowledge Sharing and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Questions &amp; 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80C4-2B15-40A2-BD4E-66A20C37565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S5 audience incl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plenishment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hrough the Assembly the members of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will be shared with other GEF pa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GO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Project proponents and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EE0-E9D9-4BB3-89D6-30A08DAA0BF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KM in the G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F338-B81A-49B9-9F74-9B70A659681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21896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+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tools for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79C4-D342-4F98-BBD0-E47EBB906BB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44A-0295-4186-96B8-F1AE589606E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2CD6-92F8-4F96-85DB-93DAEF56AEA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9C70-2CDF-4562-878B-8F68742A911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especially monitoring,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right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E3A-0A9E-431A-B976-CDC6642CC2E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8782-9D24-4798-BEC3-5D4AB7F29E3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294920"/>
            <a:ext cx="68580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log frames should align with GEF Focal Area result frameworks contained in the GEF-5 R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SPs and MSPs will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s should be sent to the GEF EO within 12 months of project com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822-65A7-443B-A73A-A5FB81F64CA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-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F995-9229-45FC-92ED-831A0460103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the first point of entry into a coun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DEE7-8F44-4C02-80EF-AA5EDED60A3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152360" y="268200"/>
            <a:ext cx="8052120" cy="804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 (should be identified as a priority in the NCSA capacity develop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 plan should 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ulated as a Medium-Siz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tegrated into a broader proposal that would be formulated as MSP or FSP (if MSP it should have 1:1 cofun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6043-F8C4-4169-96E2-10DEDA747F8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6-06T14:57:19Z</dcterms:modified>
  <cp:revision>352</cp:revision>
  <dc:subject/>
  <dc:title>Slide 1</dc:title>
</cp:coreProperties>
</file>