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EEFE81D-BAA5-4D09-BA21-D1EAF1D24081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A10C2AC-9B89-4337-8666-4B3D5B239425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6F1DE2F-7B05-450C-8AA2-19C641ADA351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9F3273E-23C9-4B98-B1DA-4F6D88A76F8B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09040D6-5B09-4FD0-8C97-182E2013CB88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3132E99-148E-47CC-9FB8-81591F973E7B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EF7E-7075-4E97-8E1B-8844A36ED6CA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5230788-4161-40EE-9EBA-E9CF597AACA7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6B81-B74B-4CA2-9A49-440428ADFFC0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F5C7CC0-6F07-4DBF-A8CD-AA655E22F9E3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5CA2-E2B1-4645-B94F-ABED0D32C60C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E323178-7632-4D15-A3CF-AF7C6C40DFAD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1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F4FA-1404-4C39-BA66-B08CFBB1D3A5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0C5C949-38C1-45F2-BB51-4CC7149EA216}" type="slidenum">
              <a:rPr b="0" lang="ar-SA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 rtl="1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ar-SA" sz="1300" spc="-1" strike="noStrike">
                <a:solidFill>
                  <a:srgbClr val="e4dcc4"/>
                </a:solidFill>
                <a:latin typeface="Arial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093-99D3-4CB7-A42A-AC8DD7A2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75A-4BCC-4138-A93F-1A48DDF8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10D-DFDF-4230-B561-282D64E0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54B-C1DB-4231-BCDA-77798D92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EA1-7A83-43E0-8456-5A2C91FF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861D-C234-4B9D-80D8-D81C8D39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12FD-3288-4B4F-A44D-41A7752F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8E51-8BC4-414F-AFE8-017FDD18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0827-F9E5-43A7-A791-29E4C6AE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90F0-799B-4687-AE1A-A76CDF56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BBC-82C9-45A4-96CC-A5054AD4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8B64-0760-42CB-ACF0-0168C759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F7E5-80C3-4AFF-B036-33C9CC05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A405-EA1A-427F-A7F7-D42315AF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687E-AE37-42A5-9438-16AC74A8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5613-86C6-4BF2-9075-0BEB098A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A506-C940-4279-8A20-02D04848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9D97-BE15-4A0D-BAB7-2019844C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EB57E-1517-4E8D-BAB2-3C259C45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37BA-2DAA-4378-BDD8-630ACF88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2809-8CF4-49DD-965B-53A035E8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224-A212-4E26-9528-65217C9C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3B81-0A86-47C8-B2C2-B7A5EE26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8715E-B76A-4BF1-B623-B1A69B56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9979-666E-47BC-9533-BFBD1120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D70B-051F-4A45-BECE-6C38EBAA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75FD-BC4B-4887-8378-A3359B5F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7CBB-8F5C-4CE8-A967-3FB86D0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FF92-B286-459C-9163-B9E0FF9E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F7514-AFE4-4921-96FA-501BCE88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15DDF-2933-404F-B057-AEBBED25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939-C02E-484D-8145-D64C5EEF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FDC-3F73-4075-AC2F-430D94A3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E294-52C7-4347-A5C8-49D0FA42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15CB7-53E7-49DE-8C2F-B2868B90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7417-9027-464A-9835-670C7ACB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530F1-312C-4D5D-98E3-281B6199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A8172-3C6A-4395-B31B-538F9B2E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8868-20EE-45A7-8A88-36253DCD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5D819-1BC4-431E-9BA9-9FBC26E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0BA5D-617D-4C0D-83B2-25253FE9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25FCA-7EB7-443B-A767-E6AF834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348-0EC1-4493-9547-E56DCB95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2C78C-0F51-4921-952D-699C37FA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440A-51A6-4B4B-920A-3AA2C4A4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E12F-6D6E-4521-9BAE-26928E66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65E-F5E8-4C50-9E06-8263F6E7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80A-2C1A-44DE-A1A2-340E03BD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E1CD-8806-4832-9D48-2100B8EF908F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4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83" name="Picture 11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6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C6CC-07BB-471E-9C0E-EF9065B217F8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4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27" name="Picture 11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6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8256-1000-4604-AA2E-76A9DE61F045}" type="slidenum">
              <a:rPr b="0" lang="ar-SA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9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71" name="Picture 3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1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grpSp>
        <p:nvGrpSpPr>
          <p:cNvPr id="210" name="Group 2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211" name="Picture 3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6BAE-EBA5-4051-A5FE-EFA6930FC3DB}" type="slidenum">
              <a:rPr b="0" lang="ar-SA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971280" y="1700280"/>
            <a:ext cx="7499160" cy="12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 rtl="1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 algn="ctr" rtl="1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0" name="Subtitle 4"/>
          <p:cNvSpPr/>
          <p:nvPr/>
        </p:nvSpPr>
        <p:spPr>
          <a:xfrm>
            <a:off x="1258920" y="3429000"/>
            <a:ext cx="67057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42d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ar-LB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30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3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للحصول على المزيد من المعلومات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Times New Roman"/>
              </a:rPr>
              <a:t>يرجى الاتصال بسكرتارية صندوق البيئة العالمية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10920" y="1125360"/>
            <a:ext cx="8210520" cy="61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يح برنامج المساندة القطرية مساندة مرنة للبلدان ( لا سيما نقاط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ea typeface="Arial"/>
              </a:rPr>
              <a:t>/مسؤول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) حتى يتسنى لها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Arial"/>
              </a:rPr>
              <a:t> تعزيز قدرته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على العمل مع صندوق البيئة العالمية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ُدار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Arial"/>
              </a:rPr>
              <a:t> من خلال سكرتارية الصندوق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كونات البرنامج: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دريب على صياغة حافظة المشروعات والبرامج الوطنية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PFE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حوار يشترك فيه أصاب مصلحة متعددون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حلقة عمل موسعة على مستوى البلدان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جتماعات على مستوى البلدان الأعضاء (مساندة من أعضاء مجلس الصندوق)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ساندة مباشرة لنقاط (مسؤولي) الاتصال المعنيين بالعمليات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إدارة المعارف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ندوات إعداد وتهيئة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 </a:t>
            </a:r>
            <a:br>
              <a:rPr sz="3200"/>
            </a:br>
            <a:r>
              <a:rPr b="1" lang="ar-SA" sz="3200" spc="-1" strike="noStrike">
                <a:solidFill>
                  <a:srgbClr val="00642d"/>
                </a:solidFill>
                <a:latin typeface="Calibri"/>
                <a:cs typeface="Arial"/>
              </a:rPr>
              <a:t>القضايا العامة</a:t>
            </a:r>
            <a:endParaRPr b="1" lang="en-US" sz="32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/</a:t>
            </a:r>
            <a:br>
              <a:rPr sz="2800"/>
            </a:b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التدريب على صياغة حافظة المشروعات والبرامج الوطنية (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1</a:t>
            </a:r>
            <a:r>
              <a:rPr b="1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ى مدى تاريخ الصندوق، تقوم هيئات الصندوق، على نحو تقليدي، بأعمال وساطة بشأن البرامج القطر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5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لزيادة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تعزيز الانخراط الإستراتيجي للصندوق على المستوى القطر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يستطيع كل البلد الآن، بمساندة مالية من الصندوق،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إعداد تدريب وطني لصياغة حافظة المشروعات والبرامج الخاصة به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6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يمثل التدريب على صياغة حافظة المشروعات مطلباً أساسياً لتمويل مشروعات الصندوق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تغطية جميع مجالات التركيز المعني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توصيف كيفية برمجة مخصصات الصندوق مع المشروعات/البرامج التي تعكس أولويات وطنية/إقليمية لتحقيق منافع للبيئة العالم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562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برنامج المساندة القطرية/</a:t>
            </a:r>
            <a:br>
              <a:rPr sz="2700"/>
            </a:b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التدريب على صياغة حافظة المشروعات والبرامج الوطنية (</a:t>
            </a: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2</a:t>
            </a:r>
            <a:r>
              <a:rPr b="1" lang="ar-SA" sz="27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7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عين أن يتم إعداد هذا التدريب على نحو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تشاوري وتشاركي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نسيق من نقاط الاتصال المعنية بالعمليات لدى الصندوق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ختار البلد المعني هيئة وطنية تتسم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بالخبرة والكفاءة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قيام بهذا التدريب.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منح البلدان التي تقرر إجراء هذه التدريبات (التمرينات)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حتى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30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ألف دولار</a:t>
            </a:r>
            <a:r>
              <a:rPr b="0" lang="ar-SA" sz="2200" spc="-1" strike="noStrike">
                <a:solidFill>
                  <a:srgbClr val="bf3611"/>
                </a:solidFill>
                <a:latin typeface="Calibri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لموازنة المالية لبرامج المؤسسات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 تبادل الوثائق النهائية مع الاتفاقيات المعنية من أجل </a:t>
            </a:r>
            <a:r>
              <a:rPr b="0" lang="ar-SA" sz="22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إفصاح عنها للجماهير، كما يتم نشرها على موقع الويب الخاص بصندوق</a:t>
            </a:r>
            <a:r>
              <a:rPr b="0" lang="ar-EG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بيئة العالمية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 التنفيذ من خلال طريقة</a:t>
            </a:r>
            <a:r>
              <a:rPr b="0" lang="ar-SA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حصول المباشر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التمويل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4920" y="1197000"/>
            <a:ext cx="8318520" cy="557316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في إطار حوار مع سكرتارية الصندوق، يقوم البلد المعني بإعداد مقترح (يتضمن موازنة مالية). 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lvl="2" marL="1295280" indent="-380880" algn="r" rtl="1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Calibri"/>
                <a:cs typeface="Arial"/>
              </a:rPr>
              <a:t>يجب على الهيئة الوطنية المختارة أن تقوم ب</a:t>
            </a:r>
            <a:r>
              <a:rPr b="0" lang="ar-EG" sz="2000" spc="-1" strike="noStrike">
                <a:solidFill>
                  <a:srgbClr val="c00000"/>
                </a:solidFill>
                <a:latin typeface="Calibri"/>
                <a:cs typeface="Arial"/>
              </a:rPr>
              <a:t>استيفاء</a:t>
            </a:r>
            <a:r>
              <a:rPr b="0" lang="ar-SA" sz="2000" spc="-1" strike="noStrike">
                <a:solidFill>
                  <a:srgbClr val="c00000"/>
                </a:solidFill>
                <a:latin typeface="Calibri"/>
                <a:ea typeface="Arial"/>
              </a:rPr>
              <a:t> تقرير مبسط لتقييم الإدارة المالية. 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عتمد سكرتارية الصندوق المقترح ويوافق عليه رئيس الصندوق.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يوقع البلد المعني ورئيس الصندوق على الوثائق القانونية.  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يقوم البلد المعني بعمل التدريب الخاص بصياغة حافظة المشروعات والبرامج.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بمجرد استكمال هذا التدريب، يُرفع لسكرتارية الصندوق تقرير عن الانتهاء من هذا النشاط</a:t>
            </a:r>
            <a:endParaRPr b="0" lang="en-US" sz="2700" spc="-1" strike="noStrike">
              <a:solidFill>
                <a:srgbClr val="00446a"/>
              </a:solidFill>
              <a:latin typeface="Arial"/>
            </a:endParaRPr>
          </a:p>
          <a:p>
            <a:pPr lvl="2" marL="1295280" indent="-380880" algn="r" rtl="1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alibri"/>
                <a:cs typeface="Arial"/>
              </a:rPr>
              <a:t>يتضمن شروط صرف الأموال وتقرير مراقب الحسابات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/</a:t>
            </a:r>
            <a:br>
              <a:rPr sz="2400"/>
            </a:br>
            <a:r>
              <a:rPr b="1" lang="ar-SA" sz="2400" spc="-1" strike="noStrike">
                <a:solidFill>
                  <a:srgbClr val="00642d"/>
                </a:solidFill>
                <a:latin typeface="Calibri"/>
                <a:cs typeface="Arial"/>
              </a:rPr>
              <a:t>التدريب على صياغة حافظة المشروعات والبرامج الوطنية ــ عملية التنفيذ (</a:t>
            </a:r>
            <a:r>
              <a:rPr b="1" lang="ar-SA" sz="2400" spc="-1" strike="noStrike">
                <a:solidFill>
                  <a:srgbClr val="00642d"/>
                </a:solidFill>
                <a:latin typeface="Calibri"/>
                <a:ea typeface="Arial"/>
              </a:rPr>
              <a:t>3</a:t>
            </a:r>
            <a:r>
              <a:rPr b="1" lang="ar-EG" sz="24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42d"/>
                </a:solidFill>
                <a:latin typeface="Calibri"/>
              </a:rPr>
              <a:t>برنامج المساندة القطرية/</a:t>
            </a:r>
            <a:br>
              <a:rPr sz="3200"/>
            </a:br>
            <a:r>
              <a:rPr b="1" lang="ar-SA" sz="3200" spc="-1" strike="noStrike">
                <a:solidFill>
                  <a:srgbClr val="00642d"/>
                </a:solidFill>
                <a:latin typeface="Calibri"/>
              </a:rPr>
              <a:t>حوار بين مختلف الأطراف المعنية</a:t>
            </a:r>
            <a:endParaRPr b="1" lang="en-US" sz="32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360" y="1557000"/>
            <a:ext cx="8424720" cy="360036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َبع هذا الحوار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إرشادات مبادرة الحوار الوطني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مثل الغرض من هذا الحوار في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cs typeface="Arial"/>
              </a:rPr>
              <a:t>تقديم مساندة مرنة</a:t>
            </a:r>
            <a:r>
              <a:rPr b="0" lang="ar-EG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عقد اجتماعات وطنية بهدف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تبادل وإثراء</a:t>
            </a:r>
            <a:r>
              <a:rPr b="0" lang="ar-EG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علومات والخبرات والتجارب الخاصة بمختلف الأطراف المشاركة في أنشطة التنمية المستدامة وإثرائها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المتوقع أن يؤدي ذلك إلى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تعزيز التنسيق بين المانحين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وتوضيح السياسات والإجراء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marL="288000" indent="-288000" algn="r" rtl="1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ستُعقد  هذه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اجتماعات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Arial"/>
              </a:rPr>
              <a:t> بناءً على طلب نقطة الاتصال المعنية بالعملي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4872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/حلقة عمل موسعة على مستوى البلدان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052280"/>
            <a:ext cx="8532720" cy="531180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ُعقد هذه الحلقة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مرة كل سنة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لتقديم معلومات عن إستراتيجيات وسياسات وإجراءات الصندوق، وكذلك لتشجيع التنسيق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دعو هذه الحلقة، بالإضافة إلى نقاط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ea typeface="Arial"/>
              </a:rPr>
              <a:t> (مسؤولي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 التابعة للصندوق، نقاط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ea typeface="Arial"/>
              </a:rPr>
              <a:t> (مسؤولي)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تصال التابعين للاتفاقيات والمجتمع المدني،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حتى 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6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مشاركين لكل بلد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0000"/>
                </a:solidFill>
                <a:latin typeface="Calibri"/>
                <a:ea typeface="Arial"/>
              </a:rPr>
              <a:t> تنظم هذه الحلقة سكرتارية الصندوق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.  </a:t>
            </a:r>
            <a:r>
              <a:rPr b="0" lang="ar-EG" sz="3000" spc="-1" strike="noStrike">
                <a:solidFill>
                  <a:srgbClr val="000000"/>
                </a:solidFill>
                <a:latin typeface="Calibri"/>
                <a:cs typeface="Arial"/>
              </a:rPr>
              <a:t>وي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تم إعداد جدول الأعمال حسب احتياجات المشاركين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إذا سمح عدد البلدان/المشاركين، </a:t>
            </a:r>
            <a:r>
              <a:rPr b="0" lang="ar-SA" sz="3000" spc="-1" strike="noStrike">
                <a:solidFill>
                  <a:srgbClr val="c00000"/>
                </a:solidFill>
                <a:latin typeface="Calibri"/>
                <a:cs typeface="Arial"/>
              </a:rPr>
              <a:t>يمكن عقد أكثر من حلقة في نفس الوقت.</a:t>
            </a:r>
            <a:endParaRPr b="0" lang="en-US" sz="30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 (اجتماعات البلدان الأعضاء والمساندة المباشرة لنقاط الاتصال المعنيين بالعمليات</a:t>
            </a:r>
            <a:r>
              <a:rPr b="1" lang="ar-EG" sz="31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3640" y="1341360"/>
            <a:ext cx="8553240" cy="538632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موّل سكرتارية الصندوق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اجتماعاً واحداً للبلدان الأعضاء كل سنة،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يقوم بعقد هذا الاجتماع أحد الأعضاء في مجلس الصندوق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صل العضو على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آلاف دولار كمساندة لوجستية.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يتمثل الغرض من هذا الاجتماع في مناقشة وثائق اجتماعات مجلس الصندوق والاتفاق على موقف مشترك بشأن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ضايا المثار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بلغ المساندة المباشرة لنقاط الاتصال المعنية بالعمليات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آلاف دولا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 سنة حسب خطة العمل السنوية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ثل الغرض من ذلك في القيام بأنشطة تعمل على تسهيل أعمالها كنقاط اتصال معنية بالعمليات.</a:t>
            </a:r>
            <a:endParaRPr b="0" lang="en-US" sz="28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3915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Arial"/>
              </a:rPr>
              <a:t>برنامج المساندة القطرية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Arial"/>
              </a:rPr>
              <a:t>(ندوات إدارة المعارف والإعداد والتهيئة</a:t>
            </a:r>
            <a:r>
              <a:rPr b="1" lang="ar-EG" sz="28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3640" y="1412640"/>
            <a:ext cx="8481960" cy="3887640"/>
          </a:xfrm>
          <a:prstGeom prst="rect">
            <a:avLst/>
          </a:prstGeom>
          <a:solidFill>
            <a:srgbClr val="e7e4dc"/>
          </a:solidFill>
          <a:ln w="0">
            <a:noFill/>
          </a:ln>
        </p:spPr>
        <p:txBody>
          <a:bodyPr lIns="0" rIns="0" tIns="0" bIns="0" anchor="t">
            <a:normAutofit fontScale="86000"/>
          </a:bodyPr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ارة المعارف: يعكس هذا المكون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احتياجات الآخذة في الظهور لنقاط</a:t>
            </a:r>
            <a:r>
              <a:rPr b="0" lang="ar-EG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(مسؤولي)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الاتصال التابعة للصندوق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وكذلك احتياجات المجموعات الأخرى من أصحاب المصالح المعنيين، لا سيما نقاط الاتصال التابعة للاتفاقيات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ضمن هذا المكون أيضاً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معلومات عن صناديق التكيف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ي يديرها صندوق البيئة العالمية (صندوق أقل البلدان نمواً، والصندوق الخاص بتغير المناخ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786240" indent="-196560" algn="r" rtl="1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ُعقد ندوات الصندوق الخاصة بالإعداد والتهيئة مرة كل سنة في واشنطن العاصمة لتدريب عدد من نقاط الاتصال القطرية (الجديدة) وموظفي هيئات الصندوق على إستراتيجيات وسياسات وإجراءات الصندوق.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Lisa</cp:lastModifiedBy>
  <dcterms:modified xsi:type="dcterms:W3CDTF">2012-04-23T00:01:22Z</dcterms:modified>
  <cp:revision>500</cp:revision>
  <dc:subject/>
  <dc:title>PowerPoint Presentation</dc:title>
</cp:coreProperties>
</file>