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F6FCD49-C370-4170-B0A2-BF7BC4499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C94D40E-B8D9-4C67-B83A-EE146CD1D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2244FAB-1FBC-4CA0-A5BA-B98C65173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B32B399-A966-4E3A-BD5A-FD5269CCE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3C8C948-7850-418B-AF0B-01EF5CCF8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4802938-ECCF-4854-99CB-F5E879D5A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0FE2-19F2-43E8-9B0C-E55E6C748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D96EA1C-7FFC-483E-8DAD-7C5A97A78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5240-2BD1-4393-9C18-CF94068B0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1C5F41E-A58C-4FDB-899C-4E772E3CC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3A61-DCD3-485A-9802-774A85FF4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D315966-3D8F-44F8-8A6A-31860F200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A0F1-F867-4272-8B98-896C4FBF3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6068F14-0EEE-47E7-8F23-5CA3D76CB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EF9-EA42-4E0D-BBA5-E1C88D0D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40F-51E2-4D77-8F27-CBC15F67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6BD-F2B9-4FED-9DF8-1095C8EC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463-90C2-4D24-963C-F876DA35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A7D6-2FCC-4DA6-B53F-5C7E1A81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366C-95AD-494D-ACE1-36F675E1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6DB7-7869-4370-A4B7-4FEB3E37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0237-5647-4719-B299-A0527B56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3C91-ABE8-4C9B-ADA1-1E5BD52B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B0CF-1932-4E2B-A432-B24047D3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4EE2-D51C-4919-B8AB-BA96C265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E9D-5CD5-453E-A6C1-45D8AFEA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E8F2-8C38-4C7E-BA73-F55256CC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4F20-062F-469D-91DB-9D264521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96F0-E120-4AAD-80E7-135EC673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FE8F-5748-44A9-9A20-A5E53710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1313-F7EA-446B-87F6-452EBF27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ED7BF-B699-49B5-85ED-BED0C0D2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048F-8A62-4C99-AFDB-6C7082C3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4B4F7-9113-436B-BCC1-77CE1D10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6A8D-5BAD-435D-829C-9BA52A0A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71277-5CD3-4AB6-89F2-A21EDE63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82F-A1DC-4E28-978D-D489BABF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88BF-18D3-4439-B3ED-3A71BA73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5623-05EE-48ED-8312-15165972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6AFE-6BA2-407C-8967-0A66F4BF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F140F-C4BF-4185-BA23-CCB6F475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79F4E-6898-42D5-A4AB-FB71D06E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C2E09-BB92-4B92-9691-F2974BD9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93296-EFC0-4B80-97D8-DC53AABA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E5C0B-59B3-4698-98D6-FF3132DA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EEF2D-7D2D-4BEB-940F-F4F97E8E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3F86C-AF20-4C6A-B718-87A168FF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0C9-A1E2-4D36-990E-79FE7227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7FF0D-CC8A-4441-8D79-6CEA6730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F6AD8-0014-4FB2-B799-7C47F310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7C46D-802C-46BB-A729-7CE327D0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99990-03D3-471C-B9D6-46BBCF95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E8D6-30B2-4DA6-A046-BD89B4B4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3A1EA-FAFA-45B1-8544-42CCDD4F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D97E6-4F31-47FC-97FE-80CF8257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B03E5-7617-47EC-830C-06741C35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3A25-3E03-48A1-BCAA-5BAF933B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6F6A1-F2AB-49B7-BE75-6C513729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D7E-BCF7-420D-A001-B20E3E36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D9430-F62B-4238-AB78-5C241E7E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D221B-E541-428F-B732-BA82432A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2B262-05DE-43F1-90DE-7CFA085A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16C0E-1E12-4428-9A6E-89D0F3DF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16C90-54F6-4AB6-9D4D-02E58215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1C5CE-EA75-4743-AEB6-C99B3799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353C8-E8C2-4AA0-A716-83A43ADC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2C2DC-8CC9-4F3C-A396-E01776D3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876C9-203C-4E9D-A3BD-6BA732F5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43532-62F5-44E8-A91A-B91F10BB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82B-FAD0-49E9-8F13-13D46C44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F998F-F118-4281-AAFA-46AF2801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835-8603-443D-AC89-BBEFB5A9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091-BA20-4A8D-ABD3-E28F4504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3D9-72BB-4643-BD8C-21F317B1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4AAF-0441-4187-A308-CBD6541F71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9C2A-C189-4D12-A3F5-EDC7283E70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8644-0434-44AA-A76D-003968FBB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13E2-6476-41BA-B14F-5D9FAE9AFF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174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D157-2787-4123-BC83-D379216EA6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42d"/>
                </a:solidFill>
                <a:latin typeface="Calibri"/>
              </a:rPr>
              <a:t>Country Support Programme (CSP)</a:t>
            </a:r>
            <a:br>
              <a:rPr sz="1900"/>
            </a:b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187280" y="429264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For 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contact the GEF 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 Progamme </a:t>
            </a:r>
            <a:br>
              <a:rPr sz="3100"/>
            </a:br>
            <a:r>
              <a:rPr b="0" lang="en-US" sz="3100" spc="-1" strike="noStrike">
                <a:solidFill>
                  <a:srgbClr val="00642d"/>
                </a:solidFill>
                <a:latin typeface="Calibri"/>
              </a:rPr>
              <a:t>General Issu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1840" y="1196640"/>
            <a:ext cx="8821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P provides flexible support to countries (particularly the focal points) so that they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 their capac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work with the 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d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by the GEF Secretari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SP components a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ational Portfolio Formulation Exercise (NPFE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lti-stakeholder Dialog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panded Constituency-level Workshops (ECW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ituency Meetings (Council Member support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rect support to operational focal poi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amiliarization Semina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800"/>
            </a:b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roughout the GEF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history, country programming has been traditionally mediated by the GEF Ag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rthe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trengthen GEF</a:t>
            </a:r>
            <a:r>
              <a:rPr b="0" lang="ja-JP" sz="2200" spc="-1" strike="noStrike">
                <a:solidFill>
                  <a:srgbClr val="c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 strategic engagement at country-leve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ach country can now prepare, with GEF financial support, a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ational Portfolio Formulation 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PFE is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not a prerequisite for GEF project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Covers all relevant focal are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nd describes how GEF allocations will be programmed with projects/programs that reflect national/regional priorities to benefit the global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53416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500"/>
            </a:br>
            <a:r>
              <a:rPr b="0" lang="en-US" sz="2500" spc="-1" strike="noStrike">
                <a:solidFill>
                  <a:srgbClr val="00642d"/>
                </a:solidFill>
                <a:latin typeface="Calibri"/>
              </a:rPr>
              <a:t>National Portfolio Formulation Exercise (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Preparation of NPFE should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consultative and participato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nd coordinated by GEF Operational Focal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e country shall select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experienced and compet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ational entity to conduct the exerci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fcd5b5">
              <a:alpha val="50000"/>
            </a:srgbClr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ountries that decide to conduct portfolio exercises will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granted up to $30,000 USD</a:t>
            </a:r>
            <a:r>
              <a:rPr b="0" lang="en-US" sz="2200" spc="-1" strike="noStrike">
                <a:solidFill>
                  <a:srgbClr val="bf3611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rom the corporate programs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inal documents will be shared with respective conventions fo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public disclosure and on the GEF Web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376092">
              <a:alpha val="50000"/>
            </a:srgbClr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mplemented throug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direct ac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mod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500"/>
            </a:br>
            <a:r>
              <a:rPr b="0" lang="en-US" sz="2300" spc="-1" strike="noStrike">
                <a:solidFill>
                  <a:srgbClr val="00642d"/>
                </a:solidFill>
                <a:latin typeface="Calibri"/>
              </a:rPr>
              <a:t>National Portfolio Formulation Exercise  - Implementation process (3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341360"/>
            <a:ext cx="9144000" cy="4246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dialogue with GEF Secretariat the country prepares the proposal (including the budget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he selected national entity must fill out Simplified Financial Management Assessment Repor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Secretariat clears the proposal and the CEO approves 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documents are signed between the country and the GEF CE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undertakes the national portfolio formulation exerc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63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ce the national portfolio formulation exercise has been completed, an activity finalization report is submitted to the Secretaria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Including financial disbursement requirements and audit 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500"/>
            </a:br>
            <a:r>
              <a:rPr b="0" lang="en-US" sz="2500" spc="-1" strike="noStrike">
                <a:solidFill>
                  <a:srgbClr val="00642d"/>
                </a:solidFill>
                <a:latin typeface="Calibri"/>
              </a:rPr>
              <a:t>Dialogue among multiple interested par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5280" y="1197000"/>
            <a:ext cx="8424720" cy="4146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alogue follows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uidelines for the National Dialogue Initi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 is to provid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lexible suppo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vening national meetings, aim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 share and enrich th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xperiences of the various parties involved in sustainable development activ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to result in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ing of donor coord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clarification of policies and procedu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ill b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t the request of the operational focal poi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3100"/>
            </a:br>
            <a:r>
              <a:rPr b="0" lang="en-US" sz="3100" spc="-1" strike="noStrike">
                <a:solidFill>
                  <a:srgbClr val="00642d"/>
                </a:solidFill>
                <a:latin typeface="Calibri"/>
              </a:rPr>
              <a:t>Expanded Constituency Workshops (ECW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9280" y="1557000"/>
            <a:ext cx="8856720" cy="38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3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CWs are held </a:t>
            </a: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once a year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 order to provide information on the strategies, policies, and procedures of the GEF and to encourage coordinatio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CWs invite, in addition to the GEF focal points, the convention focal points and civil society, </a:t>
            </a: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up to 6 participants per country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Organized by the GEF Secretariat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.  The agenda is prepared to reflect participants</a:t>
            </a:r>
            <a:r>
              <a:rPr b="0" lang="ja-JP" sz="23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need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When the number of countries/participants so permits, </a:t>
            </a:r>
            <a:r>
              <a:rPr b="0" lang="en-US" sz="2300" spc="-1" strike="noStrike">
                <a:solidFill>
                  <a:srgbClr val="c00000"/>
                </a:solidFill>
                <a:latin typeface="Calibri"/>
              </a:rPr>
              <a:t>more than one constituency may meet at the same time 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8920" y="201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</a:t>
            </a:r>
            <a:br>
              <a:rPr sz="2800"/>
            </a:b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(Constituency Meetings and Direct Support for Operational Focal Poi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1412640"/>
            <a:ext cx="8553240" cy="4211640"/>
          </a:xfrm>
          <a:prstGeom prst="rect">
            <a:avLst/>
          </a:prstGeom>
          <a:solidFill>
            <a:srgbClr val="f8f7f3"/>
          </a:solidFill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ariat financ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e Constituency meeting a yea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ned by the Council Me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ncil member receiv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3,000 for logistic suppor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urpose of the meeting is to discuss Council meeting documents and agree on a joint position on issu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Support for Operational Focal Points i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9,0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year, based on the Annual Work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conduct activities that facilitate their work as Operational Focal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2800"/>
            </a:br>
            <a:r>
              <a:rPr b="0" lang="en-US" sz="2800" spc="-1" strike="noStrike">
                <a:solidFill>
                  <a:srgbClr val="00642d"/>
                </a:solidFill>
                <a:latin typeface="Calibri"/>
              </a:rPr>
              <a:t>(Knowledge Management and Familiarization Seminars</a:t>
            </a:r>
            <a:r>
              <a:rPr b="0" lang="es-ES_tradnl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23640" y="1341360"/>
            <a:ext cx="8481960" cy="4089600"/>
          </a:xfrm>
          <a:prstGeom prst="rect">
            <a:avLst/>
          </a:prstGeom>
          <a:solidFill>
            <a:srgbClr val="f8f7f3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Management: This component will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reflect the evolving needs of GEF focal poi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s well as the needs of other relevant stakeholder groups, in particular convention focal poi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component will also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include information on the adaptation fund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dministered by the GEF (Least Developed Countries Fund and  Special Climate Change Fund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F familiarization seminars will be held once a year in Washington, D.C. to train a number of (new) country focal points and GEF Agency staff on GEF strategies, policies and procedu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Lisa</cp:lastModifiedBy>
  <dcterms:modified xsi:type="dcterms:W3CDTF">2012-04-22T23:38:39Z</dcterms:modified>
  <cp:revision>494</cp:revision>
  <dc:subject/>
  <dc:title>PowerPoint Presentation</dc:title>
</cp:coreProperties>
</file>