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DDB5EB4-DEDE-4CFB-B32F-CF1579ECF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9B354D-7497-4566-BD62-37208A0A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9B6E751-9E06-4F2D-B446-716796E4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383C952-7E82-47F7-ADB5-38F71B9D3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0300949-880D-4A5E-BFB7-24AF074F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FFD2378-B864-44BE-92A0-790FDFE60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472-1607-4C43-A73D-FEAB9D7A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EFC872B-783C-403D-937B-5808F9559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D79-84B4-4FED-ABA9-95CEACED9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565E0F6-7C39-4CE6-854E-E53915D42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BAF-D640-4AA0-A36E-1CB0DA65F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421AD8-4EC2-47E7-9015-EACA81FD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856-B53C-46A6-B61B-1E828C9B7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EDAFF6-9C58-443A-80AA-D9A6D1C7E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E1A-3D93-489C-812D-1B03338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639-6A9E-4AA8-A1F2-30D4F3A3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077-CCE3-45E9-8F1F-ACC68EA8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2B0-8AF5-4893-8574-E8B6B2A7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8EF-457D-412E-AF22-4BB1B752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E3F9-9186-42A9-9E26-F1EAC88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022-2C98-4A07-9E21-BB7C736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E2E9-86FE-4283-8653-921567D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DFD5-709F-4497-8AA3-D868217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DA9D-1A9C-4139-8D9B-BA2C3462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DF54-EFED-478A-A737-16FBB00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480-D997-45D2-B382-4186E6C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85BE-2242-43BC-ACCA-89BE745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15F-066D-4749-975B-8F14BB0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670-5003-4D91-A797-781000D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C4F-4FFC-4FB0-B654-F02610C8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C59-3385-4A14-9892-48292617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41FD-CFF7-49D1-B0A4-AF8C7424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416B-1AD0-404A-AF29-9B177433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D922-E4CC-4729-8507-4ECB774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70F7-50FD-423C-89DC-2C594072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5AFF-A0F3-4C80-8147-4EF5728E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179-E3B9-470F-85B5-A0BAB76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126A-7A51-4E4B-8C6D-1D46BD9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78A9-3FC8-4164-B1DA-65C39FE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C722-471D-45D8-B1BF-E736B28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AD73-7F04-4AFB-92D3-323D504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FFEC-945E-473C-8AD4-C6A88FC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79C9-6D0D-4BB7-AF4E-A89D0BEC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B29E-DF89-43BA-BDD2-77E3D662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575D-90AF-4593-B61F-D5E50F65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3CE3-4A3D-4537-B1A4-31B0FAD1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FFAE-D821-4FA8-B1BB-9138254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2FA-5997-46F8-BAA8-562D58A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B670-770E-4586-AC58-C7EB238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124D-C6D1-4C50-AE7F-AE9E761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BA1E-8CDE-421B-B068-3D318B98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E5A6-FD3F-4A14-8D44-95334F6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19B0-B34C-4D40-B22C-E23366B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1219-4A8C-421A-902C-EE65F84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7F5B-D581-4B62-9AB9-CF4F5C6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5F47-08DF-4A30-85EF-97DE8391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8E0B-12C4-4428-860F-92A4A552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2121-5B42-4BC0-984A-46E75D9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CFE-55DB-496C-B42C-7F2C0B1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590F-D11C-49D7-825E-BC0ACEAB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6A4F-BC02-4813-BD89-FD10CF3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D855-10BB-41D9-B9DB-C49D13D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59B46-368A-4928-9168-2B580E3D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AAA7-82F9-470F-BE87-BEB73BB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FAD2A-2B8E-4781-86D7-FF3CC44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7961-8275-445D-9560-0603D44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21D1-D200-4D15-B39F-1A90039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E71C-ACF1-4A5E-937A-05932A30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ED8C-7937-4B7D-9807-F07274DC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544-9D49-4113-B259-97F35BD4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8FBC-927A-4AF2-91EF-9FA7F3A8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A24-3FF6-4264-A6AD-D53EEF49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9E0-4F8B-45D2-A7AC-0F11923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418-1F9F-433A-83B2-514568C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F4F-1392-41C2-A150-0692CAF38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CDD1-FCFA-496E-9D75-47ED78E05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F1B-4C86-457F-B89D-B05926083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D265-38E3-44D2-97A8-FAE1EE8DF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101-06E4-4B3A-B6AE-EB0E439DA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19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87280" y="429264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SP component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GE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story, country programming has been traditionally mediated by the GEF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</a:t>
            </a:r>
            <a:r>
              <a:rPr b="0" lang="ja-JP" sz="22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not a prerequisite for GEF project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coordinated by GEF Operational Focal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ational entity to conduct the exerc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rom the corporate programs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public disclosure and on the GEF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mod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3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41360"/>
            <a:ext cx="9144000" cy="424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5280" y="1197000"/>
            <a:ext cx="8424720" cy="4146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Expanded Constituency Workshops (ECW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1557000"/>
            <a:ext cx="885672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3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The agenda is prepared to reflect participants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nee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201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Constituency Meetings and Direct Support for Operational Focal P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553240" cy="421164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0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341360"/>
            <a:ext cx="8481960" cy="408960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2T23:38:39Z</dcterms:modified>
  <cp:revision>494</cp:revision>
  <dc:subject/>
  <dc:title>PowerPoint Presentation</dc:title>
</cp:coreProperties>
</file>