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25BD-5F11-4A3D-99D4-0F764E89B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5759-C5D1-4EE1-A7C5-DA386C3C6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27 – 29 March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2:15Z</dcterms:modified>
  <cp:revision>77</cp:revision>
  <dc:subject/>
  <dc:title>Focal Area and Cross Cutting Strategies – Chemicals</dc:title>
</cp:coreProperties>
</file>